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991-3F26-4332-8F62-638EA74A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6A9-CA48-4545-91D8-78B6914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3E1-8B81-4806-967F-2177FEA5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4C6-F4E4-4162-ABC6-CB70718C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124-B4F2-420C-B961-5635EBD5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E6E-D2CB-4F40-B799-038CF39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C93-F854-4488-9BDA-A218707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60D-AE28-4F5E-B334-38E8152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02E-7CC9-436E-94BB-0C4CC79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35D-B6E1-497B-BECE-F89236C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74B-EEC1-436D-A38C-DADD416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513-70D3-462D-B232-C886BAE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8F6B-0EA9-4039-857D-F939DC746F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6FF4-B1C1-48E1-AA53-57B5A070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artd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0000" y="0"/>
            <a:ext cx="66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Startverfahr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Frühstartproblemati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3BD-BA8D-4321-9079-283977C12D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B0794-B55E-4677-A3EF-08B0E71031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mit P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45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47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1506600" y="3075120"/>
            <a:ext cx="1668240" cy="1560240"/>
          </a:xfrm>
          <a:custGeom>
            <a:avLst/>
            <a:gdLst/>
            <a:ahLst/>
            <a:rect l="l" t="t" r="r" b="b"/>
            <a:pathLst>
              <a:path w="1051" h="983">
                <a:moveTo>
                  <a:pt x="635" y="127"/>
                </a:moveTo>
                <a:cubicBezTo>
                  <a:pt x="597" y="107"/>
                  <a:pt x="492" y="0"/>
                  <a:pt x="405" y="9"/>
                </a:cubicBezTo>
                <a:cubicBezTo>
                  <a:pt x="318" y="18"/>
                  <a:pt x="180" y="93"/>
                  <a:pt x="115" y="181"/>
                </a:cubicBezTo>
                <a:cubicBezTo>
                  <a:pt x="50" y="269"/>
                  <a:pt x="0" y="415"/>
                  <a:pt x="15" y="536"/>
                </a:cubicBezTo>
                <a:cubicBezTo>
                  <a:pt x="30" y="657"/>
                  <a:pt x="90" y="842"/>
                  <a:pt x="205" y="909"/>
                </a:cubicBezTo>
                <a:cubicBezTo>
                  <a:pt x="320" y="976"/>
                  <a:pt x="564" y="983"/>
                  <a:pt x="705" y="936"/>
                </a:cubicBezTo>
                <a:cubicBezTo>
                  <a:pt x="846" y="889"/>
                  <a:pt x="979" y="691"/>
                  <a:pt x="1051" y="62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580920" y="2361960"/>
            <a:ext cx="76212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33720" y="2362320"/>
            <a:ext cx="6451560" cy="2292120"/>
            <a:chOff x="2133720" y="2362320"/>
            <a:chExt cx="6451560" cy="2292120"/>
          </a:xfrm>
        </p:grpSpPr>
        <p:grpSp>
          <p:nvGrpSpPr>
            <p:cNvPr id="52" name=""/>
            <p:cNvGrpSpPr/>
            <p:nvPr/>
          </p:nvGrpSpPr>
          <p:grpSpPr>
            <a:xfrm>
              <a:off x="2133720" y="2362320"/>
              <a:ext cx="5794200" cy="2292120"/>
              <a:chOff x="2133720" y="2362320"/>
              <a:chExt cx="5794200" cy="2292120"/>
            </a:xfrm>
          </p:grpSpPr>
          <p:pic>
            <p:nvPicPr>
              <p:cNvPr id="53" name="Boje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3581280"/>
                <a:ext cx="40320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" name=""/>
              <p:cNvGrpSpPr/>
              <p:nvPr/>
            </p:nvGrpSpPr>
            <p:grpSpPr>
              <a:xfrm>
                <a:off x="6422760" y="2362320"/>
                <a:ext cx="1505160" cy="2292120"/>
                <a:chOff x="6422760" y="2362320"/>
                <a:chExt cx="1505160" cy="2292120"/>
              </a:xfrm>
            </p:grpSpPr>
            <p:pic>
              <p:nvPicPr>
                <p:cNvPr id="55" name="MoboSta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34320" y="2362320"/>
                  <a:ext cx="993600" cy="22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"/>
                <p:cNvSpPr/>
                <p:nvPr/>
              </p:nvSpPr>
              <p:spPr>
                <a:xfrm rot="20552400">
                  <a:off x="6486480" y="2817360"/>
                  <a:ext cx="609480" cy="520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" name=""/>
            <p:cNvGrpSpPr/>
            <p:nvPr/>
          </p:nvGrpSpPr>
          <p:grpSpPr>
            <a:xfrm>
              <a:off x="7794000" y="2678400"/>
              <a:ext cx="791280" cy="678960"/>
              <a:chOff x="7794000" y="2678400"/>
              <a:chExt cx="791280" cy="678960"/>
            </a:xfrm>
          </p:grpSpPr>
          <p:sp>
            <p:nvSpPr>
              <p:cNvPr id="58" name=""/>
              <p:cNvSpPr/>
              <p:nvPr/>
            </p:nvSpPr>
            <p:spPr>
              <a:xfrm rot="810600">
                <a:off x="7846560" y="2751120"/>
                <a:ext cx="685800" cy="533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810600">
                <a:off x="8029800" y="2917440"/>
                <a:ext cx="311400" cy="23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5181480" y="2209680"/>
            <a:ext cx="3641400" cy="1305000"/>
            <a:chOff x="5181480" y="2209680"/>
            <a:chExt cx="3641400" cy="1305000"/>
          </a:xfrm>
        </p:grpSpPr>
        <p:sp>
          <p:nvSpPr>
            <p:cNvPr id="61" name=""/>
            <p:cNvSpPr/>
            <p:nvPr/>
          </p:nvSpPr>
          <p:spPr>
            <a:xfrm rot="639000">
              <a:off x="7777080" y="2742840"/>
              <a:ext cx="990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181480" y="2209680"/>
              <a:ext cx="1143000" cy="1219320"/>
              <a:chOff x="5181480" y="2209680"/>
              <a:chExt cx="1143000" cy="1219320"/>
            </a:xfrm>
          </p:grpSpPr>
          <p:sp>
            <p:nvSpPr>
              <p:cNvPr id="63" name=""/>
              <p:cNvSpPr/>
              <p:nvPr/>
            </p:nvSpPr>
            <p:spPr>
              <a:xfrm>
                <a:off x="5257800" y="26798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81480" y="25909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81480" y="24382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62360" y="31240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15000" y="2743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15000" y="30481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7280" y="2666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7280" y="28195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019560" y="2438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57800" y="2819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81480" y="22860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95880" y="25909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248160" y="2209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 rot="21534000">
            <a:off x="5029200" y="22860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67480" y="1066680"/>
            <a:ext cx="1295280" cy="1981080"/>
            <a:chOff x="7467480" y="1066680"/>
            <a:chExt cx="1295280" cy="1981080"/>
          </a:xfrm>
        </p:grpSpPr>
        <p:grpSp>
          <p:nvGrpSpPr>
            <p:cNvPr id="78" name=""/>
            <p:cNvGrpSpPr/>
            <p:nvPr/>
          </p:nvGrpSpPr>
          <p:grpSpPr>
            <a:xfrm>
              <a:off x="7467480" y="2438280"/>
              <a:ext cx="914400" cy="609480"/>
              <a:chOff x="7467480" y="2438280"/>
              <a:chExt cx="914400" cy="609480"/>
            </a:xfrm>
          </p:grpSpPr>
          <p:sp>
            <p:nvSpPr>
              <p:cNvPr id="79" name=""/>
              <p:cNvSpPr/>
              <p:nvPr/>
            </p:nvSpPr>
            <p:spPr>
              <a:xfrm>
                <a:off x="7467480" y="24382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67480" y="2666880"/>
                <a:ext cx="914400" cy="15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48720" y="2438280"/>
                <a:ext cx="1522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619760" y="1066680"/>
              <a:ext cx="1143000" cy="1219320"/>
              <a:chOff x="7619760" y="1066680"/>
              <a:chExt cx="1143000" cy="1219320"/>
            </a:xfrm>
          </p:grpSpPr>
          <p:sp>
            <p:nvSpPr>
              <p:cNvPr id="83" name=""/>
              <p:cNvSpPr/>
              <p:nvPr/>
            </p:nvSpPr>
            <p:spPr>
              <a:xfrm>
                <a:off x="7696080" y="15368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19760" y="14479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19760" y="12952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00640" y="19810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53280" y="1600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3280" y="19051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05560" y="1523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305560" y="16765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5784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96080" y="1676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9760" y="11430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34160" y="14479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686440" y="1066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2590920" y="2209680"/>
            <a:ext cx="4267080" cy="2610000"/>
            <a:chOff x="2590920" y="2209680"/>
            <a:chExt cx="4267080" cy="2610000"/>
          </a:xfrm>
        </p:grpSpPr>
        <p:pic>
          <p:nvPicPr>
            <p:cNvPr id="97" name="SeboAWB1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SeboAWB1" descr=""/>
            <p:cNvPicPr/>
            <p:nvPr/>
          </p:nvPicPr>
          <p:blipFill>
            <a:blip r:embed="rId4"/>
            <a:stretch/>
          </p:blipFill>
          <p:spPr>
            <a:xfrm>
              <a:off x="609588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SeboAWB1" descr=""/>
            <p:cNvPicPr/>
            <p:nvPr/>
          </p:nvPicPr>
          <p:blipFill>
            <a:blip r:embed="rId5"/>
            <a:stretch/>
          </p:blipFill>
          <p:spPr>
            <a:xfrm>
              <a:off x="5257800" y="3352680"/>
              <a:ext cx="7621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SeboAWB1" descr=""/>
            <p:cNvPicPr/>
            <p:nvPr/>
          </p:nvPicPr>
          <p:blipFill>
            <a:blip r:embed="rId6"/>
            <a:stretch/>
          </p:blipFill>
          <p:spPr>
            <a:xfrm>
              <a:off x="4572000" y="350532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SeboAWB1" descr=""/>
            <p:cNvPicPr/>
            <p:nvPr/>
          </p:nvPicPr>
          <p:blipFill>
            <a:blip r:embed="rId7"/>
            <a:stretch/>
          </p:blipFill>
          <p:spPr>
            <a:xfrm>
              <a:off x="320040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SeboAWB1" descr=""/>
            <p:cNvPicPr/>
            <p:nvPr/>
          </p:nvPicPr>
          <p:blipFill>
            <a:blip r:embed="rId8"/>
            <a:stretch/>
          </p:blipFill>
          <p:spPr>
            <a:xfrm>
              <a:off x="3962520" y="35053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SeboAWB1" descr=""/>
            <p:cNvPicPr/>
            <p:nvPr/>
          </p:nvPicPr>
          <p:blipFill>
            <a:blip r:embed="rId9"/>
            <a:stretch/>
          </p:blipFill>
          <p:spPr>
            <a:xfrm>
              <a:off x="4419720" y="2209680"/>
              <a:ext cx="761760" cy="13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129-A0C4-4669-BAD7-DD4E598F5F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FD136-B23B-4F5C-B31D-382ECA739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7280" y="5032440"/>
            <a:ext cx="1570680" cy="1089000"/>
          </a:xfrm>
          <a:prstGeom prst="wedgeRoundRectCallout">
            <a:avLst>
              <a:gd name="adj1" fmla="val -8138"/>
              <a:gd name="adj2" fmla="val -70819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D N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d not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440" y="2698920"/>
            <a:ext cx="2525760" cy="708480"/>
          </a:xfrm>
          <a:prstGeom prst="cloudCallout">
            <a:avLst>
              <a:gd name="adj1" fmla="val -4185"/>
              <a:gd name="adj2" fmla="val 10540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t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organg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33720" y="2362320"/>
            <a:ext cx="5794200" cy="2292120"/>
            <a:chOff x="2133720" y="2362320"/>
            <a:chExt cx="5794200" cy="2292120"/>
          </a:xfrm>
        </p:grpSpPr>
        <p:pic>
          <p:nvPicPr>
            <p:cNvPr id="108" name="Boje1" descr=""/>
            <p:cNvPicPr/>
            <p:nvPr/>
          </p:nvPicPr>
          <p:blipFill>
            <a:blip r:embed="rId1"/>
            <a:stretch/>
          </p:blipFill>
          <p:spPr>
            <a:xfrm>
              <a:off x="2133720" y="3581280"/>
              <a:ext cx="403200" cy="5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6422760" y="2362320"/>
              <a:ext cx="1505160" cy="2292120"/>
              <a:chOff x="6422760" y="2362320"/>
              <a:chExt cx="1505160" cy="2292120"/>
            </a:xfrm>
          </p:grpSpPr>
          <p:pic>
            <p:nvPicPr>
              <p:cNvPr id="110" name="MoboSta1" descr=""/>
              <p:cNvPicPr/>
              <p:nvPr/>
            </p:nvPicPr>
            <p:blipFill>
              <a:blip r:embed="rId2"/>
              <a:stretch/>
            </p:blipFill>
            <p:spPr>
              <a:xfrm>
                <a:off x="6934320" y="2362320"/>
                <a:ext cx="993600" cy="229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0552400">
                <a:off x="6486480" y="2817360"/>
                <a:ext cx="609480" cy="5205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113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115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1828800" y="1828800"/>
            <a:ext cx="2232000" cy="1272240"/>
          </a:xfrm>
          <a:prstGeom prst="cloudCallout">
            <a:avLst>
              <a:gd name="adj1" fmla="val 7810"/>
              <a:gd name="adj2" fmla="val 4419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133720"/>
            <a:ext cx="1981440" cy="1272240"/>
          </a:xfrm>
          <a:prstGeom prst="cloudCallout">
            <a:avLst>
              <a:gd name="adj1" fmla="val -2898"/>
              <a:gd name="adj2" fmla="val 8295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ekte 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6760" y="5029200"/>
            <a:ext cx="2237760" cy="1089000"/>
          </a:xfrm>
          <a:prstGeom prst="wedgeRoundRectCallout">
            <a:avLst>
              <a:gd name="adj1" fmla="val -12171"/>
              <a:gd name="adj2" fmla="val -153763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   C  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n the cours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2819520"/>
            <a:ext cx="6247800" cy="1999800"/>
            <a:chOff x="990720" y="2819520"/>
            <a:chExt cx="6247800" cy="1999800"/>
          </a:xfrm>
        </p:grpSpPr>
        <p:pic>
          <p:nvPicPr>
            <p:cNvPr id="121" name="SeboAWB1" descr="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76176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SeboAWB1" descr=""/>
            <p:cNvPicPr/>
            <p:nvPr/>
          </p:nvPicPr>
          <p:blipFill>
            <a:blip r:embed="rId4"/>
            <a:stretch/>
          </p:blipFill>
          <p:spPr>
            <a:xfrm>
              <a:off x="2819160" y="28195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SeboAWB1" descr=""/>
            <p:cNvPicPr/>
            <p:nvPr/>
          </p:nvPicPr>
          <p:blipFill>
            <a:blip r:embed="rId5"/>
            <a:stretch/>
          </p:blipFill>
          <p:spPr>
            <a:xfrm>
              <a:off x="518148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SeboAWB1" descr=""/>
            <p:cNvPicPr/>
            <p:nvPr/>
          </p:nvPicPr>
          <p:blipFill>
            <a:blip r:embed="rId6"/>
            <a:stretch/>
          </p:blipFill>
          <p:spPr>
            <a:xfrm>
              <a:off x="586728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SeboAWB1" descr=""/>
            <p:cNvPicPr/>
            <p:nvPr/>
          </p:nvPicPr>
          <p:blipFill>
            <a:blip r:embed="rId7"/>
            <a:stretch/>
          </p:blipFill>
          <p:spPr>
            <a:xfrm>
              <a:off x="647676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SeboAWB1" descr=""/>
            <p:cNvPicPr/>
            <p:nvPr/>
          </p:nvPicPr>
          <p:blipFill>
            <a:blip r:embed="rId8"/>
            <a:stretch/>
          </p:blipFill>
          <p:spPr>
            <a:xfrm>
              <a:off x="3886200" y="3429000"/>
              <a:ext cx="76140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SeboAWB1" descr=""/>
            <p:cNvPicPr/>
            <p:nvPr/>
          </p:nvPicPr>
          <p:blipFill>
            <a:blip r:embed="rId9"/>
            <a:stretch/>
          </p:blipFill>
          <p:spPr>
            <a:xfrm>
              <a:off x="99072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7391520" y="1295280"/>
            <a:ext cx="1295280" cy="1981080"/>
            <a:chOff x="7391520" y="1295280"/>
            <a:chExt cx="1295280" cy="1981080"/>
          </a:xfrm>
        </p:grpSpPr>
        <p:grpSp>
          <p:nvGrpSpPr>
            <p:cNvPr id="129" name=""/>
            <p:cNvGrpSpPr/>
            <p:nvPr/>
          </p:nvGrpSpPr>
          <p:grpSpPr>
            <a:xfrm>
              <a:off x="7391520" y="2666880"/>
              <a:ext cx="914400" cy="609480"/>
              <a:chOff x="7391520" y="2666880"/>
              <a:chExt cx="91440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7391520" y="26668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1520" y="2895480"/>
                <a:ext cx="914400" cy="15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760" y="2666880"/>
                <a:ext cx="1522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43800" y="1295280"/>
              <a:ext cx="1143000" cy="1219320"/>
              <a:chOff x="7543800" y="1295280"/>
              <a:chExt cx="1143000" cy="1219320"/>
            </a:xfrm>
          </p:grpSpPr>
          <p:sp>
            <p:nvSpPr>
              <p:cNvPr id="134" name=""/>
              <p:cNvSpPr/>
              <p:nvPr/>
            </p:nvSpPr>
            <p:spPr>
              <a:xfrm>
                <a:off x="7620120" y="17654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43800" y="1676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43800" y="15238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24680" y="22096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77320" y="1828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77320" y="21337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29600" y="1752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29600" y="19051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1880" y="1523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19051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13716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16765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61048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3F6-C1E3-43A3-9F12-B826898A439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8BA1B-A684-4A5E-96EB-FA7CF513928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erschärfung mit Z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33720" y="2362320"/>
            <a:ext cx="6449400" cy="2292120"/>
            <a:chOff x="2133720" y="2362320"/>
            <a:chExt cx="6449400" cy="2292120"/>
          </a:xfrm>
        </p:grpSpPr>
        <p:grpSp>
          <p:nvGrpSpPr>
            <p:cNvPr id="149" name=""/>
            <p:cNvGrpSpPr/>
            <p:nvPr/>
          </p:nvGrpSpPr>
          <p:grpSpPr>
            <a:xfrm>
              <a:off x="2133720" y="2362320"/>
              <a:ext cx="5794200" cy="2292120"/>
              <a:chOff x="2133720" y="2362320"/>
              <a:chExt cx="5794200" cy="2292120"/>
            </a:xfrm>
          </p:grpSpPr>
          <p:pic>
            <p:nvPicPr>
              <p:cNvPr id="150" name="Boje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3581280"/>
                <a:ext cx="40320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" name=""/>
              <p:cNvGrpSpPr/>
              <p:nvPr/>
            </p:nvGrpSpPr>
            <p:grpSpPr>
              <a:xfrm>
                <a:off x="6422760" y="2362320"/>
                <a:ext cx="1505160" cy="2292120"/>
                <a:chOff x="6422760" y="2362320"/>
                <a:chExt cx="1505160" cy="2292120"/>
              </a:xfrm>
            </p:grpSpPr>
            <p:pic>
              <p:nvPicPr>
                <p:cNvPr id="152" name="MoboSta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34320" y="2362320"/>
                  <a:ext cx="993600" cy="22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 rot="20552400">
                  <a:off x="6486480" y="2817360"/>
                  <a:ext cx="609480" cy="520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7723440" y="2743200"/>
              <a:ext cx="859680" cy="685800"/>
              <a:chOff x="7723440" y="2743200"/>
              <a:chExt cx="859680" cy="685800"/>
            </a:xfrm>
          </p:grpSpPr>
          <p:sp>
            <p:nvSpPr>
              <p:cNvPr id="155" name=""/>
              <p:cNvSpPr/>
              <p:nvPr/>
            </p:nvSpPr>
            <p:spPr>
              <a:xfrm rot="750000">
                <a:off x="7772040" y="2819520"/>
                <a:ext cx="76212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750000">
                <a:off x="8119800" y="2857320"/>
                <a:ext cx="41004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750000">
                <a:off x="7743960" y="3075480"/>
                <a:ext cx="762120" cy="27396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 rot="750000">
                <a:off x="7801200" y="2822040"/>
                <a:ext cx="762120" cy="26280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160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162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3581280" y="1371600"/>
            <a:ext cx="2232000" cy="1272240"/>
          </a:xfrm>
          <a:prstGeom prst="cloudCallout">
            <a:avLst>
              <a:gd name="adj1" fmla="val 7810"/>
              <a:gd name="adj2" fmla="val 4419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1480" y="1295280"/>
            <a:ext cx="2237760" cy="1089000"/>
          </a:xfrm>
          <a:prstGeom prst="wedgeRoundRectCallout">
            <a:avLst>
              <a:gd name="adj1" fmla="val 88425"/>
              <a:gd name="adj2" fmla="val 104657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 C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n the cours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514600"/>
            <a:ext cx="2286000" cy="1272240"/>
          </a:xfrm>
          <a:prstGeom prst="cloudCallout">
            <a:avLst>
              <a:gd name="adj1" fmla="val 42217"/>
              <a:gd name="adj2" fmla="val 2547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876920"/>
            <a:ext cx="4327560" cy="1286280"/>
          </a:xfrm>
          <a:prstGeom prst="wedgeRoundRectCallout">
            <a:avLst>
              <a:gd name="adj1" fmla="val -19782"/>
              <a:gd name="adj2" fmla="val -110069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inigung nutzt nur teil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rafung mit Z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06600" y="3075120"/>
            <a:ext cx="1668240" cy="1560240"/>
          </a:xfrm>
          <a:custGeom>
            <a:avLst/>
            <a:gdLst/>
            <a:ahLst/>
            <a:rect l="l" t="t" r="r" b="b"/>
            <a:pathLst>
              <a:path w="1051" h="983">
                <a:moveTo>
                  <a:pt x="635" y="127"/>
                </a:moveTo>
                <a:cubicBezTo>
                  <a:pt x="597" y="107"/>
                  <a:pt x="492" y="0"/>
                  <a:pt x="405" y="9"/>
                </a:cubicBezTo>
                <a:cubicBezTo>
                  <a:pt x="318" y="18"/>
                  <a:pt x="180" y="93"/>
                  <a:pt x="115" y="181"/>
                </a:cubicBezTo>
                <a:cubicBezTo>
                  <a:pt x="50" y="269"/>
                  <a:pt x="0" y="415"/>
                  <a:pt x="15" y="536"/>
                </a:cubicBezTo>
                <a:cubicBezTo>
                  <a:pt x="30" y="657"/>
                  <a:pt x="90" y="842"/>
                  <a:pt x="205" y="909"/>
                </a:cubicBezTo>
                <a:cubicBezTo>
                  <a:pt x="320" y="976"/>
                  <a:pt x="564" y="983"/>
                  <a:pt x="705" y="936"/>
                </a:cubicBezTo>
                <a:cubicBezTo>
                  <a:pt x="846" y="889"/>
                  <a:pt x="979" y="691"/>
                  <a:pt x="1051" y="62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580920" y="2361960"/>
            <a:ext cx="76212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90920" y="2209680"/>
            <a:ext cx="4267080" cy="2610000"/>
            <a:chOff x="2590920" y="2209680"/>
            <a:chExt cx="4267080" cy="2610000"/>
          </a:xfrm>
        </p:grpSpPr>
        <p:pic>
          <p:nvPicPr>
            <p:cNvPr id="171" name="SeboAWB1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SeboAWB1" descr=""/>
            <p:cNvPicPr/>
            <p:nvPr/>
          </p:nvPicPr>
          <p:blipFill>
            <a:blip r:embed="rId4"/>
            <a:stretch/>
          </p:blipFill>
          <p:spPr>
            <a:xfrm>
              <a:off x="609588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SeboAWB1" descr=""/>
            <p:cNvPicPr/>
            <p:nvPr/>
          </p:nvPicPr>
          <p:blipFill>
            <a:blip r:embed="rId5"/>
            <a:stretch/>
          </p:blipFill>
          <p:spPr>
            <a:xfrm>
              <a:off x="5257800" y="3352680"/>
              <a:ext cx="7621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SeboAWB1" descr=""/>
            <p:cNvPicPr/>
            <p:nvPr/>
          </p:nvPicPr>
          <p:blipFill>
            <a:blip r:embed="rId6"/>
            <a:stretch/>
          </p:blipFill>
          <p:spPr>
            <a:xfrm>
              <a:off x="4572000" y="350532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SeboAWB1" descr=""/>
            <p:cNvPicPr/>
            <p:nvPr/>
          </p:nvPicPr>
          <p:blipFill>
            <a:blip r:embed="rId7"/>
            <a:stretch/>
          </p:blipFill>
          <p:spPr>
            <a:xfrm>
              <a:off x="320040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SeboAWB1" descr=""/>
            <p:cNvPicPr/>
            <p:nvPr/>
          </p:nvPicPr>
          <p:blipFill>
            <a:blip r:embed="rId8"/>
            <a:stretch/>
          </p:blipFill>
          <p:spPr>
            <a:xfrm>
              <a:off x="3962520" y="35053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SeboAWB1" descr=""/>
            <p:cNvPicPr/>
            <p:nvPr/>
          </p:nvPicPr>
          <p:blipFill>
            <a:blip r:embed="rId9"/>
            <a:stretch/>
          </p:blipFill>
          <p:spPr>
            <a:xfrm>
              <a:off x="4419720" y="2209680"/>
              <a:ext cx="761760" cy="13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5334120" y="2209680"/>
            <a:ext cx="3412440" cy="1338480"/>
            <a:chOff x="5334120" y="2209680"/>
            <a:chExt cx="3412440" cy="1338480"/>
          </a:xfrm>
        </p:grpSpPr>
        <p:sp>
          <p:nvSpPr>
            <p:cNvPr id="179" name=""/>
            <p:cNvSpPr/>
            <p:nvPr/>
          </p:nvSpPr>
          <p:spPr>
            <a:xfrm rot="639000">
              <a:off x="7701120" y="277632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34120" y="2209680"/>
              <a:ext cx="1143000" cy="1219320"/>
              <a:chOff x="5334120" y="2209680"/>
              <a:chExt cx="1143000" cy="1219320"/>
            </a:xfrm>
          </p:grpSpPr>
          <p:sp>
            <p:nvSpPr>
              <p:cNvPr id="181" name=""/>
              <p:cNvSpPr/>
              <p:nvPr/>
            </p:nvSpPr>
            <p:spPr>
              <a:xfrm>
                <a:off x="5410440" y="26798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4120" y="25909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120" y="24382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15000" y="31240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7640" y="2743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7640" y="30481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9920" y="2666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9920" y="28195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2200" y="2438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10440" y="2819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4120" y="22860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48520" y="25909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00800" y="2209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5334120" y="2209680"/>
            <a:ext cx="1143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91520" y="1295280"/>
            <a:ext cx="1295280" cy="1981080"/>
            <a:chOff x="7391520" y="1295280"/>
            <a:chExt cx="1295280" cy="1981080"/>
          </a:xfrm>
        </p:grpSpPr>
        <p:grpSp>
          <p:nvGrpSpPr>
            <p:cNvPr id="196" name=""/>
            <p:cNvGrpSpPr/>
            <p:nvPr/>
          </p:nvGrpSpPr>
          <p:grpSpPr>
            <a:xfrm>
              <a:off x="7391520" y="2666880"/>
              <a:ext cx="914400" cy="609480"/>
              <a:chOff x="7391520" y="2666880"/>
              <a:chExt cx="914400" cy="609480"/>
            </a:xfrm>
          </p:grpSpPr>
          <p:sp>
            <p:nvSpPr>
              <p:cNvPr id="197" name=""/>
              <p:cNvSpPr/>
              <p:nvPr/>
            </p:nvSpPr>
            <p:spPr>
              <a:xfrm>
                <a:off x="7391520" y="26668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91520" y="2895480"/>
                <a:ext cx="914400" cy="15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72760" y="2666880"/>
                <a:ext cx="1522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543800" y="1295280"/>
              <a:ext cx="1143000" cy="1219320"/>
              <a:chOff x="7543800" y="1295280"/>
              <a:chExt cx="1143000" cy="1219320"/>
            </a:xfrm>
          </p:grpSpPr>
          <p:sp>
            <p:nvSpPr>
              <p:cNvPr id="201" name=""/>
              <p:cNvSpPr/>
              <p:nvPr/>
            </p:nvSpPr>
            <p:spPr>
              <a:xfrm>
                <a:off x="7620120" y="17654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43800" y="1676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800" y="15238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4680" y="22096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077320" y="1828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077320" y="21337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9600" y="1752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29600" y="19051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381880" y="1523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0120" y="19051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43800" y="13716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58200" y="16765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61048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4816440" y="5257800"/>
            <a:ext cx="4327560" cy="1286280"/>
          </a:xfrm>
          <a:prstGeom prst="wedgeRoundRectCallout">
            <a:avLst>
              <a:gd name="adj1" fmla="val -95847"/>
              <a:gd name="adj2" fmla="val -46199"/>
              <a:gd name="adj3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inigung muss nicht um die Enden erfolgen und kann auch vor dem Startsignal erf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989680"/>
            <a:ext cx="3581280" cy="496440"/>
          </a:xfrm>
          <a:prstGeom prst="wedgeRoundRectCallout">
            <a:avLst>
              <a:gd name="adj1" fmla="val 64268"/>
              <a:gd name="adj2" fmla="val 17462"/>
              <a:gd name="adj3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 keine Flagge „X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37A-417A-4ED4-8428-3358C10613F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FA7AF-9CB4-417E-A285-E32066D17E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erschärfung mit Z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33720" y="2362320"/>
            <a:ext cx="6449400" cy="2292120"/>
            <a:chOff x="2133720" y="2362320"/>
            <a:chExt cx="6449400" cy="2292120"/>
          </a:xfrm>
        </p:grpSpPr>
        <p:grpSp>
          <p:nvGrpSpPr>
            <p:cNvPr id="218" name=""/>
            <p:cNvGrpSpPr/>
            <p:nvPr/>
          </p:nvGrpSpPr>
          <p:grpSpPr>
            <a:xfrm>
              <a:off x="2133720" y="2362320"/>
              <a:ext cx="5794200" cy="2292120"/>
              <a:chOff x="2133720" y="2362320"/>
              <a:chExt cx="5794200" cy="2292120"/>
            </a:xfrm>
          </p:grpSpPr>
          <p:pic>
            <p:nvPicPr>
              <p:cNvPr id="219" name="Boje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3581280"/>
                <a:ext cx="40320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" name=""/>
              <p:cNvGrpSpPr/>
              <p:nvPr/>
            </p:nvGrpSpPr>
            <p:grpSpPr>
              <a:xfrm>
                <a:off x="6422760" y="2362320"/>
                <a:ext cx="1505160" cy="2292120"/>
                <a:chOff x="6422760" y="2362320"/>
                <a:chExt cx="1505160" cy="2292120"/>
              </a:xfrm>
            </p:grpSpPr>
            <p:pic>
              <p:nvPicPr>
                <p:cNvPr id="221" name="MoboSta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34320" y="2362320"/>
                  <a:ext cx="993600" cy="22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 rot="20552400">
                  <a:off x="6486480" y="2817360"/>
                  <a:ext cx="609480" cy="520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7723440" y="2743200"/>
              <a:ext cx="859680" cy="685800"/>
              <a:chOff x="7723440" y="2743200"/>
              <a:chExt cx="859680" cy="685800"/>
            </a:xfrm>
          </p:grpSpPr>
          <p:sp>
            <p:nvSpPr>
              <p:cNvPr id="224" name=""/>
              <p:cNvSpPr/>
              <p:nvPr/>
            </p:nvSpPr>
            <p:spPr>
              <a:xfrm rot="750000">
                <a:off x="7772040" y="2819520"/>
                <a:ext cx="76212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50000">
                <a:off x="8119800" y="2857320"/>
                <a:ext cx="41004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750000">
                <a:off x="7743960" y="3075480"/>
                <a:ext cx="762120" cy="27396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50000">
                <a:off x="7801200" y="2822040"/>
                <a:ext cx="762120" cy="26280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257800" y="2133720"/>
            <a:ext cx="3412440" cy="1414440"/>
            <a:chOff x="5257800" y="2133720"/>
            <a:chExt cx="3412440" cy="1414440"/>
          </a:xfrm>
        </p:grpSpPr>
        <p:sp>
          <p:nvSpPr>
            <p:cNvPr id="229" name=""/>
            <p:cNvSpPr/>
            <p:nvPr/>
          </p:nvSpPr>
          <p:spPr>
            <a:xfrm rot="639000">
              <a:off x="7624800" y="277632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257800" y="2133720"/>
              <a:ext cx="914400" cy="1216080"/>
              <a:chOff x="5257800" y="2133720"/>
              <a:chExt cx="914400" cy="1216080"/>
            </a:xfrm>
          </p:grpSpPr>
          <p:sp>
            <p:nvSpPr>
              <p:cNvPr id="231" name=""/>
              <p:cNvSpPr/>
              <p:nvPr/>
            </p:nvSpPr>
            <p:spPr>
              <a:xfrm>
                <a:off x="5286600" y="2603880"/>
                <a:ext cx="885600" cy="608040"/>
              </a:xfrm>
              <a:custGeom>
                <a:avLst/>
                <a:gdLst/>
                <a:ahLst/>
                <a:rect l="l" t="t" r="r" b="b"/>
                <a:pathLst>
                  <a:path w="558" h="383">
                    <a:moveTo>
                      <a:pt x="0" y="370"/>
                    </a:moveTo>
                    <a:cubicBezTo>
                      <a:pt x="22" y="363"/>
                      <a:pt x="65" y="383"/>
                      <a:pt x="126" y="328"/>
                    </a:cubicBezTo>
                    <a:cubicBezTo>
                      <a:pt x="187" y="273"/>
                      <a:pt x="294" y="80"/>
                      <a:pt x="366" y="40"/>
                    </a:cubicBezTo>
                    <a:cubicBezTo>
                      <a:pt x="438" y="0"/>
                      <a:pt x="526" y="80"/>
                      <a:pt x="558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67520" y="2514960"/>
                <a:ext cx="828720" cy="608040"/>
              </a:xfrm>
              <a:custGeom>
                <a:avLst/>
                <a:gdLst/>
                <a:ahLst/>
                <a:rect l="l" t="t" r="r" b="b"/>
                <a:pathLst>
                  <a:path w="522" h="383">
                    <a:moveTo>
                      <a:pt x="0" y="372"/>
                    </a:moveTo>
                    <a:cubicBezTo>
                      <a:pt x="15" y="364"/>
                      <a:pt x="35" y="383"/>
                      <a:pt x="90" y="328"/>
                    </a:cubicBezTo>
                    <a:cubicBezTo>
                      <a:pt x="145" y="273"/>
                      <a:pt x="258" y="80"/>
                      <a:pt x="330" y="40"/>
                    </a:cubicBezTo>
                    <a:cubicBezTo>
                      <a:pt x="402" y="0"/>
                      <a:pt x="490" y="80"/>
                      <a:pt x="52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57800" y="2362320"/>
                <a:ext cx="838440" cy="609840"/>
              </a:xfrm>
              <a:custGeom>
                <a:avLst/>
                <a:gdLst/>
                <a:ahLst/>
                <a:rect l="l" t="t" r="r" b="b"/>
                <a:pathLst>
                  <a:path w="528" h="384">
                    <a:moveTo>
                      <a:pt x="0" y="378"/>
                    </a:moveTo>
                    <a:cubicBezTo>
                      <a:pt x="16" y="369"/>
                      <a:pt x="40" y="384"/>
                      <a:pt x="96" y="328"/>
                    </a:cubicBezTo>
                    <a:cubicBezTo>
                      <a:pt x="152" y="272"/>
                      <a:pt x="264" y="80"/>
                      <a:pt x="336" y="40"/>
                    </a:cubicBezTo>
                    <a:cubicBezTo>
                      <a:pt x="408" y="0"/>
                      <a:pt x="496" y="80"/>
                      <a:pt x="528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3048120"/>
                <a:ext cx="15228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62720" y="2667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62720" y="297216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1500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15000" y="2743560"/>
                <a:ext cx="15264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7640" y="236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76880" y="2743560"/>
                <a:ext cx="895320" cy="606240"/>
              </a:xfrm>
              <a:custGeom>
                <a:avLst/>
                <a:gdLst/>
                <a:ahLst/>
                <a:rect l="l" t="t" r="r" b="b"/>
                <a:pathLst>
                  <a:path w="564" h="382">
                    <a:moveTo>
                      <a:pt x="0" y="366"/>
                    </a:moveTo>
                    <a:cubicBezTo>
                      <a:pt x="23" y="360"/>
                      <a:pt x="70" y="382"/>
                      <a:pt x="132" y="328"/>
                    </a:cubicBezTo>
                    <a:cubicBezTo>
                      <a:pt x="194" y="274"/>
                      <a:pt x="300" y="80"/>
                      <a:pt x="372" y="40"/>
                    </a:cubicBezTo>
                    <a:cubicBezTo>
                      <a:pt x="444" y="0"/>
                      <a:pt x="532" y="80"/>
                      <a:pt x="564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67520" y="2210040"/>
                <a:ext cx="828720" cy="638280"/>
              </a:xfrm>
              <a:custGeom>
                <a:avLst/>
                <a:gdLst/>
                <a:ahLst/>
                <a:rect l="l" t="t" r="r" b="b"/>
                <a:pathLst>
                  <a:path w="522" h="402">
                    <a:moveTo>
                      <a:pt x="0" y="402"/>
                    </a:moveTo>
                    <a:cubicBezTo>
                      <a:pt x="15" y="391"/>
                      <a:pt x="35" y="388"/>
                      <a:pt x="90" y="328"/>
                    </a:cubicBezTo>
                    <a:cubicBezTo>
                      <a:pt x="145" y="268"/>
                      <a:pt x="258" y="80"/>
                      <a:pt x="330" y="40"/>
                    </a:cubicBezTo>
                    <a:cubicBezTo>
                      <a:pt x="402" y="0"/>
                      <a:pt x="490" y="80"/>
                      <a:pt x="52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3600" y="2514960"/>
                <a:ext cx="1526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9624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5105520" y="2133720"/>
            <a:ext cx="1143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246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248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3581280" y="1287360"/>
            <a:ext cx="2232000" cy="1836360"/>
          </a:xfrm>
          <a:prstGeom prst="cloudCallout">
            <a:avLst>
              <a:gd name="adj1" fmla="val 24032"/>
              <a:gd name="adj2" fmla="val 61032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kannter 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84840" y="1219320"/>
            <a:ext cx="2323080" cy="1416960"/>
          </a:xfrm>
          <a:prstGeom prst="wedgeRoundRectCallout">
            <a:avLst>
              <a:gd name="adj1" fmla="val 64018"/>
              <a:gd name="adj2" fmla="val 94166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Z   F  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Z-flag Penalty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0% + Ziel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840200"/>
            <a:ext cx="2286000" cy="1836360"/>
          </a:xfrm>
          <a:prstGeom prst="cloudCallout">
            <a:avLst>
              <a:gd name="adj1" fmla="val -17787"/>
              <a:gd name="adj2" fmla="val -8619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2840" y="5029200"/>
            <a:ext cx="1960560" cy="496440"/>
          </a:xfrm>
          <a:prstGeom prst="wedgeRoundRectCallout">
            <a:avLst>
              <a:gd name="adj1" fmla="val 73569"/>
              <a:gd name="adj2" fmla="val -168837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ück geha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990720"/>
            <a:ext cx="1981080" cy="1393560"/>
          </a:xfrm>
          <a:custGeom>
            <a:avLst/>
            <a:gdLst/>
            <a:ahLst/>
            <a:rect l="l" t="t" r="r" b="b"/>
            <a:pathLst>
              <a:path w="1248" h="878">
                <a:moveTo>
                  <a:pt x="577" y="327"/>
                </a:moveTo>
                <a:cubicBezTo>
                  <a:pt x="577" y="218"/>
                  <a:pt x="577" y="109"/>
                  <a:pt x="577" y="0"/>
                </a:cubicBezTo>
                <a:lnTo>
                  <a:pt x="672" y="302"/>
                </a:lnTo>
                <a:lnTo>
                  <a:pt x="1200" y="254"/>
                </a:lnTo>
                <a:lnTo>
                  <a:pt x="720" y="350"/>
                </a:lnTo>
                <a:lnTo>
                  <a:pt x="1248" y="494"/>
                </a:lnTo>
                <a:lnTo>
                  <a:pt x="768" y="446"/>
                </a:lnTo>
                <a:lnTo>
                  <a:pt x="1056" y="686"/>
                </a:lnTo>
                <a:lnTo>
                  <a:pt x="720" y="494"/>
                </a:lnTo>
                <a:lnTo>
                  <a:pt x="720" y="878"/>
                </a:lnTo>
                <a:lnTo>
                  <a:pt x="672" y="494"/>
                </a:lnTo>
                <a:lnTo>
                  <a:pt x="480" y="782"/>
                </a:lnTo>
                <a:lnTo>
                  <a:pt x="624" y="446"/>
                </a:lnTo>
                <a:lnTo>
                  <a:pt x="240" y="542"/>
                </a:lnTo>
                <a:lnTo>
                  <a:pt x="528" y="398"/>
                </a:lnTo>
                <a:lnTo>
                  <a:pt x="0" y="110"/>
                </a:lnTo>
                <a:lnTo>
                  <a:pt x="577" y="32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553880" y="2643840"/>
            <a:ext cx="1198080" cy="960840"/>
            <a:chOff x="7553880" y="2643840"/>
            <a:chExt cx="1198080" cy="960840"/>
          </a:xfrm>
        </p:grpSpPr>
        <p:sp>
          <p:nvSpPr>
            <p:cNvPr id="256" name=""/>
            <p:cNvSpPr/>
            <p:nvPr/>
          </p:nvSpPr>
          <p:spPr>
            <a:xfrm rot="6095400">
              <a:off x="7771680" y="2590560"/>
              <a:ext cx="762120" cy="1066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6095400">
              <a:off x="7802280" y="2661840"/>
              <a:ext cx="527400" cy="8888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705720" y="1295280"/>
            <a:ext cx="1981080" cy="1393920"/>
          </a:xfrm>
          <a:custGeom>
            <a:avLst/>
            <a:gdLst/>
            <a:ahLst/>
            <a:rect l="l" t="t" r="r" b="b"/>
            <a:pathLst>
              <a:path w="1248" h="878">
                <a:moveTo>
                  <a:pt x="577" y="327"/>
                </a:moveTo>
                <a:cubicBezTo>
                  <a:pt x="577" y="218"/>
                  <a:pt x="577" y="109"/>
                  <a:pt x="577" y="0"/>
                </a:cubicBezTo>
                <a:lnTo>
                  <a:pt x="672" y="302"/>
                </a:lnTo>
                <a:lnTo>
                  <a:pt x="1200" y="254"/>
                </a:lnTo>
                <a:lnTo>
                  <a:pt x="720" y="350"/>
                </a:lnTo>
                <a:lnTo>
                  <a:pt x="1248" y="494"/>
                </a:lnTo>
                <a:lnTo>
                  <a:pt x="768" y="446"/>
                </a:lnTo>
                <a:lnTo>
                  <a:pt x="1056" y="686"/>
                </a:lnTo>
                <a:lnTo>
                  <a:pt x="720" y="494"/>
                </a:lnTo>
                <a:lnTo>
                  <a:pt x="720" y="878"/>
                </a:lnTo>
                <a:lnTo>
                  <a:pt x="672" y="494"/>
                </a:lnTo>
                <a:lnTo>
                  <a:pt x="480" y="782"/>
                </a:lnTo>
                <a:lnTo>
                  <a:pt x="624" y="446"/>
                </a:lnTo>
                <a:lnTo>
                  <a:pt x="240" y="542"/>
                </a:lnTo>
                <a:lnTo>
                  <a:pt x="528" y="398"/>
                </a:lnTo>
                <a:lnTo>
                  <a:pt x="0" y="110"/>
                </a:lnTo>
                <a:lnTo>
                  <a:pt x="577" y="32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90920" y="2514600"/>
            <a:ext cx="4267080" cy="2228760"/>
            <a:chOff x="2590920" y="2514600"/>
            <a:chExt cx="4267080" cy="2228760"/>
          </a:xfrm>
        </p:grpSpPr>
        <p:pic>
          <p:nvPicPr>
            <p:cNvPr id="260" name="SeboAWB1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SeboAWB1" descr=""/>
            <p:cNvPicPr/>
            <p:nvPr/>
          </p:nvPicPr>
          <p:blipFill>
            <a:blip r:embed="rId4"/>
            <a:stretch/>
          </p:blipFill>
          <p:spPr>
            <a:xfrm>
              <a:off x="6095880" y="3124080"/>
              <a:ext cx="7621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SeboAWB1" descr=""/>
            <p:cNvPicPr/>
            <p:nvPr/>
          </p:nvPicPr>
          <p:blipFill>
            <a:blip r:embed="rId5"/>
            <a:stretch/>
          </p:blipFill>
          <p:spPr>
            <a:xfrm>
              <a:off x="5257800" y="27432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SeboAWB1" descr=""/>
            <p:cNvPicPr/>
            <p:nvPr/>
          </p:nvPicPr>
          <p:blipFill>
            <a:blip r:embed="rId6"/>
            <a:stretch/>
          </p:blipFill>
          <p:spPr>
            <a:xfrm>
              <a:off x="3276720" y="342900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SeboAWB1" descr=""/>
            <p:cNvPicPr/>
            <p:nvPr/>
          </p:nvPicPr>
          <p:blipFill>
            <a:blip r:embed="rId7"/>
            <a:stretch/>
          </p:blipFill>
          <p:spPr>
            <a:xfrm>
              <a:off x="3733920" y="274320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SeboAWB1" descr=""/>
            <p:cNvPicPr/>
            <p:nvPr/>
          </p:nvPicPr>
          <p:blipFill>
            <a:blip r:embed="rId8"/>
            <a:stretch/>
          </p:blipFill>
          <p:spPr>
            <a:xfrm>
              <a:off x="4343400" y="25146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eboAWB1" descr=""/>
            <p:cNvPicPr/>
            <p:nvPr/>
          </p:nvPicPr>
          <p:blipFill>
            <a:blip r:embed="rId9"/>
            <a:stretch/>
          </p:blipFill>
          <p:spPr>
            <a:xfrm>
              <a:off x="4724280" y="3200400"/>
              <a:ext cx="76212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241-93D3-49C9-A4C8-C768B63D09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B6382-9F0E-46A2-84FE-C1ECC40BF3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7280" y="5032440"/>
            <a:ext cx="1570680" cy="1089000"/>
          </a:xfrm>
          <a:prstGeom prst="wedgeRoundRectCallout">
            <a:avLst>
              <a:gd name="adj1" fmla="val -8138"/>
              <a:gd name="adj2" fmla="val -70819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D N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d not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40" y="2698920"/>
            <a:ext cx="2525760" cy="708480"/>
          </a:xfrm>
          <a:prstGeom prst="cloudCallout">
            <a:avLst>
              <a:gd name="adj1" fmla="val -4185"/>
              <a:gd name="adj2" fmla="val 10540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t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organg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133720" y="2362320"/>
            <a:ext cx="5794200" cy="2292120"/>
            <a:chOff x="2133720" y="2362320"/>
            <a:chExt cx="5794200" cy="2292120"/>
          </a:xfrm>
        </p:grpSpPr>
        <p:pic>
          <p:nvPicPr>
            <p:cNvPr id="271" name="Boje1" descr=""/>
            <p:cNvPicPr/>
            <p:nvPr/>
          </p:nvPicPr>
          <p:blipFill>
            <a:blip r:embed="rId1"/>
            <a:stretch/>
          </p:blipFill>
          <p:spPr>
            <a:xfrm>
              <a:off x="2133720" y="3581280"/>
              <a:ext cx="403200" cy="5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"/>
            <p:cNvGrpSpPr/>
            <p:nvPr/>
          </p:nvGrpSpPr>
          <p:grpSpPr>
            <a:xfrm>
              <a:off x="6422760" y="2362320"/>
              <a:ext cx="1505160" cy="2292120"/>
              <a:chOff x="6422760" y="2362320"/>
              <a:chExt cx="1505160" cy="2292120"/>
            </a:xfrm>
          </p:grpSpPr>
          <p:pic>
            <p:nvPicPr>
              <p:cNvPr id="273" name="MoboSta1" descr=""/>
              <p:cNvPicPr/>
              <p:nvPr/>
            </p:nvPicPr>
            <p:blipFill>
              <a:blip r:embed="rId2"/>
              <a:stretch/>
            </p:blipFill>
            <p:spPr>
              <a:xfrm>
                <a:off x="6934320" y="2362320"/>
                <a:ext cx="993600" cy="229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 rot="20552400">
                <a:off x="6486480" y="2817360"/>
                <a:ext cx="609480" cy="5205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276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278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828800" y="1828800"/>
            <a:ext cx="2232000" cy="1272240"/>
          </a:xfrm>
          <a:prstGeom prst="cloudCallout">
            <a:avLst>
              <a:gd name="adj1" fmla="val 7810"/>
              <a:gd name="adj2" fmla="val 4419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981440" cy="1272240"/>
          </a:xfrm>
          <a:prstGeom prst="cloudCallout">
            <a:avLst>
              <a:gd name="adj1" fmla="val -2898"/>
              <a:gd name="adj2" fmla="val 8295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ekte 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26760" y="5029200"/>
            <a:ext cx="2237760" cy="1089000"/>
          </a:xfrm>
          <a:prstGeom prst="wedgeRoundRectCallout">
            <a:avLst>
              <a:gd name="adj1" fmla="val -12171"/>
              <a:gd name="adj2" fmla="val -153763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   C  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n the cours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90720" y="2819520"/>
            <a:ext cx="6247800" cy="1999800"/>
            <a:chOff x="990720" y="2819520"/>
            <a:chExt cx="6247800" cy="1999800"/>
          </a:xfrm>
        </p:grpSpPr>
        <p:pic>
          <p:nvPicPr>
            <p:cNvPr id="284" name="SeboAWB1" descr="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76176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SeboAWB1" descr=""/>
            <p:cNvPicPr/>
            <p:nvPr/>
          </p:nvPicPr>
          <p:blipFill>
            <a:blip r:embed="rId4"/>
            <a:stretch/>
          </p:blipFill>
          <p:spPr>
            <a:xfrm>
              <a:off x="2819160" y="28195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SeboAWB1" descr=""/>
            <p:cNvPicPr/>
            <p:nvPr/>
          </p:nvPicPr>
          <p:blipFill>
            <a:blip r:embed="rId5"/>
            <a:stretch/>
          </p:blipFill>
          <p:spPr>
            <a:xfrm>
              <a:off x="518148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SeboAWB1" descr=""/>
            <p:cNvPicPr/>
            <p:nvPr/>
          </p:nvPicPr>
          <p:blipFill>
            <a:blip r:embed="rId6"/>
            <a:stretch/>
          </p:blipFill>
          <p:spPr>
            <a:xfrm>
              <a:off x="586728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SeboAWB1" descr=""/>
            <p:cNvPicPr/>
            <p:nvPr/>
          </p:nvPicPr>
          <p:blipFill>
            <a:blip r:embed="rId7"/>
            <a:stretch/>
          </p:blipFill>
          <p:spPr>
            <a:xfrm>
              <a:off x="647676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SeboAWB1" descr=""/>
            <p:cNvPicPr/>
            <p:nvPr/>
          </p:nvPicPr>
          <p:blipFill>
            <a:blip r:embed="rId8"/>
            <a:stretch/>
          </p:blipFill>
          <p:spPr>
            <a:xfrm>
              <a:off x="3886200" y="3429000"/>
              <a:ext cx="76140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SeboAWB1" descr=""/>
            <p:cNvPicPr/>
            <p:nvPr/>
          </p:nvPicPr>
          <p:blipFill>
            <a:blip r:embed="rId9"/>
            <a:stretch/>
          </p:blipFill>
          <p:spPr>
            <a:xfrm>
              <a:off x="990720" y="3504960"/>
              <a:ext cx="76176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7391520" y="1295280"/>
            <a:ext cx="1295280" cy="1981080"/>
            <a:chOff x="7391520" y="1295280"/>
            <a:chExt cx="1295280" cy="1981080"/>
          </a:xfrm>
        </p:grpSpPr>
        <p:grpSp>
          <p:nvGrpSpPr>
            <p:cNvPr id="292" name=""/>
            <p:cNvGrpSpPr/>
            <p:nvPr/>
          </p:nvGrpSpPr>
          <p:grpSpPr>
            <a:xfrm>
              <a:off x="7391520" y="2666880"/>
              <a:ext cx="914400" cy="609480"/>
              <a:chOff x="7391520" y="2666880"/>
              <a:chExt cx="914400" cy="609480"/>
            </a:xfrm>
          </p:grpSpPr>
          <p:sp>
            <p:nvSpPr>
              <p:cNvPr id="293" name=""/>
              <p:cNvSpPr/>
              <p:nvPr/>
            </p:nvSpPr>
            <p:spPr>
              <a:xfrm>
                <a:off x="7391520" y="26668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91520" y="2895480"/>
                <a:ext cx="914400" cy="15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72760" y="2666880"/>
                <a:ext cx="1522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543800" y="1295280"/>
              <a:ext cx="1143000" cy="1219320"/>
              <a:chOff x="7543800" y="1295280"/>
              <a:chExt cx="1143000" cy="1219320"/>
            </a:xfrm>
          </p:grpSpPr>
          <p:sp>
            <p:nvSpPr>
              <p:cNvPr id="297" name=""/>
              <p:cNvSpPr/>
              <p:nvPr/>
            </p:nvSpPr>
            <p:spPr>
              <a:xfrm>
                <a:off x="7620120" y="176544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43800" y="16765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43800" y="152388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24680" y="220968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77320" y="1828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77320" y="21337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29600" y="1752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29600" y="19051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381880" y="1523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0120" y="190512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543800" y="1371600"/>
                <a:ext cx="106668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58200" y="167652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61048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403-2318-4F1B-AE97-6118A81FC8F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67F79-33DA-4C04-93F8-7554F6B540F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133720" y="2362320"/>
            <a:ext cx="6449400" cy="2292120"/>
            <a:chOff x="2133720" y="2362320"/>
            <a:chExt cx="6449400" cy="2292120"/>
          </a:xfrm>
        </p:grpSpPr>
        <p:grpSp>
          <p:nvGrpSpPr>
            <p:cNvPr id="311" name=""/>
            <p:cNvGrpSpPr/>
            <p:nvPr/>
          </p:nvGrpSpPr>
          <p:grpSpPr>
            <a:xfrm>
              <a:off x="2133720" y="2362320"/>
              <a:ext cx="5794200" cy="2292120"/>
              <a:chOff x="2133720" y="2362320"/>
              <a:chExt cx="5794200" cy="2292120"/>
            </a:xfrm>
          </p:grpSpPr>
          <p:pic>
            <p:nvPicPr>
              <p:cNvPr id="312" name="Boje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3581280"/>
                <a:ext cx="40320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3" name=""/>
              <p:cNvGrpSpPr/>
              <p:nvPr/>
            </p:nvGrpSpPr>
            <p:grpSpPr>
              <a:xfrm>
                <a:off x="6422760" y="2362320"/>
                <a:ext cx="1505160" cy="2292120"/>
                <a:chOff x="6422760" y="2362320"/>
                <a:chExt cx="1505160" cy="2292120"/>
              </a:xfrm>
            </p:grpSpPr>
            <p:pic>
              <p:nvPicPr>
                <p:cNvPr id="314" name="MoboSta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34320" y="2362320"/>
                  <a:ext cx="993600" cy="22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 rot="20552400">
                  <a:off x="6486480" y="2817360"/>
                  <a:ext cx="609480" cy="520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 rot="750000">
              <a:off x="7772040" y="2819520"/>
              <a:ext cx="76212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57800" y="2133720"/>
            <a:ext cx="3488760" cy="1414440"/>
            <a:chOff x="5257800" y="2133720"/>
            <a:chExt cx="3488760" cy="1414440"/>
          </a:xfrm>
        </p:grpSpPr>
        <p:sp>
          <p:nvSpPr>
            <p:cNvPr id="318" name=""/>
            <p:cNvSpPr/>
            <p:nvPr/>
          </p:nvSpPr>
          <p:spPr>
            <a:xfrm rot="639000">
              <a:off x="7701120" y="277632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257800" y="2133720"/>
              <a:ext cx="1130400" cy="1193760"/>
              <a:chOff x="5257800" y="2133720"/>
              <a:chExt cx="1130400" cy="1193760"/>
            </a:xfrm>
          </p:grpSpPr>
          <p:sp>
            <p:nvSpPr>
              <p:cNvPr id="320" name=""/>
              <p:cNvSpPr/>
              <p:nvPr/>
            </p:nvSpPr>
            <p:spPr>
              <a:xfrm>
                <a:off x="5308560" y="2590920"/>
                <a:ext cx="106704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83360" y="248904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70760" y="238752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39040" y="30481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91320" y="2666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91320" y="2971800"/>
                <a:ext cx="1522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4360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43600" y="274320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96240" y="236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21520" y="271764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57800" y="2286000"/>
                <a:ext cx="106704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72200" y="2514600"/>
                <a:ext cx="1526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2484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erschärfung mit Schwarz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2133720"/>
            <a:ext cx="1143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336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338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581280" y="1287360"/>
            <a:ext cx="2232000" cy="1836360"/>
          </a:xfrm>
          <a:prstGeom prst="cloudCallout">
            <a:avLst>
              <a:gd name="adj1" fmla="val 24032"/>
              <a:gd name="adj2" fmla="val 61032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kannter 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370160"/>
            <a:ext cx="2664000" cy="1022400"/>
          </a:xfrm>
          <a:prstGeom prst="wedgeRoundRectCallout">
            <a:avLst>
              <a:gd name="adj1" fmla="val 66912"/>
              <a:gd name="adj2" fmla="val 127893"/>
              <a:gd name="adj3" fmla="val 16667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   F  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lack  flag disqua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4840200"/>
            <a:ext cx="2286000" cy="1836360"/>
          </a:xfrm>
          <a:prstGeom prst="cloudCallout">
            <a:avLst>
              <a:gd name="adj1" fmla="val -17787"/>
              <a:gd name="adj2" fmla="val -8619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2840" y="5029200"/>
            <a:ext cx="1960560" cy="496440"/>
          </a:xfrm>
          <a:prstGeom prst="wedgeRoundRectCallout">
            <a:avLst>
              <a:gd name="adj1" fmla="val 73569"/>
              <a:gd name="adj2" fmla="val -168837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ück geha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990720"/>
            <a:ext cx="1981080" cy="1393560"/>
          </a:xfrm>
          <a:custGeom>
            <a:avLst/>
            <a:gdLst/>
            <a:ahLst/>
            <a:rect l="l" t="t" r="r" b="b"/>
            <a:pathLst>
              <a:path w="1248" h="878">
                <a:moveTo>
                  <a:pt x="577" y="327"/>
                </a:moveTo>
                <a:cubicBezTo>
                  <a:pt x="577" y="218"/>
                  <a:pt x="577" y="109"/>
                  <a:pt x="577" y="0"/>
                </a:cubicBezTo>
                <a:lnTo>
                  <a:pt x="672" y="302"/>
                </a:lnTo>
                <a:lnTo>
                  <a:pt x="1200" y="254"/>
                </a:lnTo>
                <a:lnTo>
                  <a:pt x="720" y="350"/>
                </a:lnTo>
                <a:lnTo>
                  <a:pt x="1248" y="494"/>
                </a:lnTo>
                <a:lnTo>
                  <a:pt x="768" y="446"/>
                </a:lnTo>
                <a:lnTo>
                  <a:pt x="1056" y="686"/>
                </a:lnTo>
                <a:lnTo>
                  <a:pt x="720" y="494"/>
                </a:lnTo>
                <a:lnTo>
                  <a:pt x="720" y="878"/>
                </a:lnTo>
                <a:lnTo>
                  <a:pt x="672" y="494"/>
                </a:lnTo>
                <a:lnTo>
                  <a:pt x="480" y="782"/>
                </a:lnTo>
                <a:lnTo>
                  <a:pt x="624" y="446"/>
                </a:lnTo>
                <a:lnTo>
                  <a:pt x="240" y="542"/>
                </a:lnTo>
                <a:lnTo>
                  <a:pt x="528" y="398"/>
                </a:lnTo>
                <a:lnTo>
                  <a:pt x="0" y="110"/>
                </a:lnTo>
                <a:lnTo>
                  <a:pt x="577" y="32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1295280"/>
            <a:ext cx="1981080" cy="1393920"/>
          </a:xfrm>
          <a:custGeom>
            <a:avLst/>
            <a:gdLst/>
            <a:ahLst/>
            <a:rect l="l" t="t" r="r" b="b"/>
            <a:pathLst>
              <a:path w="1248" h="878">
                <a:moveTo>
                  <a:pt x="577" y="327"/>
                </a:moveTo>
                <a:cubicBezTo>
                  <a:pt x="577" y="218"/>
                  <a:pt x="577" y="109"/>
                  <a:pt x="577" y="0"/>
                </a:cubicBezTo>
                <a:lnTo>
                  <a:pt x="672" y="302"/>
                </a:lnTo>
                <a:lnTo>
                  <a:pt x="1200" y="254"/>
                </a:lnTo>
                <a:lnTo>
                  <a:pt x="720" y="350"/>
                </a:lnTo>
                <a:lnTo>
                  <a:pt x="1248" y="494"/>
                </a:lnTo>
                <a:lnTo>
                  <a:pt x="768" y="446"/>
                </a:lnTo>
                <a:lnTo>
                  <a:pt x="1056" y="686"/>
                </a:lnTo>
                <a:lnTo>
                  <a:pt x="720" y="494"/>
                </a:lnTo>
                <a:lnTo>
                  <a:pt x="720" y="878"/>
                </a:lnTo>
                <a:lnTo>
                  <a:pt x="672" y="494"/>
                </a:lnTo>
                <a:lnTo>
                  <a:pt x="480" y="782"/>
                </a:lnTo>
                <a:lnTo>
                  <a:pt x="624" y="446"/>
                </a:lnTo>
                <a:lnTo>
                  <a:pt x="240" y="542"/>
                </a:lnTo>
                <a:lnTo>
                  <a:pt x="528" y="398"/>
                </a:lnTo>
                <a:lnTo>
                  <a:pt x="0" y="110"/>
                </a:lnTo>
                <a:lnTo>
                  <a:pt x="577" y="32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590920" y="2514600"/>
            <a:ext cx="4267080" cy="2228760"/>
            <a:chOff x="2590920" y="2514600"/>
            <a:chExt cx="4267080" cy="2228760"/>
          </a:xfrm>
        </p:grpSpPr>
        <p:pic>
          <p:nvPicPr>
            <p:cNvPr id="347" name="SeboAWB1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SeboAWB1" descr=""/>
            <p:cNvPicPr/>
            <p:nvPr/>
          </p:nvPicPr>
          <p:blipFill>
            <a:blip r:embed="rId4"/>
            <a:stretch/>
          </p:blipFill>
          <p:spPr>
            <a:xfrm>
              <a:off x="6095880" y="3124080"/>
              <a:ext cx="7621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SeboAWB1" descr=""/>
            <p:cNvPicPr/>
            <p:nvPr/>
          </p:nvPicPr>
          <p:blipFill>
            <a:blip r:embed="rId5"/>
            <a:stretch/>
          </p:blipFill>
          <p:spPr>
            <a:xfrm>
              <a:off x="5257800" y="27432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SeboAWB1" descr=""/>
            <p:cNvPicPr/>
            <p:nvPr/>
          </p:nvPicPr>
          <p:blipFill>
            <a:blip r:embed="rId6"/>
            <a:stretch/>
          </p:blipFill>
          <p:spPr>
            <a:xfrm>
              <a:off x="3276720" y="342900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eboAWB1" descr=""/>
            <p:cNvPicPr/>
            <p:nvPr/>
          </p:nvPicPr>
          <p:blipFill>
            <a:blip r:embed="rId7"/>
            <a:stretch/>
          </p:blipFill>
          <p:spPr>
            <a:xfrm>
              <a:off x="3733920" y="274320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SeboAWB1" descr=""/>
            <p:cNvPicPr/>
            <p:nvPr/>
          </p:nvPicPr>
          <p:blipFill>
            <a:blip r:embed="rId8"/>
            <a:stretch/>
          </p:blipFill>
          <p:spPr>
            <a:xfrm>
              <a:off x="4343400" y="25146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SeboAWB1" descr=""/>
            <p:cNvPicPr/>
            <p:nvPr/>
          </p:nvPicPr>
          <p:blipFill>
            <a:blip r:embed="rId9"/>
            <a:stretch/>
          </p:blipFill>
          <p:spPr>
            <a:xfrm>
              <a:off x="4724280" y="3200400"/>
              <a:ext cx="76212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7553880" y="2643840"/>
            <a:ext cx="1198080" cy="960840"/>
            <a:chOff x="7553880" y="2643840"/>
            <a:chExt cx="1198080" cy="960840"/>
          </a:xfrm>
        </p:grpSpPr>
        <p:sp>
          <p:nvSpPr>
            <p:cNvPr id="355" name=""/>
            <p:cNvSpPr/>
            <p:nvPr/>
          </p:nvSpPr>
          <p:spPr>
            <a:xfrm rot="6095400">
              <a:off x="7771680" y="2590560"/>
              <a:ext cx="762120" cy="1066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6095400">
              <a:off x="7802280" y="2661840"/>
              <a:ext cx="527400" cy="8888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B94-00FF-4C14-8E5D-39D8ADA3D02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95C27-DCB9-4776-9B2F-51FC7986E2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2133720" y="2362320"/>
            <a:ext cx="6449400" cy="2292120"/>
            <a:chOff x="2133720" y="2362320"/>
            <a:chExt cx="6449400" cy="2292120"/>
          </a:xfrm>
        </p:grpSpPr>
        <p:grpSp>
          <p:nvGrpSpPr>
            <p:cNvPr id="358" name=""/>
            <p:cNvGrpSpPr/>
            <p:nvPr/>
          </p:nvGrpSpPr>
          <p:grpSpPr>
            <a:xfrm>
              <a:off x="2133720" y="2362320"/>
              <a:ext cx="5794200" cy="2292120"/>
              <a:chOff x="2133720" y="2362320"/>
              <a:chExt cx="5794200" cy="2292120"/>
            </a:xfrm>
          </p:grpSpPr>
          <p:pic>
            <p:nvPicPr>
              <p:cNvPr id="359" name="Boje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3581280"/>
                <a:ext cx="40320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0" name=""/>
              <p:cNvGrpSpPr/>
              <p:nvPr/>
            </p:nvGrpSpPr>
            <p:grpSpPr>
              <a:xfrm>
                <a:off x="6422760" y="2362320"/>
                <a:ext cx="1505160" cy="2292120"/>
                <a:chOff x="6422760" y="2362320"/>
                <a:chExt cx="1505160" cy="2292120"/>
              </a:xfrm>
            </p:grpSpPr>
            <p:pic>
              <p:nvPicPr>
                <p:cNvPr id="361" name="MoboSta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34320" y="2362320"/>
                  <a:ext cx="993600" cy="22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 rot="20552400">
                  <a:off x="6486480" y="2817360"/>
                  <a:ext cx="609480" cy="520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 rot="750000">
              <a:off x="7772040" y="2819520"/>
              <a:ext cx="76212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verschärfung mit Schwarz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57800" y="2133720"/>
            <a:ext cx="3488760" cy="1414440"/>
            <a:chOff x="5257800" y="2133720"/>
            <a:chExt cx="3488760" cy="1414440"/>
          </a:xfrm>
        </p:grpSpPr>
        <p:sp>
          <p:nvSpPr>
            <p:cNvPr id="366" name=""/>
            <p:cNvSpPr/>
            <p:nvPr/>
          </p:nvSpPr>
          <p:spPr>
            <a:xfrm rot="639000">
              <a:off x="7701120" y="277632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257800" y="2133720"/>
              <a:ext cx="1130400" cy="1193760"/>
              <a:chOff x="5257800" y="2133720"/>
              <a:chExt cx="1130400" cy="1193760"/>
            </a:xfrm>
          </p:grpSpPr>
          <p:sp>
            <p:nvSpPr>
              <p:cNvPr id="368" name=""/>
              <p:cNvSpPr/>
              <p:nvPr/>
            </p:nvSpPr>
            <p:spPr>
              <a:xfrm>
                <a:off x="5308560" y="2590920"/>
                <a:ext cx="106704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3360" y="248904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70760" y="238752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39040" y="3048120"/>
                <a:ext cx="152280" cy="75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91320" y="2666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91320" y="2971800"/>
                <a:ext cx="1522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360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2743200"/>
                <a:ext cx="152640" cy="763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6240" y="236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21520" y="2717640"/>
                <a:ext cx="1066680" cy="60984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257800" y="2286000"/>
                <a:ext cx="1067040" cy="609480"/>
              </a:xfrm>
              <a:custGeom>
                <a:avLst/>
                <a:gdLst/>
                <a:ahLst/>
                <a:rect l="l" t="t" r="r" b="b"/>
                <a:pathLst>
                  <a:path w="672" h="384">
                    <a:moveTo>
                      <a:pt x="0" y="376"/>
                    </a:moveTo>
                    <a:cubicBezTo>
                      <a:pt x="80" y="380"/>
                      <a:pt x="160" y="384"/>
                      <a:pt x="240" y="328"/>
                    </a:cubicBezTo>
                    <a:cubicBezTo>
                      <a:pt x="320" y="272"/>
                      <a:pt x="408" y="80"/>
                      <a:pt x="480" y="40"/>
                    </a:cubicBezTo>
                    <a:cubicBezTo>
                      <a:pt x="552" y="0"/>
                      <a:pt x="640" y="80"/>
                      <a:pt x="672" y="88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2200" y="2514600"/>
                <a:ext cx="1526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484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5105520" y="21337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14600" y="990720"/>
            <a:ext cx="4876920" cy="3047760"/>
            <a:chOff x="2514600" y="990720"/>
            <a:chExt cx="4876920" cy="3047760"/>
          </a:xfrm>
        </p:grpSpPr>
        <p:sp>
          <p:nvSpPr>
            <p:cNvPr id="383" name=""/>
            <p:cNvSpPr/>
            <p:nvPr/>
          </p:nvSpPr>
          <p:spPr>
            <a:xfrm>
              <a:off x="2514600" y="4038480"/>
              <a:ext cx="4495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410080" y="990720"/>
              <a:ext cx="1981440" cy="2444760"/>
              <a:chOff x="5410080" y="990720"/>
              <a:chExt cx="1981440" cy="2444760"/>
            </a:xfrm>
          </p:grpSpPr>
          <p:sp>
            <p:nvSpPr>
              <p:cNvPr id="385" name=""/>
              <p:cNvSpPr/>
              <p:nvPr/>
            </p:nvSpPr>
            <p:spPr>
              <a:xfrm rot="20654400">
                <a:off x="6400800" y="2819160"/>
                <a:ext cx="6858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10080" y="990720"/>
                <a:ext cx="1981440" cy="1393560"/>
              </a:xfrm>
              <a:custGeom>
                <a:avLst/>
                <a:gdLst/>
                <a:ahLst/>
                <a:rect l="l" t="t" r="r" b="b"/>
                <a:pathLst>
                  <a:path w="1248" h="878">
                    <a:moveTo>
                      <a:pt x="577" y="327"/>
                    </a:moveTo>
                    <a:cubicBezTo>
                      <a:pt x="577" y="218"/>
                      <a:pt x="577" y="109"/>
                      <a:pt x="577" y="0"/>
                    </a:cubicBezTo>
                    <a:lnTo>
                      <a:pt x="672" y="302"/>
                    </a:lnTo>
                    <a:lnTo>
                      <a:pt x="1200" y="254"/>
                    </a:lnTo>
                    <a:lnTo>
                      <a:pt x="720" y="350"/>
                    </a:lnTo>
                    <a:lnTo>
                      <a:pt x="1248" y="494"/>
                    </a:lnTo>
                    <a:lnTo>
                      <a:pt x="768" y="446"/>
                    </a:lnTo>
                    <a:lnTo>
                      <a:pt x="1056" y="686"/>
                    </a:lnTo>
                    <a:lnTo>
                      <a:pt x="720" y="494"/>
                    </a:lnTo>
                    <a:lnTo>
                      <a:pt x="720" y="878"/>
                    </a:lnTo>
                    <a:lnTo>
                      <a:pt x="672" y="494"/>
                    </a:lnTo>
                    <a:lnTo>
                      <a:pt x="480" y="782"/>
                    </a:lnTo>
                    <a:lnTo>
                      <a:pt x="624" y="446"/>
                    </a:lnTo>
                    <a:lnTo>
                      <a:pt x="240" y="542"/>
                    </a:lnTo>
                    <a:lnTo>
                      <a:pt x="528" y="398"/>
                    </a:lnTo>
                    <a:lnTo>
                      <a:pt x="0" y="110"/>
                    </a:lnTo>
                    <a:lnTo>
                      <a:pt x="577" y="32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581280" y="1371600"/>
            <a:ext cx="2232000" cy="1272240"/>
          </a:xfrm>
          <a:prstGeom prst="cloudCallout">
            <a:avLst>
              <a:gd name="adj1" fmla="val 7810"/>
              <a:gd name="adj2" fmla="val 4419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1295280"/>
            <a:ext cx="2819160" cy="1352160"/>
          </a:xfrm>
          <a:prstGeom prst="wedgeRoundRectCallout">
            <a:avLst>
              <a:gd name="adj1" fmla="val 82925"/>
              <a:gd name="adj2" fmla="val 78476"/>
              <a:gd name="adj3" fmla="val 1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   F  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lack flag dis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514600"/>
            <a:ext cx="2286000" cy="1272240"/>
          </a:xfrm>
          <a:prstGeom prst="cloudCallout">
            <a:avLst>
              <a:gd name="adj1" fmla="val 42217"/>
              <a:gd name="adj2" fmla="val 2547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üh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7640" y="4952880"/>
            <a:ext cx="3034440" cy="1154160"/>
          </a:xfrm>
          <a:prstGeom prst="wedgeRoundRectCallout">
            <a:avLst>
              <a:gd name="adj1" fmla="val 18467"/>
              <a:gd name="adj2" fmla="val -100884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    F    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inigen geht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6600" y="3075120"/>
            <a:ext cx="1668240" cy="1560240"/>
          </a:xfrm>
          <a:custGeom>
            <a:avLst/>
            <a:gdLst/>
            <a:ahLst/>
            <a:rect l="l" t="t" r="r" b="b"/>
            <a:pathLst>
              <a:path w="1051" h="983">
                <a:moveTo>
                  <a:pt x="635" y="127"/>
                </a:moveTo>
                <a:cubicBezTo>
                  <a:pt x="597" y="107"/>
                  <a:pt x="492" y="0"/>
                  <a:pt x="405" y="9"/>
                </a:cubicBezTo>
                <a:cubicBezTo>
                  <a:pt x="318" y="18"/>
                  <a:pt x="180" y="93"/>
                  <a:pt x="115" y="181"/>
                </a:cubicBezTo>
                <a:cubicBezTo>
                  <a:pt x="50" y="269"/>
                  <a:pt x="0" y="415"/>
                  <a:pt x="15" y="536"/>
                </a:cubicBezTo>
                <a:cubicBezTo>
                  <a:pt x="30" y="657"/>
                  <a:pt x="90" y="842"/>
                  <a:pt x="205" y="909"/>
                </a:cubicBezTo>
                <a:cubicBezTo>
                  <a:pt x="320" y="976"/>
                  <a:pt x="564" y="983"/>
                  <a:pt x="705" y="936"/>
                </a:cubicBezTo>
                <a:cubicBezTo>
                  <a:pt x="846" y="889"/>
                  <a:pt x="979" y="691"/>
                  <a:pt x="1051" y="62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580920" y="2361960"/>
            <a:ext cx="76212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590920" y="2209680"/>
            <a:ext cx="4267080" cy="2610000"/>
            <a:chOff x="2590920" y="2209680"/>
            <a:chExt cx="4267080" cy="2610000"/>
          </a:xfrm>
        </p:grpSpPr>
        <p:pic>
          <p:nvPicPr>
            <p:cNvPr id="394" name="SeboAWB1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SeboAWB1" descr=""/>
            <p:cNvPicPr/>
            <p:nvPr/>
          </p:nvPicPr>
          <p:blipFill>
            <a:blip r:embed="rId4"/>
            <a:stretch/>
          </p:blipFill>
          <p:spPr>
            <a:xfrm>
              <a:off x="609588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SeboAWB1" descr=""/>
            <p:cNvPicPr/>
            <p:nvPr/>
          </p:nvPicPr>
          <p:blipFill>
            <a:blip r:embed="rId5"/>
            <a:stretch/>
          </p:blipFill>
          <p:spPr>
            <a:xfrm>
              <a:off x="5257800" y="3352680"/>
              <a:ext cx="7621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SeboAWB1" descr=""/>
            <p:cNvPicPr/>
            <p:nvPr/>
          </p:nvPicPr>
          <p:blipFill>
            <a:blip r:embed="rId6"/>
            <a:stretch/>
          </p:blipFill>
          <p:spPr>
            <a:xfrm>
              <a:off x="4572000" y="350532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SeboAWB1" descr=""/>
            <p:cNvPicPr/>
            <p:nvPr/>
          </p:nvPicPr>
          <p:blipFill>
            <a:blip r:embed="rId7"/>
            <a:stretch/>
          </p:blipFill>
          <p:spPr>
            <a:xfrm>
              <a:off x="3200400" y="3429000"/>
              <a:ext cx="7621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SeboAWB1" descr=""/>
            <p:cNvPicPr/>
            <p:nvPr/>
          </p:nvPicPr>
          <p:blipFill>
            <a:blip r:embed="rId8"/>
            <a:stretch/>
          </p:blipFill>
          <p:spPr>
            <a:xfrm>
              <a:off x="3962520" y="3505320"/>
              <a:ext cx="7617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SeboAWB1" descr=""/>
            <p:cNvPicPr/>
            <p:nvPr/>
          </p:nvPicPr>
          <p:blipFill>
            <a:blip r:embed="rId9"/>
            <a:stretch/>
          </p:blipFill>
          <p:spPr>
            <a:xfrm>
              <a:off x="4419720" y="2209680"/>
              <a:ext cx="761760" cy="13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4724280" y="5105520"/>
            <a:ext cx="35053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in Einzelrückruf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 - 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FA3-15D3-4378-9DB4-9B39F9F7181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B758F-BD55-4FB0-99A7-B4408F9529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1:56:45Z</dcterms:created>
  <dc:creator>Ulrich Finckh</dc:creator>
  <dc:description/>
  <dc:language>en-US</dc:language>
  <cp:lastModifiedBy>Ulrich Finckh</cp:lastModifiedBy>
  <cp:lastPrinted>2000-01-09T19:42:29Z</cp:lastPrinted>
  <dcterms:modified xsi:type="dcterms:W3CDTF">2003-02-14T14:36:51Z</dcterms:modified>
  <cp:revision>60</cp:revision>
  <dc:subject/>
  <dc:title>Kein Folientitel</dc:title>
</cp:coreProperties>
</file>