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7.jpeg" ContentType="image/jpeg"/>
  <Override PartName="/ppt/media/image10.wmf" ContentType="image/x-wmf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868-3509-4702-8A53-9418FF60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915-C302-4530-9E42-4E7E1ACC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0CE-70CF-4538-8A1C-9CC466A0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7E9-E1DA-42BD-B6CE-0C0D7F2C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CF5-3B0F-4215-A865-1E9F119B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CF0-4F50-4E3F-B420-C2F745C5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74A-E52F-4FB4-9B89-A004DAD7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C79-F623-4D9B-8F55-0D76D304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8FB-4B18-429C-81AA-F53745DE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D33-1A45-41BF-B592-6A306148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177-2C3D-4837-9A58-A602910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C01-62D5-46FF-B9A1-36BDBC08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B456-2C21-43C5-ABCF-3FD92286B5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5069-8E8A-47DE-9C1A-2D00AFA2F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2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tartfi1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5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2640" y="0"/>
            <a:ext cx="521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Wettfahrtleitu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tartlinie leg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7BA-977A-4FE5-8194-52A9740935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651FA-677A-495E-8BA6-123D6E7CF68D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95480"/>
            <a:ext cx="50292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der Kompasszahl der Windrichtung 90° abziehen ergibt Linienri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oje1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311040" cy="43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5334120"/>
            <a:ext cx="3276720" cy="7596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90600" y="76320"/>
            <a:ext cx="27075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richten der Li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37680" y="457200"/>
            <a:ext cx="1458000" cy="1523880"/>
            <a:chOff x="3037680" y="457200"/>
            <a:chExt cx="1458000" cy="1523880"/>
          </a:xfrm>
        </p:grpSpPr>
        <p:sp>
          <p:nvSpPr>
            <p:cNvPr id="49" name=""/>
            <p:cNvSpPr/>
            <p:nvPr/>
          </p:nvSpPr>
          <p:spPr>
            <a:xfrm>
              <a:off x="3124080" y="533520"/>
              <a:ext cx="0" cy="144756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533520"/>
              <a:ext cx="0" cy="144756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533520"/>
              <a:ext cx="0" cy="144756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9880" y="533520"/>
              <a:ext cx="0" cy="144756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38480" y="533520"/>
              <a:ext cx="0" cy="144756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67080" y="533520"/>
              <a:ext cx="0" cy="144756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533520"/>
              <a:ext cx="0" cy="144756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37680" y="457200"/>
              <a:ext cx="1443960" cy="597600"/>
            </a:xfrm>
            <a:prstGeom prst="cloudCallout">
              <a:avLst>
                <a:gd name="adj1" fmla="val -9699"/>
                <a:gd name="adj2" fmla="val 47226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i n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800600" y="609480"/>
            <a:ext cx="914400" cy="1238400"/>
            <a:chOff x="4800600" y="609480"/>
            <a:chExt cx="914400" cy="1238400"/>
          </a:xfrm>
        </p:grpSpPr>
        <p:pic>
          <p:nvPicPr>
            <p:cNvPr id="58" name="Mobo4" descr=""/>
            <p:cNvPicPr/>
            <p:nvPr/>
          </p:nvPicPr>
          <p:blipFill>
            <a:blip r:embed="rId2"/>
            <a:stretch/>
          </p:blipFill>
          <p:spPr>
            <a:xfrm>
              <a:off x="4800600" y="990720"/>
              <a:ext cx="914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flipV="1">
              <a:off x="5486400" y="6094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609480"/>
              <a:ext cx="110880" cy="1238400"/>
            </a:xfrm>
            <a:custGeom>
              <a:avLst/>
              <a:gdLst/>
              <a:ahLst/>
              <a:rect l="l" t="t" r="r" b="b"/>
              <a:pathLst>
                <a:path w="70" h="780">
                  <a:moveTo>
                    <a:pt x="0" y="0"/>
                  </a:moveTo>
                  <a:cubicBezTo>
                    <a:pt x="10" y="30"/>
                    <a:pt x="50" y="114"/>
                    <a:pt x="60" y="180"/>
                  </a:cubicBezTo>
                  <a:cubicBezTo>
                    <a:pt x="70" y="246"/>
                    <a:pt x="66" y="324"/>
                    <a:pt x="60" y="396"/>
                  </a:cubicBezTo>
                  <a:cubicBezTo>
                    <a:pt x="54" y="468"/>
                    <a:pt x="24" y="548"/>
                    <a:pt x="24" y="612"/>
                  </a:cubicBezTo>
                  <a:cubicBezTo>
                    <a:pt x="24" y="676"/>
                    <a:pt x="53" y="745"/>
                    <a:pt x="60" y="780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330520" y="1197000"/>
              <a:ext cx="17748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867280" y="838080"/>
            <a:ext cx="32767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ojenleger in Luv misst Wind-richtung und gibt sie du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4572000"/>
            <a:ext cx="236232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ttfahrtleitung misst Windrichtung und vergleicht mit Werten aus Lu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729040" y="2819520"/>
            <a:ext cx="1496160" cy="1582560"/>
            <a:chOff x="5729040" y="2819520"/>
            <a:chExt cx="1496160" cy="1582560"/>
          </a:xfrm>
        </p:grpSpPr>
        <p:grpSp>
          <p:nvGrpSpPr>
            <p:cNvPr id="65" name=""/>
            <p:cNvGrpSpPr/>
            <p:nvPr/>
          </p:nvGrpSpPr>
          <p:grpSpPr>
            <a:xfrm>
              <a:off x="5729040" y="2836800"/>
              <a:ext cx="1496160" cy="1565280"/>
              <a:chOff x="5729040" y="2836800"/>
              <a:chExt cx="1496160" cy="1565280"/>
            </a:xfrm>
          </p:grpSpPr>
          <p:sp>
            <p:nvSpPr>
              <p:cNvPr id="66" name=""/>
              <p:cNvSpPr/>
              <p:nvPr/>
            </p:nvSpPr>
            <p:spPr>
              <a:xfrm flipH="1">
                <a:off x="5729040" y="2836800"/>
                <a:ext cx="130320" cy="1442160"/>
              </a:xfrm>
              <a:prstGeom prst="line">
                <a:avLst/>
              </a:prstGeom>
              <a:ln w="3816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5956560" y="2857320"/>
                <a:ext cx="130320" cy="1442160"/>
              </a:xfrm>
              <a:prstGeom prst="line">
                <a:avLst/>
              </a:prstGeom>
              <a:ln w="3816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6184440" y="2877840"/>
                <a:ext cx="129960" cy="1442160"/>
              </a:xfrm>
              <a:prstGeom prst="line">
                <a:avLst/>
              </a:prstGeom>
              <a:ln w="3816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6411960" y="2898360"/>
                <a:ext cx="130320" cy="1442160"/>
              </a:xfrm>
              <a:prstGeom prst="line">
                <a:avLst/>
              </a:prstGeom>
              <a:ln w="3816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6639840" y="2918880"/>
                <a:ext cx="129960" cy="1442160"/>
              </a:xfrm>
              <a:prstGeom prst="line">
                <a:avLst/>
              </a:prstGeom>
              <a:ln w="3816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867360" y="2939400"/>
                <a:ext cx="130320" cy="1442160"/>
              </a:xfrm>
              <a:prstGeom prst="line">
                <a:avLst/>
              </a:prstGeom>
              <a:ln w="3816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7094880" y="2959920"/>
                <a:ext cx="130320" cy="1442160"/>
              </a:xfrm>
              <a:prstGeom prst="line">
                <a:avLst/>
              </a:prstGeom>
              <a:ln w="3816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5780880" y="2819520"/>
              <a:ext cx="1443960" cy="596880"/>
            </a:xfrm>
            <a:prstGeom prst="cloudCallout">
              <a:avLst>
                <a:gd name="adj1" fmla="val -1796"/>
                <a:gd name="adj2" fmla="val 40893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i n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86400" y="4343400"/>
            <a:ext cx="695160" cy="1603440"/>
            <a:chOff x="5486400" y="4343400"/>
            <a:chExt cx="695160" cy="1603440"/>
          </a:xfrm>
        </p:grpSpPr>
        <p:pic>
          <p:nvPicPr>
            <p:cNvPr id="75" name="MoboSta1" descr=""/>
            <p:cNvPicPr/>
            <p:nvPr/>
          </p:nvPicPr>
          <p:blipFill>
            <a:blip r:embed="rId3"/>
            <a:stretch/>
          </p:blipFill>
          <p:spPr>
            <a:xfrm>
              <a:off x="5486400" y="4343400"/>
              <a:ext cx="69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 flipV="1">
              <a:off x="5562720" y="5105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343400" y="3276720"/>
            <a:ext cx="76320" cy="205740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4114800"/>
            <a:ext cx="2437920" cy="2438280"/>
            <a:chOff x="3124080" y="4114800"/>
            <a:chExt cx="2437920" cy="2438280"/>
          </a:xfrm>
        </p:grpSpPr>
        <p:sp>
          <p:nvSpPr>
            <p:cNvPr id="79" name=""/>
            <p:cNvSpPr/>
            <p:nvPr/>
          </p:nvSpPr>
          <p:spPr>
            <a:xfrm flipH="1">
              <a:off x="3124080" y="4114800"/>
              <a:ext cx="2437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76720" y="44197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IW-Rot" descr=""/>
          <p:cNvPicPr/>
          <p:nvPr/>
        </p:nvPicPr>
        <p:blipFill>
          <a:blip r:embed="rId4"/>
          <a:stretch/>
        </p:blipFill>
        <p:spPr>
          <a:xfrm>
            <a:off x="2362320" y="762120"/>
            <a:ext cx="38556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IW-Rot" descr=""/>
          <p:cNvPicPr/>
          <p:nvPr/>
        </p:nvPicPr>
        <p:blipFill>
          <a:blip r:embed="rId5"/>
          <a:stretch/>
        </p:blipFill>
        <p:spPr>
          <a:xfrm>
            <a:off x="7391520" y="2971800"/>
            <a:ext cx="38556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Peilkomp" descr=""/>
          <p:cNvPicPr/>
          <p:nvPr/>
        </p:nvPicPr>
        <p:blipFill>
          <a:blip r:embed="rId6"/>
          <a:stretch/>
        </p:blipFill>
        <p:spPr>
          <a:xfrm>
            <a:off x="0" y="990720"/>
            <a:ext cx="1827360" cy="1904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 die Linienrichtung stimmt, entscheiden die Seg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e stimmt nur, wenn sich die Segler gleichmäßig verteile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C74-4C9C-4E11-83C9-A447FA850E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7886A-C784-4421-9580-5D9AD2AB08F0}" type="datetime1">
              <a:rPr lang="en-US"/>
              <a:t>07/31/26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tartko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67440" y="76320"/>
            <a:ext cx="39632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igieren der Linienri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172200"/>
            <a:ext cx="48006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m Startpunkt verkommene Li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724280" y="533520"/>
            <a:ext cx="2378160" cy="4572000"/>
            <a:chOff x="4724280" y="533520"/>
            <a:chExt cx="2378160" cy="4572000"/>
          </a:xfrm>
        </p:grpSpPr>
        <p:sp>
          <p:nvSpPr>
            <p:cNvPr id="89" name=""/>
            <p:cNvSpPr/>
            <p:nvPr/>
          </p:nvSpPr>
          <p:spPr>
            <a:xfrm>
              <a:off x="5867280" y="1295280"/>
              <a:ext cx="0" cy="381024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24280" y="533520"/>
              <a:ext cx="2378160" cy="8254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rtschiffseitige Begrenz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C4B-54AC-4362-8226-5BE556B1D29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F61A2-1160-476E-9603-CC6400301E9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tartFD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67440" y="76320"/>
            <a:ext cx="39632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igieren der Linienri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914400"/>
            <a:ext cx="51055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nn alles sich am Starschiff drängt, weiß man, dass die Line hän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62120" y="304920"/>
            <a:ext cx="7696080" cy="5486400"/>
            <a:chOff x="762120" y="304920"/>
            <a:chExt cx="7696080" cy="5486400"/>
          </a:xfrm>
        </p:grpSpPr>
        <p:sp>
          <p:nvSpPr>
            <p:cNvPr id="95" name=""/>
            <p:cNvSpPr/>
            <p:nvPr/>
          </p:nvSpPr>
          <p:spPr>
            <a:xfrm>
              <a:off x="762120" y="304920"/>
              <a:ext cx="5686200" cy="4047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22860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00880" y="5052960"/>
              <a:ext cx="4752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38840" y="4572000"/>
              <a:ext cx="295200" cy="20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05560" y="4405320"/>
              <a:ext cx="176400" cy="12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838080" y="228600"/>
            <a:ext cx="15242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3400" y="11448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o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E14-4AA0-4F8E-B21F-E08F74B8951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673C4-EB00-439A-A1AF-6024C56283E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tartfd4" descr="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704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3800" y="0"/>
            <a:ext cx="39632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igieren der Linienri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5791320"/>
            <a:ext cx="35812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 am Fass will star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s zum Wenden war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C77-FB28-402A-8200-2365119F371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3B0F9-BBFF-40BA-B2CE-9916FD70E2B7}" type="datetime1">
              <a:rPr lang="en-US"/>
              <a:t>07/31/26</a:t>
            </a:fld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133720"/>
            <a:ext cx="6324480" cy="83808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3800" y="0"/>
            <a:ext cx="39632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igieren der Linienri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657600"/>
            <a:ext cx="2286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nde block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9480"/>
            <a:ext cx="44197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 gleicht die Wendefreiheit aus, nimmt die Boje ein Stück vora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je1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11040" cy="430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1066680" y="3048120"/>
            <a:ext cx="6248520" cy="144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315200" y="1905120"/>
            <a:ext cx="695160" cy="1603080"/>
            <a:chOff x="7315200" y="1905120"/>
            <a:chExt cx="695160" cy="1603080"/>
          </a:xfrm>
        </p:grpSpPr>
        <p:pic>
          <p:nvPicPr>
            <p:cNvPr id="113" name="MoboSta1" descr=""/>
            <p:cNvPicPr/>
            <p:nvPr/>
          </p:nvPicPr>
          <p:blipFill>
            <a:blip r:embed="rId2"/>
            <a:stretch/>
          </p:blipFill>
          <p:spPr>
            <a:xfrm>
              <a:off x="7315200" y="1905120"/>
              <a:ext cx="695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flipV="1">
              <a:off x="7391520" y="2666520"/>
              <a:ext cx="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371600" y="1981080"/>
            <a:ext cx="2019240" cy="1536480"/>
            <a:chOff x="1371600" y="1981080"/>
            <a:chExt cx="2019240" cy="1536480"/>
          </a:xfrm>
        </p:grpSpPr>
        <p:pic>
          <p:nvPicPr>
            <p:cNvPr id="116" name="AW-Rot-B" descr=""/>
            <p:cNvPicPr/>
            <p:nvPr/>
          </p:nvPicPr>
          <p:blipFill>
            <a:blip r:embed="rId3"/>
            <a:stretch/>
          </p:blipFill>
          <p:spPr>
            <a:xfrm>
              <a:off x="1371600" y="2133360"/>
              <a:ext cx="8002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AW-Rot-B" descr=""/>
            <p:cNvPicPr/>
            <p:nvPr/>
          </p:nvPicPr>
          <p:blipFill>
            <a:blip r:embed="rId4"/>
            <a:stretch/>
          </p:blipFill>
          <p:spPr>
            <a:xfrm>
              <a:off x="1981080" y="2057040"/>
              <a:ext cx="800280" cy="13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AW-Rot-B" descr=""/>
            <p:cNvPicPr/>
            <p:nvPr/>
          </p:nvPicPr>
          <p:blipFill>
            <a:blip r:embed="rId5"/>
            <a:stretch/>
          </p:blipFill>
          <p:spPr>
            <a:xfrm>
              <a:off x="2590920" y="1981080"/>
              <a:ext cx="79992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5715000" y="3733920"/>
            <a:ext cx="29718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nde bald mögl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oje1" descr=""/>
          <p:cNvPicPr/>
          <p:nvPr/>
        </p:nvPicPr>
        <p:blipFill>
          <a:blip r:embed="rId6"/>
          <a:stretch/>
        </p:blipFill>
        <p:spPr>
          <a:xfrm>
            <a:off x="685800" y="1752480"/>
            <a:ext cx="311040" cy="4302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990720" y="1676520"/>
            <a:ext cx="2019240" cy="1536480"/>
            <a:chOff x="990720" y="1676520"/>
            <a:chExt cx="2019240" cy="1536480"/>
          </a:xfrm>
        </p:grpSpPr>
        <p:pic>
          <p:nvPicPr>
            <p:cNvPr id="122" name="AW-Rot-B" descr=""/>
            <p:cNvPicPr/>
            <p:nvPr/>
          </p:nvPicPr>
          <p:blipFill>
            <a:blip r:embed="rId7"/>
            <a:stretch/>
          </p:blipFill>
          <p:spPr>
            <a:xfrm>
              <a:off x="990720" y="1828800"/>
              <a:ext cx="8002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AW-Rot-B" descr=""/>
            <p:cNvPicPr/>
            <p:nvPr/>
          </p:nvPicPr>
          <p:blipFill>
            <a:blip r:embed="rId8"/>
            <a:stretch/>
          </p:blipFill>
          <p:spPr>
            <a:xfrm>
              <a:off x="1600200" y="1752480"/>
              <a:ext cx="800280" cy="13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AW-Rot-B" descr=""/>
            <p:cNvPicPr/>
            <p:nvPr/>
          </p:nvPicPr>
          <p:blipFill>
            <a:blip r:embed="rId9"/>
            <a:stretch/>
          </p:blipFill>
          <p:spPr>
            <a:xfrm>
              <a:off x="2210040" y="1676520"/>
              <a:ext cx="799920" cy="13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5334120" y="2209680"/>
            <a:ext cx="2019240" cy="1460520"/>
            <a:chOff x="5334120" y="2209680"/>
            <a:chExt cx="2019240" cy="1460520"/>
          </a:xfrm>
        </p:grpSpPr>
        <p:pic>
          <p:nvPicPr>
            <p:cNvPr id="126" name="AW-Rot-B" descr=""/>
            <p:cNvPicPr/>
            <p:nvPr/>
          </p:nvPicPr>
          <p:blipFill>
            <a:blip r:embed="rId10"/>
            <a:stretch/>
          </p:blipFill>
          <p:spPr>
            <a:xfrm>
              <a:off x="5943600" y="2209680"/>
              <a:ext cx="8002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AW-Rot-B" descr=""/>
            <p:cNvPicPr/>
            <p:nvPr/>
          </p:nvPicPr>
          <p:blipFill>
            <a:blip r:embed="rId11"/>
            <a:stretch/>
          </p:blipFill>
          <p:spPr>
            <a:xfrm>
              <a:off x="5334120" y="2285640"/>
              <a:ext cx="799920" cy="13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AW-Rot-B" descr=""/>
            <p:cNvPicPr/>
            <p:nvPr/>
          </p:nvPicPr>
          <p:blipFill>
            <a:blip r:embed="rId12"/>
            <a:stretch/>
          </p:blipFill>
          <p:spPr>
            <a:xfrm>
              <a:off x="6553080" y="2209680"/>
              <a:ext cx="800280" cy="13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5029200" y="1600200"/>
            <a:ext cx="2324160" cy="1841400"/>
            <a:chOff x="5029200" y="1600200"/>
            <a:chExt cx="2324160" cy="1841400"/>
          </a:xfrm>
        </p:grpSpPr>
        <p:pic>
          <p:nvPicPr>
            <p:cNvPr id="130" name="AW-Rot-B" descr=""/>
            <p:cNvPicPr/>
            <p:nvPr/>
          </p:nvPicPr>
          <p:blipFill>
            <a:blip r:embed="rId13"/>
            <a:stretch/>
          </p:blipFill>
          <p:spPr>
            <a:xfrm>
              <a:off x="5639040" y="1981080"/>
              <a:ext cx="79992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AW-Rot-B" descr=""/>
            <p:cNvPicPr/>
            <p:nvPr/>
          </p:nvPicPr>
          <p:blipFill>
            <a:blip r:embed="rId14"/>
            <a:stretch/>
          </p:blipFill>
          <p:spPr>
            <a:xfrm>
              <a:off x="5029200" y="2057400"/>
              <a:ext cx="8002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AWH-Rot-S" descr=""/>
            <p:cNvPicPr/>
            <p:nvPr/>
          </p:nvPicPr>
          <p:blipFill>
            <a:blip r:embed="rId15"/>
            <a:stretch/>
          </p:blipFill>
          <p:spPr>
            <a:xfrm>
              <a:off x="6553440" y="1600200"/>
              <a:ext cx="79992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 flipV="1">
            <a:off x="838080" y="2209680"/>
            <a:ext cx="1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343400"/>
            <a:ext cx="88390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Startlinienrichtung wird durch das Verhalten des Feldes bestimm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876920"/>
            <a:ext cx="883908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ängt das Groß des Feldes auf eine Seite, muss man rechtzeitig diese Seite verschlechtern oder die andere verbess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791320"/>
            <a:ext cx="59436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 das Feld gleichmäßig verteilt, kann man die Linie bela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730840"/>
            <a:ext cx="2666880" cy="825480"/>
          </a:xfrm>
          <a:prstGeom prst="wedgeRectCallout">
            <a:avLst>
              <a:gd name="adj1" fmla="val -17569"/>
              <a:gd name="adj2" fmla="val -109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ts vor dem Vorbereitungs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8560" y="533520"/>
            <a:ext cx="3296160" cy="459720"/>
          </a:xfrm>
          <a:prstGeom prst="wedgeRectCallout">
            <a:avLst>
              <a:gd name="adj1" fmla="val -118351"/>
              <a:gd name="adj2" fmla="val 80199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° (25 m bei 300m Lin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351-18B2-48CA-93D7-C32501F23B5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1C321-6FBA-47C5-A69D-6225C6A9CE6A}" type="datetime1">
              <a:rPr lang="en-US"/>
              <a:t>07/31/26</a:t>
            </a:fld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Ferngl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1567080" cy="1382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70720" y="0"/>
            <a:ext cx="21297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änge der Li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3124080"/>
            <a:ext cx="4038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der Faustform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 drehendem Wind kürz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 gleichmäßigem Wind lä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Boje1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311040" cy="4302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7543800" y="838080"/>
            <a:ext cx="695160" cy="1603440"/>
            <a:chOff x="7543800" y="838080"/>
            <a:chExt cx="695160" cy="1603440"/>
          </a:xfrm>
        </p:grpSpPr>
        <p:pic>
          <p:nvPicPr>
            <p:cNvPr id="145" name="MoboSta1" descr=""/>
            <p:cNvPicPr/>
            <p:nvPr/>
          </p:nvPicPr>
          <p:blipFill>
            <a:blip r:embed="rId3"/>
            <a:stretch/>
          </p:blipFill>
          <p:spPr>
            <a:xfrm>
              <a:off x="7543800" y="838080"/>
              <a:ext cx="69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flipV="1">
              <a:off x="7620120" y="16002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981080" y="1295280"/>
            <a:ext cx="5532480" cy="758880"/>
            <a:chOff x="1981080" y="1295280"/>
            <a:chExt cx="5532480" cy="758880"/>
          </a:xfrm>
        </p:grpSpPr>
        <p:pic>
          <p:nvPicPr>
            <p:cNvPr id="148" name="HW-Rot-B" descr=""/>
            <p:cNvPicPr/>
            <p:nvPr/>
          </p:nvPicPr>
          <p:blipFill>
            <a:blip r:embed="rId4"/>
            <a:stretch/>
          </p:blipFill>
          <p:spPr>
            <a:xfrm>
              <a:off x="70102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HW-Rot-B" descr=""/>
            <p:cNvPicPr/>
            <p:nvPr/>
          </p:nvPicPr>
          <p:blipFill>
            <a:blip r:embed="rId5"/>
            <a:stretch/>
          </p:blipFill>
          <p:spPr>
            <a:xfrm>
              <a:off x="65530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HW-Rot-B" descr=""/>
            <p:cNvPicPr/>
            <p:nvPr/>
          </p:nvPicPr>
          <p:blipFill>
            <a:blip r:embed="rId6"/>
            <a:stretch/>
          </p:blipFill>
          <p:spPr>
            <a:xfrm>
              <a:off x="60958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HW-Rot-B" descr=""/>
            <p:cNvPicPr/>
            <p:nvPr/>
          </p:nvPicPr>
          <p:blipFill>
            <a:blip r:embed="rId7"/>
            <a:stretch/>
          </p:blipFill>
          <p:spPr>
            <a:xfrm>
              <a:off x="56386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HW-Rot-B" descr=""/>
            <p:cNvPicPr/>
            <p:nvPr/>
          </p:nvPicPr>
          <p:blipFill>
            <a:blip r:embed="rId8"/>
            <a:stretch/>
          </p:blipFill>
          <p:spPr>
            <a:xfrm>
              <a:off x="51814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HW-Rot-B" descr=""/>
            <p:cNvPicPr/>
            <p:nvPr/>
          </p:nvPicPr>
          <p:blipFill>
            <a:blip r:embed="rId9"/>
            <a:stretch/>
          </p:blipFill>
          <p:spPr>
            <a:xfrm>
              <a:off x="47242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HW-Rot-B" descr=""/>
            <p:cNvPicPr/>
            <p:nvPr/>
          </p:nvPicPr>
          <p:blipFill>
            <a:blip r:embed="rId10"/>
            <a:stretch/>
          </p:blipFill>
          <p:spPr>
            <a:xfrm>
              <a:off x="42670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HW-Rot-B" descr=""/>
            <p:cNvPicPr/>
            <p:nvPr/>
          </p:nvPicPr>
          <p:blipFill>
            <a:blip r:embed="rId11"/>
            <a:stretch/>
          </p:blipFill>
          <p:spPr>
            <a:xfrm>
              <a:off x="38098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HW-Rot-B" descr=""/>
            <p:cNvPicPr/>
            <p:nvPr/>
          </p:nvPicPr>
          <p:blipFill>
            <a:blip r:embed="rId12"/>
            <a:stretch/>
          </p:blipFill>
          <p:spPr>
            <a:xfrm>
              <a:off x="33526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HW-Rot-B" descr=""/>
            <p:cNvPicPr/>
            <p:nvPr/>
          </p:nvPicPr>
          <p:blipFill>
            <a:blip r:embed="rId13"/>
            <a:stretch/>
          </p:blipFill>
          <p:spPr>
            <a:xfrm>
              <a:off x="28954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HW-Rot-B" descr=""/>
            <p:cNvPicPr/>
            <p:nvPr/>
          </p:nvPicPr>
          <p:blipFill>
            <a:blip r:embed="rId14"/>
            <a:stretch/>
          </p:blipFill>
          <p:spPr>
            <a:xfrm>
              <a:off x="24382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HW-Rot-B" descr=""/>
            <p:cNvPicPr/>
            <p:nvPr/>
          </p:nvPicPr>
          <p:blipFill>
            <a:blip r:embed="rId15"/>
            <a:stretch/>
          </p:blipFill>
          <p:spPr>
            <a:xfrm>
              <a:off x="1981080" y="1295280"/>
              <a:ext cx="503280" cy="75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 rot="16200000">
            <a:off x="4514760" y="-323640"/>
            <a:ext cx="495360" cy="5410080"/>
          </a:xfrm>
          <a:custGeom>
            <a:avLst/>
            <a:gdLst>
              <a:gd name="textAreaLeft" fmla="*/ 316440 w 495360"/>
              <a:gd name="textAreaRight" fmla="*/ 495720 w 495360"/>
              <a:gd name="textAreaTop" fmla="*/ 140760 h 5410080"/>
              <a:gd name="textAreaBottom" fmla="*/ 52693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39600" y="266688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hl der Boote mal Bootslä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314360" y="1733400"/>
            <a:ext cx="495360" cy="990720"/>
          </a:xfrm>
          <a:custGeom>
            <a:avLst/>
            <a:gdLst>
              <a:gd name="textAreaLeft" fmla="*/ 316440 w 495360"/>
              <a:gd name="textAreaRight" fmla="*/ 495720 w 4953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6880" y="27432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7320" y="5486400"/>
            <a:ext cx="35380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jenleger durchs Ferng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33520" y="3733920"/>
            <a:ext cx="3581280" cy="1676160"/>
            <a:chOff x="533520" y="3733920"/>
            <a:chExt cx="3581280" cy="1676160"/>
          </a:xfrm>
        </p:grpSpPr>
        <p:sp>
          <p:nvSpPr>
            <p:cNvPr id="166" name=""/>
            <p:cNvSpPr/>
            <p:nvPr/>
          </p:nvSpPr>
          <p:spPr>
            <a:xfrm>
              <a:off x="2438280" y="3733920"/>
              <a:ext cx="1676520" cy="167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Mobo01" descr=""/>
            <p:cNvPicPr/>
            <p:nvPr/>
          </p:nvPicPr>
          <p:blipFill>
            <a:blip r:embed="rId16"/>
            <a:stretch/>
          </p:blipFill>
          <p:spPr>
            <a:xfrm>
              <a:off x="2971800" y="4572000"/>
              <a:ext cx="60948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514600" y="4876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7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40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7180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812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195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668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339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8620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44840" y="4809960"/>
              <a:ext cx="153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   10  20  30  40  50  60  70  80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520" y="3733920"/>
              <a:ext cx="1676160" cy="167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Mobo01" descr=""/>
            <p:cNvPicPr/>
            <p:nvPr/>
          </p:nvPicPr>
          <p:blipFill>
            <a:blip r:embed="rId17"/>
            <a:stretch/>
          </p:blipFill>
          <p:spPr>
            <a:xfrm>
              <a:off x="1066680" y="4572000"/>
              <a:ext cx="60984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09480" y="48769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93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66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38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1440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880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810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720" y="4809960"/>
              <a:ext cx="153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   10  20  30  40  50  60  70  80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43400" y="5670720"/>
            <a:ext cx="426708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 der Länge des Bojenlegers und der Größe im Fernglas kann man die Distanz errech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52680"/>
            <a:ext cx="4800600" cy="3124440"/>
          </a:xfrm>
          <a:prstGeom prst="ellipse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295-21B9-4CC5-ABC7-FE5D50AFAD7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2FC08-2399-4AA2-AC71-ECD04CBAD7DB}" type="datetime1">
              <a:rPr lang="en-US"/>
              <a:t>07/31/26</a:t>
            </a:fld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Startk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109320" y="0"/>
            <a:ext cx="18615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kontro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57200"/>
            <a:ext cx="4673520" cy="1836360"/>
          </a:xfrm>
          <a:prstGeom prst="cloudCallout">
            <a:avLst>
              <a:gd name="adj1" fmla="val -13425"/>
              <a:gd name="adj2" fmla="val 19233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 sitz in der Peilung und habe exakte Zeit durch meine Funk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FB8-F41B-4854-86C9-772F2C75862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BE548-FF45-4C9E-AEE8-36E4CEDD7A68}" type="datetime1">
              <a:rPr lang="en-US"/>
              <a:t>07/31/26</a:t>
            </a:fld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11:56:45Z</dcterms:created>
  <dc:creator>Ulrich Finckh</dc:creator>
  <dc:description/>
  <dc:language>en-US</dc:language>
  <cp:lastModifiedBy>Ulrich Finckh</cp:lastModifiedBy>
  <cp:lastPrinted>2000-01-09T19:42:29Z</cp:lastPrinted>
  <dcterms:modified xsi:type="dcterms:W3CDTF">2000-03-14T12:38:51Z</dcterms:modified>
  <cp:revision>59</cp:revision>
  <dc:subject/>
  <dc:title>Kein Folientitel</dc:title>
</cp:coreProperties>
</file>