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1AE-A66E-4A9D-89BC-8C451DC2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2FD-14EB-4329-AA4E-526BD1F7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26E-E049-4E4C-9DBD-BD57B2E9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056-85BB-4168-B3E2-18336019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4A3-52C2-4806-8C80-2F672366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C13-4175-4A7D-AF76-04E221D3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94B-74CC-4811-BFC5-FFAA3009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09D-C87F-438F-AF85-6B4F41BE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D5B4-BBBC-4B7B-975E-0A9117FA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C4A-6452-4C01-AFA1-AB93ABEE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F87-67C0-4693-BF26-06F33309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E48-9906-4D47-B97C-2A45406B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6CEC-8FFF-41B2-931A-6372DD62E33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AE02-6BB8-4F98-9206-FD51EFEE8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tartfi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7400" y="0"/>
            <a:ext cx="464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Startverfahr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5 Minutenst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Eine Klas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80080" y="2895480"/>
            <a:ext cx="1290600" cy="470160"/>
          </a:xfrm>
          <a:prstGeom prst="cloudCallout">
            <a:avLst>
              <a:gd name="adj1" fmla="val -35666"/>
              <a:gd name="adj2" fmla="val 14862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et´s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547-D5DB-4488-9928-45C1A31D14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BFD7A-CD0C-49D9-80C7-DA18D74FD1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WL1Schiff" descr=""/>
          <p:cNvPicPr/>
          <p:nvPr/>
        </p:nvPicPr>
        <p:blipFill>
          <a:blip r:embed="rId1"/>
          <a:stretch/>
        </p:blipFill>
        <p:spPr>
          <a:xfrm>
            <a:off x="990720" y="587520"/>
            <a:ext cx="7162560" cy="6270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60240" y="76320"/>
            <a:ext cx="21664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mann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rompe1" descr=""/>
          <p:cNvPicPr/>
          <p:nvPr/>
        </p:nvPicPr>
        <p:blipFill>
          <a:blip r:embed="rId2"/>
          <a:stretch/>
        </p:blipFill>
        <p:spPr>
          <a:xfrm>
            <a:off x="5943600" y="4210200"/>
            <a:ext cx="11286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Kanon1" descr=""/>
          <p:cNvPicPr/>
          <p:nvPr/>
        </p:nvPicPr>
        <p:blipFill>
          <a:blip r:embed="rId3"/>
          <a:stretch/>
        </p:blipFill>
        <p:spPr>
          <a:xfrm>
            <a:off x="6800760" y="3943440"/>
            <a:ext cx="1287720" cy="20286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1905120" y="4419720"/>
            <a:ext cx="1371240" cy="1342800"/>
            <a:chOff x="1905120" y="4419720"/>
            <a:chExt cx="1371240" cy="1342800"/>
          </a:xfrm>
        </p:grpSpPr>
        <p:grpSp>
          <p:nvGrpSpPr>
            <p:cNvPr id="50" name=""/>
            <p:cNvGrpSpPr/>
            <p:nvPr/>
          </p:nvGrpSpPr>
          <p:grpSpPr>
            <a:xfrm>
              <a:off x="1905120" y="4419720"/>
              <a:ext cx="1371240" cy="1342800"/>
              <a:chOff x="1905120" y="4419720"/>
              <a:chExt cx="1371240" cy="134280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1905120" y="4419720"/>
                <a:ext cx="1371240" cy="1342800"/>
                <a:chOff x="1905120" y="4419720"/>
                <a:chExt cx="1371240" cy="134280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917720" y="4419720"/>
                  <a:ext cx="1358640" cy="1342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V="1">
                  <a:off x="2597400" y="5645880"/>
                  <a:ext cx="0" cy="116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H="1">
                  <a:off x="1905120" y="5093640"/>
                  <a:ext cx="180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H="1">
                  <a:off x="3114000" y="5086440"/>
                  <a:ext cx="159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2597400" y="4419720"/>
                  <a:ext cx="0" cy="155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flipV="1">
                  <a:off x="2231280" y="4518000"/>
                  <a:ext cx="64440" cy="109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H="1" flipV="1">
                  <a:off x="3101400" y="5357160"/>
                  <a:ext cx="93600" cy="5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 flipV="1">
                  <a:off x="2892960" y="5565600"/>
                  <a:ext cx="61560" cy="9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H="1">
                  <a:off x="1995120" y="5343840"/>
                  <a:ext cx="113040" cy="5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H="1">
                  <a:off x="2231640" y="5560560"/>
                  <a:ext cx="79920" cy="102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 flipV="1">
                  <a:off x="1996200" y="4788000"/>
                  <a:ext cx="104400" cy="49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H="1">
                  <a:off x="3088440" y="4755240"/>
                  <a:ext cx="9252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flipH="1">
                  <a:off x="2890440" y="4514400"/>
                  <a:ext cx="46080" cy="87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2527920" y="5028840"/>
                <a:ext cx="123120" cy="11664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338560" y="52592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0000"/>
                  </a:solidFill>
                  <a:latin typeface="Times New Roman"/>
                </a:rPr>
                <a:t>Se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flipV="1">
            <a:off x="2590920" y="4471560"/>
            <a:ext cx="0" cy="590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tarter5" descr=""/>
          <p:cNvPicPr/>
          <p:nvPr/>
        </p:nvPicPr>
        <p:blipFill>
          <a:blip r:embed="rId4"/>
          <a:stretch/>
        </p:blipFill>
        <p:spPr>
          <a:xfrm>
            <a:off x="4552920" y="4019400"/>
            <a:ext cx="1068480" cy="1906560"/>
          </a:xfrm>
          <a:prstGeom prst="rect">
            <a:avLst/>
          </a:prstGeom>
          <a:ln w="0">
            <a:noFill/>
          </a:ln>
        </p:spPr>
      </p:pic>
      <p:pic>
        <p:nvPicPr>
          <p:cNvPr id="69" name="Starter4" descr=""/>
          <p:cNvPicPr/>
          <p:nvPr/>
        </p:nvPicPr>
        <p:blipFill>
          <a:blip r:embed="rId5"/>
          <a:stretch/>
        </p:blipFill>
        <p:spPr>
          <a:xfrm>
            <a:off x="990720" y="4419720"/>
            <a:ext cx="1050840" cy="1589040"/>
          </a:xfrm>
          <a:prstGeom prst="rect">
            <a:avLst/>
          </a:prstGeom>
          <a:ln w="0">
            <a:noFill/>
          </a:ln>
        </p:spPr>
      </p:pic>
      <p:pic>
        <p:nvPicPr>
          <p:cNvPr id="70" name="Kontrob" descr=""/>
          <p:cNvPicPr/>
          <p:nvPr/>
        </p:nvPicPr>
        <p:blipFill>
          <a:blip r:embed="rId6"/>
          <a:stretch/>
        </p:blipFill>
        <p:spPr>
          <a:xfrm>
            <a:off x="2362320" y="609480"/>
            <a:ext cx="2681280" cy="2033640"/>
          </a:xfrm>
          <a:prstGeom prst="rect">
            <a:avLst/>
          </a:prstGeom>
          <a:ln w="0">
            <a:noFill/>
          </a:ln>
        </p:spPr>
      </p:pic>
      <p:pic>
        <p:nvPicPr>
          <p:cNvPr id="71" name="Starter1" descr=""/>
          <p:cNvPicPr/>
          <p:nvPr/>
        </p:nvPicPr>
        <p:blipFill>
          <a:blip r:embed="rId7"/>
          <a:stretch/>
        </p:blipFill>
        <p:spPr>
          <a:xfrm>
            <a:off x="3352680" y="4114800"/>
            <a:ext cx="1227240" cy="1909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4320" y="3657600"/>
            <a:ext cx="2233080" cy="402840"/>
          </a:xfrm>
          <a:prstGeom prst="wedgeRoundRectCallout">
            <a:avLst>
              <a:gd name="adj1" fmla="val 19435"/>
              <a:gd name="adj2" fmla="val 175800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 gebe die 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130480"/>
            <a:ext cx="2514600" cy="798120"/>
          </a:xfrm>
          <a:prstGeom prst="wedgeRoundRectCallout">
            <a:avLst>
              <a:gd name="adj1" fmla="val -32337"/>
              <a:gd name="adj2" fmla="val 230699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geben akustische Sig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93280" y="380880"/>
            <a:ext cx="2837160" cy="402840"/>
          </a:xfrm>
          <a:prstGeom prst="wedgeRoundRectCallout">
            <a:avLst>
              <a:gd name="adj1" fmla="val -70425"/>
              <a:gd name="adj2" fmla="val 859907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 ziehe die Fla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88040" y="3581280"/>
            <a:ext cx="1153440" cy="402840"/>
          </a:xfrm>
          <a:prstGeom prst="wedgeRoundRectCallout">
            <a:avLst>
              <a:gd name="adj1" fmla="val 53180"/>
              <a:gd name="adj2" fmla="val 169550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 p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209680"/>
            <a:ext cx="2919240" cy="798120"/>
          </a:xfrm>
          <a:prstGeom prst="wedgeRoundRectCallout">
            <a:avLst>
              <a:gd name="adj1" fmla="val 68430"/>
              <a:gd name="adj2" fmla="val -105453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 kontrolliere von der anderen S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DBC-B36F-4046-9CBD-C7A38AA77F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7F88E-39D1-4EDF-9738-A8FF622AA3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809880" y="3200400"/>
            <a:ext cx="1676520" cy="1219320"/>
            <a:chOff x="3809880" y="3200400"/>
            <a:chExt cx="1676520" cy="1219320"/>
          </a:xfrm>
        </p:grpSpPr>
        <p:sp>
          <p:nvSpPr>
            <p:cNvPr id="79" name=""/>
            <p:cNvSpPr/>
            <p:nvPr/>
          </p:nvSpPr>
          <p:spPr>
            <a:xfrm>
              <a:off x="3809880" y="3200400"/>
              <a:ext cx="1676520" cy="1219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9880" y="3200400"/>
              <a:ext cx="83808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7960" y="3809880"/>
              <a:ext cx="83844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809880" y="4419720"/>
            <a:ext cx="1676520" cy="1218960"/>
            <a:chOff x="3809880" y="4419720"/>
            <a:chExt cx="1676520" cy="1218960"/>
          </a:xfrm>
        </p:grpSpPr>
        <p:sp>
          <p:nvSpPr>
            <p:cNvPr id="83" name=""/>
            <p:cNvSpPr/>
            <p:nvPr/>
          </p:nvSpPr>
          <p:spPr>
            <a:xfrm>
              <a:off x="3809880" y="4419720"/>
              <a:ext cx="1676520" cy="1218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09880" y="4419720"/>
              <a:ext cx="838080" cy="609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47960" y="5028840"/>
              <a:ext cx="8384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WL1Schiff" descr=""/>
          <p:cNvPicPr/>
          <p:nvPr/>
        </p:nvPicPr>
        <p:blipFill>
          <a:blip r:embed="rId1"/>
          <a:stretch/>
        </p:blipFill>
        <p:spPr>
          <a:xfrm>
            <a:off x="990720" y="587520"/>
            <a:ext cx="7162560" cy="6270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502080" y="76320"/>
            <a:ext cx="1895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tzt gehts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Trompe1" descr=""/>
          <p:cNvPicPr/>
          <p:nvPr/>
        </p:nvPicPr>
        <p:blipFill>
          <a:blip r:embed="rId2"/>
          <a:stretch/>
        </p:blipFill>
        <p:spPr>
          <a:xfrm>
            <a:off x="5943600" y="4210200"/>
            <a:ext cx="112860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Kanon1" descr=""/>
          <p:cNvPicPr/>
          <p:nvPr/>
        </p:nvPicPr>
        <p:blipFill>
          <a:blip r:embed="rId3"/>
          <a:stretch/>
        </p:blipFill>
        <p:spPr>
          <a:xfrm>
            <a:off x="6800760" y="3943440"/>
            <a:ext cx="1287720" cy="202860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905120" y="4419720"/>
            <a:ext cx="1371240" cy="1342800"/>
            <a:chOff x="1905120" y="4419720"/>
            <a:chExt cx="1371240" cy="1342800"/>
          </a:xfrm>
        </p:grpSpPr>
        <p:grpSp>
          <p:nvGrpSpPr>
            <p:cNvPr id="91" name=""/>
            <p:cNvGrpSpPr/>
            <p:nvPr/>
          </p:nvGrpSpPr>
          <p:grpSpPr>
            <a:xfrm>
              <a:off x="1905120" y="4419720"/>
              <a:ext cx="1371240" cy="1342800"/>
              <a:chOff x="1905120" y="4419720"/>
              <a:chExt cx="1371240" cy="13428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1905120" y="4419720"/>
                <a:ext cx="1371240" cy="1342800"/>
                <a:chOff x="1905120" y="4419720"/>
                <a:chExt cx="1371240" cy="13428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917720" y="4419720"/>
                  <a:ext cx="1358640" cy="1342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V="1">
                  <a:off x="2597400" y="5645880"/>
                  <a:ext cx="0" cy="116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1905120" y="5093640"/>
                  <a:ext cx="180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>
                  <a:off x="3114000" y="5086440"/>
                  <a:ext cx="159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2597400" y="4419720"/>
                  <a:ext cx="0" cy="155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flipV="1">
                  <a:off x="2231280" y="4518000"/>
                  <a:ext cx="64440" cy="109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 flipV="1">
                  <a:off x="3101400" y="5357160"/>
                  <a:ext cx="93600" cy="5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2892960" y="5565600"/>
                  <a:ext cx="61560" cy="9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1995120" y="5343840"/>
                  <a:ext cx="113040" cy="5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2231640" y="5560560"/>
                  <a:ext cx="79920" cy="102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 flipV="1">
                  <a:off x="1996200" y="4788000"/>
                  <a:ext cx="104400" cy="49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>
                  <a:off x="3088440" y="4755240"/>
                  <a:ext cx="9252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2890440" y="4514400"/>
                  <a:ext cx="46080" cy="87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2527920" y="5028840"/>
                <a:ext cx="123120" cy="11664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338560" y="52592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0000"/>
                  </a:solidFill>
                  <a:latin typeface="Times New Roman"/>
                </a:rPr>
                <a:t>Se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81200" y="5076720"/>
            <a:ext cx="619200" cy="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0" y="5076720"/>
            <a:ext cx="561960" cy="309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5600" y="5081760"/>
            <a:ext cx="323640" cy="537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507672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271240" y="5067360"/>
            <a:ext cx="319320" cy="547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052720" y="5076720"/>
            <a:ext cx="528480" cy="290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000160" y="5081760"/>
            <a:ext cx="581040" cy="4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047680" y="4819680"/>
            <a:ext cx="533160" cy="247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271240" y="4590720"/>
            <a:ext cx="319320" cy="490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95600" y="4566960"/>
            <a:ext cx="314280" cy="514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600280" y="4785840"/>
            <a:ext cx="542880" cy="290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tarter5" descr=""/>
          <p:cNvPicPr/>
          <p:nvPr/>
        </p:nvPicPr>
        <p:blipFill>
          <a:blip r:embed="rId4"/>
          <a:stretch/>
        </p:blipFill>
        <p:spPr>
          <a:xfrm>
            <a:off x="4552920" y="4019400"/>
            <a:ext cx="1068480" cy="1906560"/>
          </a:xfrm>
          <a:prstGeom prst="rect">
            <a:avLst/>
          </a:prstGeom>
          <a:ln w="0">
            <a:noFill/>
          </a:ln>
        </p:spPr>
      </p:pic>
      <p:pic>
        <p:nvPicPr>
          <p:cNvPr id="120" name="Starter4" descr=""/>
          <p:cNvPicPr/>
          <p:nvPr/>
        </p:nvPicPr>
        <p:blipFill>
          <a:blip r:embed="rId5"/>
          <a:stretch/>
        </p:blipFill>
        <p:spPr>
          <a:xfrm>
            <a:off x="990720" y="4419720"/>
            <a:ext cx="1050840" cy="1589040"/>
          </a:xfrm>
          <a:prstGeom prst="rect">
            <a:avLst/>
          </a:prstGeom>
          <a:ln w="0">
            <a:noFill/>
          </a:ln>
        </p:spPr>
      </p:pic>
      <p:pic>
        <p:nvPicPr>
          <p:cNvPr id="121" name="Starter1" descr=""/>
          <p:cNvPicPr/>
          <p:nvPr/>
        </p:nvPicPr>
        <p:blipFill>
          <a:blip r:embed="rId6"/>
          <a:stretch/>
        </p:blipFill>
        <p:spPr>
          <a:xfrm>
            <a:off x="3352680" y="4114800"/>
            <a:ext cx="1227240" cy="1909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1828800"/>
            <a:ext cx="2971800" cy="1192680"/>
          </a:xfrm>
          <a:prstGeom prst="wedgeRoundRectCallout">
            <a:avLst>
              <a:gd name="adj1" fmla="val 953"/>
              <a:gd name="adj2" fmla="val 189013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letzte Minute bis zum Niederholen von L läu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09880" y="1981080"/>
            <a:ext cx="1676520" cy="1219320"/>
            <a:chOff x="3809880" y="1981080"/>
            <a:chExt cx="1676520" cy="1219320"/>
          </a:xfrm>
        </p:grpSpPr>
        <p:sp>
          <p:nvSpPr>
            <p:cNvPr id="124" name=""/>
            <p:cNvSpPr/>
            <p:nvPr/>
          </p:nvSpPr>
          <p:spPr>
            <a:xfrm>
              <a:off x="3809880" y="1981080"/>
              <a:ext cx="1676520" cy="1219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09880" y="1981080"/>
              <a:ext cx="83808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7960" y="2590560"/>
              <a:ext cx="83844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809880" y="762120"/>
            <a:ext cx="1676520" cy="1218960"/>
            <a:chOff x="3809880" y="762120"/>
            <a:chExt cx="1676520" cy="1218960"/>
          </a:xfrm>
        </p:grpSpPr>
        <p:sp>
          <p:nvSpPr>
            <p:cNvPr id="128" name=""/>
            <p:cNvSpPr/>
            <p:nvPr/>
          </p:nvSpPr>
          <p:spPr>
            <a:xfrm>
              <a:off x="3809880" y="762120"/>
              <a:ext cx="1676520" cy="1218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9880" y="762120"/>
              <a:ext cx="838080" cy="609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7960" y="1371240"/>
              <a:ext cx="8384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0" y="1828800"/>
            <a:ext cx="2971800" cy="1192680"/>
          </a:xfrm>
          <a:prstGeom prst="wedgeRoundRectCallout">
            <a:avLst>
              <a:gd name="adj1" fmla="val 953"/>
              <a:gd name="adj2" fmla="val 189013"/>
              <a:gd name="adj3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ch eine  Minute bis zum Ankündigung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90920" y="762120"/>
            <a:ext cx="5715000" cy="4300200"/>
            <a:chOff x="2590920" y="762120"/>
            <a:chExt cx="5715000" cy="4300200"/>
          </a:xfrm>
        </p:grpSpPr>
        <p:sp>
          <p:nvSpPr>
            <p:cNvPr id="133" name=""/>
            <p:cNvSpPr/>
            <p:nvPr/>
          </p:nvSpPr>
          <p:spPr>
            <a:xfrm>
              <a:off x="3809880" y="762120"/>
              <a:ext cx="1676520" cy="1218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590920" y="1371600"/>
              <a:ext cx="5715000" cy="3690720"/>
              <a:chOff x="2590920" y="1371600"/>
              <a:chExt cx="5715000" cy="3690720"/>
            </a:xfrm>
          </p:grpSpPr>
          <p:sp>
            <p:nvSpPr>
              <p:cNvPr id="135" name=""/>
              <p:cNvSpPr/>
              <p:nvPr/>
            </p:nvSpPr>
            <p:spPr>
              <a:xfrm flipV="1">
                <a:off x="2590920" y="4471560"/>
                <a:ext cx="0" cy="590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7280" y="1371600"/>
                <a:ext cx="2438640" cy="2209680"/>
              </a:xfrm>
              <a:prstGeom prst="wedgeEllipseCallout">
                <a:avLst>
                  <a:gd name="adj1" fmla="val -37305"/>
                  <a:gd name="adj2" fmla="val 93245"/>
                </a:avLst>
              </a:prstGeom>
              <a:solidFill>
                <a:srgbClr val="99cc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6477120" y="1905120"/>
                <a:ext cx="1143000" cy="1218600"/>
                <a:chOff x="6477120" y="1905120"/>
                <a:chExt cx="1143000" cy="12186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553440" y="2374920"/>
                  <a:ext cx="1066680" cy="609120"/>
                </a:xfrm>
                <a:custGeom>
                  <a:avLst/>
                  <a:gdLst/>
                  <a:ahLst/>
                  <a:rect l="l" t="t" r="r" b="b"/>
                  <a:pathLst>
                    <a:path w="672" h="384">
                      <a:moveTo>
                        <a:pt x="0" y="376"/>
                      </a:moveTo>
                      <a:cubicBezTo>
                        <a:pt x="80" y="380"/>
                        <a:pt x="160" y="384"/>
                        <a:pt x="240" y="328"/>
                      </a:cubicBezTo>
                      <a:cubicBezTo>
                        <a:pt x="320" y="272"/>
                        <a:pt x="408" y="80"/>
                        <a:pt x="480" y="40"/>
                      </a:cubicBezTo>
                      <a:cubicBezTo>
                        <a:pt x="552" y="0"/>
                        <a:pt x="640" y="80"/>
                        <a:pt x="672" y="88"/>
                      </a:cubicBezTo>
                    </a:path>
                  </a:pathLst>
                </a:custGeom>
                <a:noFill/>
                <a:ln w="936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477120" y="2286000"/>
                  <a:ext cx="1066680" cy="609120"/>
                </a:xfrm>
                <a:custGeom>
                  <a:avLst/>
                  <a:gdLst/>
                  <a:ahLst/>
                  <a:rect l="l" t="t" r="r" b="b"/>
                  <a:pathLst>
                    <a:path w="672" h="384">
                      <a:moveTo>
                        <a:pt x="0" y="376"/>
                      </a:moveTo>
                      <a:cubicBezTo>
                        <a:pt x="80" y="380"/>
                        <a:pt x="160" y="384"/>
                        <a:pt x="240" y="328"/>
                      </a:cubicBezTo>
                      <a:cubicBezTo>
                        <a:pt x="320" y="272"/>
                        <a:pt x="408" y="80"/>
                        <a:pt x="480" y="40"/>
                      </a:cubicBezTo>
                      <a:cubicBezTo>
                        <a:pt x="552" y="0"/>
                        <a:pt x="640" y="80"/>
                        <a:pt x="672" y="88"/>
                      </a:cubicBezTo>
                    </a:path>
                  </a:pathLst>
                </a:custGeom>
                <a:noFill/>
                <a:ln w="936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477120" y="2133360"/>
                  <a:ext cx="1066680" cy="609480"/>
                </a:xfrm>
                <a:custGeom>
                  <a:avLst/>
                  <a:gdLst/>
                  <a:ahLst/>
                  <a:rect l="l" t="t" r="r" b="b"/>
                  <a:pathLst>
                    <a:path w="672" h="384">
                      <a:moveTo>
                        <a:pt x="0" y="376"/>
                      </a:moveTo>
                      <a:cubicBezTo>
                        <a:pt x="80" y="380"/>
                        <a:pt x="160" y="384"/>
                        <a:pt x="240" y="328"/>
                      </a:cubicBezTo>
                      <a:cubicBezTo>
                        <a:pt x="320" y="272"/>
                        <a:pt x="408" y="80"/>
                        <a:pt x="480" y="40"/>
                      </a:cubicBezTo>
                      <a:cubicBezTo>
                        <a:pt x="552" y="0"/>
                        <a:pt x="640" y="80"/>
                        <a:pt x="672" y="88"/>
                      </a:cubicBezTo>
                    </a:path>
                  </a:pathLst>
                </a:custGeom>
                <a:noFill/>
                <a:ln w="936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858000" y="2819160"/>
                  <a:ext cx="152640" cy="7596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010640" y="243828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010640" y="2743200"/>
                  <a:ext cx="15228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162920" y="23619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162920" y="2514600"/>
                  <a:ext cx="152280" cy="756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315200" y="2133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53440" y="2514600"/>
                  <a:ext cx="1066680" cy="609120"/>
                </a:xfrm>
                <a:custGeom>
                  <a:avLst/>
                  <a:gdLst/>
                  <a:ahLst/>
                  <a:rect l="l" t="t" r="r" b="b"/>
                  <a:pathLst>
                    <a:path w="672" h="384">
                      <a:moveTo>
                        <a:pt x="0" y="376"/>
                      </a:moveTo>
                      <a:cubicBezTo>
                        <a:pt x="80" y="380"/>
                        <a:pt x="160" y="384"/>
                        <a:pt x="240" y="328"/>
                      </a:cubicBezTo>
                      <a:cubicBezTo>
                        <a:pt x="320" y="272"/>
                        <a:pt x="408" y="80"/>
                        <a:pt x="480" y="40"/>
                      </a:cubicBezTo>
                      <a:cubicBezTo>
                        <a:pt x="552" y="0"/>
                        <a:pt x="640" y="80"/>
                        <a:pt x="672" y="88"/>
                      </a:cubicBezTo>
                    </a:path>
                  </a:pathLst>
                </a:custGeom>
                <a:noFill/>
                <a:ln w="936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77120" y="1981080"/>
                  <a:ext cx="1066680" cy="609120"/>
                </a:xfrm>
                <a:custGeom>
                  <a:avLst/>
                  <a:gdLst/>
                  <a:ahLst/>
                  <a:rect l="l" t="t" r="r" b="b"/>
                  <a:pathLst>
                    <a:path w="672" h="384">
                      <a:moveTo>
                        <a:pt x="0" y="376"/>
                      </a:moveTo>
                      <a:cubicBezTo>
                        <a:pt x="80" y="380"/>
                        <a:pt x="160" y="384"/>
                        <a:pt x="240" y="328"/>
                      </a:cubicBezTo>
                      <a:cubicBezTo>
                        <a:pt x="320" y="272"/>
                        <a:pt x="408" y="80"/>
                        <a:pt x="480" y="40"/>
                      </a:cubicBezTo>
                      <a:cubicBezTo>
                        <a:pt x="552" y="0"/>
                        <a:pt x="640" y="80"/>
                        <a:pt x="672" y="88"/>
                      </a:cubicBezTo>
                    </a:path>
                  </a:pathLst>
                </a:custGeom>
                <a:noFill/>
                <a:ln w="936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391520" y="2286000"/>
                  <a:ext cx="15228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543800" y="190512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C6E-ADE0-4CC7-A5FF-68A3EC46881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4940D-49AD-46C8-94B6-0FD6ACBC38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L1Schiff" descr=""/>
          <p:cNvPicPr/>
          <p:nvPr/>
        </p:nvPicPr>
        <p:blipFill>
          <a:blip r:embed="rId1"/>
          <a:stretch/>
        </p:blipFill>
        <p:spPr>
          <a:xfrm>
            <a:off x="990720" y="587520"/>
            <a:ext cx="7162560" cy="6270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27800" y="76320"/>
            <a:ext cx="3256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Ankündigungs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Trompe1" descr=""/>
          <p:cNvPicPr/>
          <p:nvPr/>
        </p:nvPicPr>
        <p:blipFill>
          <a:blip r:embed="rId2"/>
          <a:stretch/>
        </p:blipFill>
        <p:spPr>
          <a:xfrm>
            <a:off x="5943600" y="4210200"/>
            <a:ext cx="112860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Kanon1" descr=""/>
          <p:cNvPicPr/>
          <p:nvPr/>
        </p:nvPicPr>
        <p:blipFill>
          <a:blip r:embed="rId3"/>
          <a:stretch/>
        </p:blipFill>
        <p:spPr>
          <a:xfrm>
            <a:off x="6800760" y="3943440"/>
            <a:ext cx="1287720" cy="202860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1905120" y="4419720"/>
            <a:ext cx="1371240" cy="1342800"/>
            <a:chOff x="1905120" y="4419720"/>
            <a:chExt cx="1371240" cy="1342800"/>
          </a:xfrm>
        </p:grpSpPr>
        <p:grpSp>
          <p:nvGrpSpPr>
            <p:cNvPr id="157" name=""/>
            <p:cNvGrpSpPr/>
            <p:nvPr/>
          </p:nvGrpSpPr>
          <p:grpSpPr>
            <a:xfrm>
              <a:off x="1905120" y="4419720"/>
              <a:ext cx="1371240" cy="1342800"/>
              <a:chOff x="1905120" y="4419720"/>
              <a:chExt cx="1371240" cy="13428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1905120" y="4419720"/>
                <a:ext cx="1371240" cy="1342800"/>
                <a:chOff x="1905120" y="4419720"/>
                <a:chExt cx="1371240" cy="13428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917720" y="4419720"/>
                  <a:ext cx="1358640" cy="1342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2597400" y="5645880"/>
                  <a:ext cx="0" cy="116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1905120" y="5093640"/>
                  <a:ext cx="180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3114000" y="5086440"/>
                  <a:ext cx="159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>
                  <a:off x="2597400" y="4419720"/>
                  <a:ext cx="0" cy="155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flipV="1">
                  <a:off x="2231280" y="4518000"/>
                  <a:ext cx="64440" cy="109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>
                  <a:off x="3101400" y="5357160"/>
                  <a:ext cx="93600" cy="5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>
                  <a:off x="2892960" y="5565600"/>
                  <a:ext cx="61560" cy="9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1995120" y="5343840"/>
                  <a:ext cx="113040" cy="5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2231640" y="5560560"/>
                  <a:ext cx="79920" cy="102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flipV="1">
                  <a:off x="1996200" y="4788000"/>
                  <a:ext cx="104400" cy="49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3088440" y="4755240"/>
                  <a:ext cx="9252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2890440" y="4514400"/>
                  <a:ext cx="46080" cy="87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2527920" y="5028840"/>
                <a:ext cx="123120" cy="11664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2338560" y="52592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0000"/>
                  </a:solidFill>
                  <a:latin typeface="Times New Roman"/>
                </a:rPr>
                <a:t>Se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581200" y="5076720"/>
            <a:ext cx="619200" cy="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81200" y="5076720"/>
            <a:ext cx="561960" cy="309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5600" y="5081760"/>
            <a:ext cx="323640" cy="537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507672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271240" y="5067360"/>
            <a:ext cx="319320" cy="547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052720" y="5076720"/>
            <a:ext cx="528480" cy="290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000160" y="5081760"/>
            <a:ext cx="581040" cy="4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047680" y="4819680"/>
            <a:ext cx="533160" cy="247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271240" y="4590720"/>
            <a:ext cx="319320" cy="490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595600" y="4566960"/>
            <a:ext cx="314280" cy="514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600280" y="4785840"/>
            <a:ext cx="542880" cy="290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114800" y="4191120"/>
            <a:ext cx="1371600" cy="914400"/>
            <a:chOff x="4114800" y="4191120"/>
            <a:chExt cx="1371600" cy="914400"/>
          </a:xfrm>
        </p:grpSpPr>
        <p:sp>
          <p:nvSpPr>
            <p:cNvPr id="186" name=""/>
            <p:cNvSpPr/>
            <p:nvPr/>
          </p:nvSpPr>
          <p:spPr>
            <a:xfrm>
              <a:off x="4114800" y="4191120"/>
              <a:ext cx="13716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14800" y="4191120"/>
              <a:ext cx="1371600" cy="914400"/>
            </a:xfrm>
            <a:custGeom>
              <a:avLst/>
              <a:gdLst/>
              <a:ahLst/>
              <a:rect l="l" t="t" r="r" b="b"/>
              <a:pathLst>
                <a:path w="864" h="576">
                  <a:moveTo>
                    <a:pt x="0" y="0"/>
                  </a:moveTo>
                  <a:lnTo>
                    <a:pt x="0" y="576"/>
                  </a:lnTo>
                  <a:lnTo>
                    <a:pt x="8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14800" y="3962520"/>
            <a:ext cx="1371600" cy="914400"/>
            <a:chOff x="4114800" y="3962520"/>
            <a:chExt cx="1371600" cy="914400"/>
          </a:xfrm>
        </p:grpSpPr>
        <p:sp>
          <p:nvSpPr>
            <p:cNvPr id="189" name=""/>
            <p:cNvSpPr/>
            <p:nvPr/>
          </p:nvSpPr>
          <p:spPr>
            <a:xfrm>
              <a:off x="4114800" y="3962520"/>
              <a:ext cx="1371600" cy="91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724280" y="4057920"/>
              <a:ext cx="393840" cy="690480"/>
            </a:xfrm>
            <a:custGeom>
              <a:avLst/>
              <a:gdLst/>
              <a:ahLst/>
              <a:rect l="l" t="t" r="r" b="b"/>
              <a:pathLst>
                <a:path w="248" h="435">
                  <a:moveTo>
                    <a:pt x="248" y="6"/>
                  </a:moveTo>
                  <a:cubicBezTo>
                    <a:pt x="248" y="231"/>
                    <a:pt x="248" y="163"/>
                    <a:pt x="248" y="234"/>
                  </a:cubicBezTo>
                  <a:cubicBezTo>
                    <a:pt x="248" y="305"/>
                    <a:pt x="248" y="237"/>
                    <a:pt x="248" y="432"/>
                  </a:cubicBezTo>
                  <a:cubicBezTo>
                    <a:pt x="170" y="435"/>
                    <a:pt x="118" y="420"/>
                    <a:pt x="77" y="387"/>
                  </a:cubicBezTo>
                  <a:cubicBezTo>
                    <a:pt x="36" y="354"/>
                    <a:pt x="0" y="290"/>
                    <a:pt x="2" y="234"/>
                  </a:cubicBezTo>
                  <a:cubicBezTo>
                    <a:pt x="3" y="179"/>
                    <a:pt x="14" y="102"/>
                    <a:pt x="86" y="51"/>
                  </a:cubicBezTo>
                  <a:cubicBezTo>
                    <a:pt x="158" y="0"/>
                    <a:pt x="167" y="9"/>
                    <a:pt x="248" y="6"/>
                  </a:cubicBez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1" name="Starter5" descr=""/>
          <p:cNvPicPr/>
          <p:nvPr/>
        </p:nvPicPr>
        <p:blipFill>
          <a:blip r:embed="rId4"/>
          <a:stretch/>
        </p:blipFill>
        <p:spPr>
          <a:xfrm>
            <a:off x="4572000" y="4038480"/>
            <a:ext cx="1068480" cy="1906560"/>
          </a:xfrm>
          <a:prstGeom prst="rect">
            <a:avLst/>
          </a:prstGeom>
          <a:ln w="0">
            <a:noFill/>
          </a:ln>
        </p:spPr>
      </p:pic>
      <p:pic>
        <p:nvPicPr>
          <p:cNvPr id="192" name="Starter4" descr=""/>
          <p:cNvPicPr/>
          <p:nvPr/>
        </p:nvPicPr>
        <p:blipFill>
          <a:blip r:embed="rId5"/>
          <a:stretch/>
        </p:blipFill>
        <p:spPr>
          <a:xfrm>
            <a:off x="990720" y="4419720"/>
            <a:ext cx="1050840" cy="1589040"/>
          </a:xfrm>
          <a:prstGeom prst="rect">
            <a:avLst/>
          </a:prstGeom>
          <a:ln w="0">
            <a:noFill/>
          </a:ln>
        </p:spPr>
      </p:pic>
      <p:pic>
        <p:nvPicPr>
          <p:cNvPr id="193" name="Starter1" descr=""/>
          <p:cNvPicPr/>
          <p:nvPr/>
        </p:nvPicPr>
        <p:blipFill>
          <a:blip r:embed="rId6"/>
          <a:stretch/>
        </p:blipFill>
        <p:spPr>
          <a:xfrm>
            <a:off x="3352680" y="4114800"/>
            <a:ext cx="1227240" cy="1909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828800"/>
            <a:ext cx="2971800" cy="1192680"/>
          </a:xfrm>
          <a:prstGeom prst="wedgeRoundRectCallout">
            <a:avLst>
              <a:gd name="adj1" fmla="val 953"/>
              <a:gd name="adj2" fmla="val 189013"/>
              <a:gd name="adj3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tzte  Minute bis zum Ankündigung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gnal läu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114800" y="685800"/>
            <a:ext cx="1371600" cy="914400"/>
            <a:chOff x="4114800" y="685800"/>
            <a:chExt cx="1371600" cy="914400"/>
          </a:xfrm>
        </p:grpSpPr>
        <p:sp>
          <p:nvSpPr>
            <p:cNvPr id="196" name=""/>
            <p:cNvSpPr/>
            <p:nvPr/>
          </p:nvSpPr>
          <p:spPr>
            <a:xfrm>
              <a:off x="4114800" y="685800"/>
              <a:ext cx="13716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14800" y="685800"/>
              <a:ext cx="1371600" cy="914400"/>
            </a:xfrm>
            <a:custGeom>
              <a:avLst/>
              <a:gdLst/>
              <a:ahLst/>
              <a:rect l="l" t="t" r="r" b="b"/>
              <a:pathLst>
                <a:path w="864" h="576">
                  <a:moveTo>
                    <a:pt x="0" y="0"/>
                  </a:moveTo>
                  <a:lnTo>
                    <a:pt x="0" y="576"/>
                  </a:lnTo>
                  <a:lnTo>
                    <a:pt x="8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114800" y="1752480"/>
            <a:ext cx="1371600" cy="914400"/>
            <a:chOff x="4114800" y="1752480"/>
            <a:chExt cx="1371600" cy="914400"/>
          </a:xfrm>
        </p:grpSpPr>
        <p:sp>
          <p:nvSpPr>
            <p:cNvPr id="199" name=""/>
            <p:cNvSpPr/>
            <p:nvPr/>
          </p:nvSpPr>
          <p:spPr>
            <a:xfrm>
              <a:off x="4114800" y="1752480"/>
              <a:ext cx="13716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14800" y="1752480"/>
              <a:ext cx="1371600" cy="914400"/>
            </a:xfrm>
            <a:custGeom>
              <a:avLst/>
              <a:gdLst/>
              <a:ahLst/>
              <a:rect l="l" t="t" r="r" b="b"/>
              <a:pathLst>
                <a:path w="864" h="576">
                  <a:moveTo>
                    <a:pt x="0" y="0"/>
                  </a:moveTo>
                  <a:lnTo>
                    <a:pt x="0" y="576"/>
                  </a:lnTo>
                  <a:lnTo>
                    <a:pt x="8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590920" y="609480"/>
            <a:ext cx="6553080" cy="4452840"/>
            <a:chOff x="2590920" y="609480"/>
            <a:chExt cx="6553080" cy="4452840"/>
          </a:xfrm>
        </p:grpSpPr>
        <p:grpSp>
          <p:nvGrpSpPr>
            <p:cNvPr id="202" name=""/>
            <p:cNvGrpSpPr/>
            <p:nvPr/>
          </p:nvGrpSpPr>
          <p:grpSpPr>
            <a:xfrm>
              <a:off x="4114800" y="1752480"/>
              <a:ext cx="1371600" cy="914400"/>
              <a:chOff x="4114800" y="1752480"/>
              <a:chExt cx="1371600" cy="914400"/>
            </a:xfrm>
          </p:grpSpPr>
          <p:sp>
            <p:nvSpPr>
              <p:cNvPr id="203" name=""/>
              <p:cNvSpPr/>
              <p:nvPr/>
            </p:nvSpPr>
            <p:spPr>
              <a:xfrm>
                <a:off x="4114800" y="1752480"/>
                <a:ext cx="1371600" cy="9144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4666680" y="1847880"/>
                <a:ext cx="393480" cy="690480"/>
              </a:xfrm>
              <a:custGeom>
                <a:avLst/>
                <a:gdLst/>
                <a:ahLst/>
                <a:rect l="l" t="t" r="r" b="b"/>
                <a:pathLst>
                  <a:path w="248" h="435">
                    <a:moveTo>
                      <a:pt x="248" y="6"/>
                    </a:moveTo>
                    <a:cubicBezTo>
                      <a:pt x="248" y="231"/>
                      <a:pt x="248" y="163"/>
                      <a:pt x="248" y="234"/>
                    </a:cubicBezTo>
                    <a:cubicBezTo>
                      <a:pt x="248" y="305"/>
                      <a:pt x="248" y="237"/>
                      <a:pt x="248" y="432"/>
                    </a:cubicBezTo>
                    <a:cubicBezTo>
                      <a:pt x="170" y="435"/>
                      <a:pt x="118" y="420"/>
                      <a:pt x="77" y="387"/>
                    </a:cubicBezTo>
                    <a:cubicBezTo>
                      <a:pt x="36" y="354"/>
                      <a:pt x="0" y="290"/>
                      <a:pt x="2" y="234"/>
                    </a:cubicBezTo>
                    <a:cubicBezTo>
                      <a:pt x="3" y="179"/>
                      <a:pt x="14" y="102"/>
                      <a:pt x="86" y="51"/>
                    </a:cubicBezTo>
                    <a:cubicBezTo>
                      <a:pt x="158" y="0"/>
                      <a:pt x="167" y="9"/>
                      <a:pt x="248" y="6"/>
                    </a:cubicBezTo>
                    <a:close/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590920" y="609480"/>
              <a:ext cx="6553080" cy="4452840"/>
              <a:chOff x="2590920" y="609480"/>
              <a:chExt cx="6553080" cy="445284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2590920" y="4471560"/>
                <a:ext cx="0" cy="590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7162920" y="609480"/>
                <a:ext cx="1981080" cy="3581640"/>
                <a:chOff x="7162920" y="609480"/>
                <a:chExt cx="1981080" cy="358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162920" y="609480"/>
                  <a:ext cx="1981080" cy="3581640"/>
                </a:xfrm>
                <a:prstGeom prst="irregularSeal1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391520" y="1066680"/>
                  <a:ext cx="1523880" cy="266724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0" name=""/>
          <p:cNvGrpSpPr/>
          <p:nvPr/>
        </p:nvGrpSpPr>
        <p:grpSpPr>
          <a:xfrm>
            <a:off x="4114800" y="2819520"/>
            <a:ext cx="1371600" cy="914400"/>
            <a:chOff x="4114800" y="2819520"/>
            <a:chExt cx="1371600" cy="914400"/>
          </a:xfrm>
        </p:grpSpPr>
        <p:sp>
          <p:nvSpPr>
            <p:cNvPr id="211" name=""/>
            <p:cNvSpPr/>
            <p:nvPr/>
          </p:nvSpPr>
          <p:spPr>
            <a:xfrm>
              <a:off x="4114800" y="2819520"/>
              <a:ext cx="13716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2819520"/>
              <a:ext cx="1371600" cy="914400"/>
            </a:xfrm>
            <a:custGeom>
              <a:avLst/>
              <a:gdLst/>
              <a:ahLst/>
              <a:rect l="l" t="t" r="r" b="b"/>
              <a:pathLst>
                <a:path w="864" h="576">
                  <a:moveTo>
                    <a:pt x="0" y="0"/>
                  </a:moveTo>
                  <a:lnTo>
                    <a:pt x="0" y="576"/>
                  </a:lnTo>
                  <a:lnTo>
                    <a:pt x="8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114800" y="2819520"/>
            <a:ext cx="1371600" cy="914400"/>
            <a:chOff x="4114800" y="2819520"/>
            <a:chExt cx="1371600" cy="914400"/>
          </a:xfrm>
        </p:grpSpPr>
        <p:sp>
          <p:nvSpPr>
            <p:cNvPr id="214" name=""/>
            <p:cNvSpPr/>
            <p:nvPr/>
          </p:nvSpPr>
          <p:spPr>
            <a:xfrm>
              <a:off x="4114800" y="2819520"/>
              <a:ext cx="1371600" cy="91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724280" y="2914920"/>
              <a:ext cx="393840" cy="690480"/>
            </a:xfrm>
            <a:custGeom>
              <a:avLst/>
              <a:gdLst/>
              <a:ahLst/>
              <a:rect l="l" t="t" r="r" b="b"/>
              <a:pathLst>
                <a:path w="248" h="435">
                  <a:moveTo>
                    <a:pt x="248" y="6"/>
                  </a:moveTo>
                  <a:cubicBezTo>
                    <a:pt x="248" y="231"/>
                    <a:pt x="248" y="163"/>
                    <a:pt x="248" y="234"/>
                  </a:cubicBezTo>
                  <a:cubicBezTo>
                    <a:pt x="248" y="305"/>
                    <a:pt x="248" y="237"/>
                    <a:pt x="248" y="432"/>
                  </a:cubicBezTo>
                  <a:cubicBezTo>
                    <a:pt x="170" y="435"/>
                    <a:pt x="118" y="420"/>
                    <a:pt x="77" y="387"/>
                  </a:cubicBezTo>
                  <a:cubicBezTo>
                    <a:pt x="36" y="354"/>
                    <a:pt x="0" y="290"/>
                    <a:pt x="2" y="234"/>
                  </a:cubicBezTo>
                  <a:cubicBezTo>
                    <a:pt x="3" y="179"/>
                    <a:pt x="14" y="102"/>
                    <a:pt x="86" y="51"/>
                  </a:cubicBezTo>
                  <a:cubicBezTo>
                    <a:pt x="158" y="0"/>
                    <a:pt x="167" y="9"/>
                    <a:pt x="248" y="6"/>
                  </a:cubicBez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0" y="1828800"/>
            <a:ext cx="2971800" cy="1192680"/>
          </a:xfrm>
          <a:prstGeom prst="wedgeRoundRectCallout">
            <a:avLst>
              <a:gd name="adj1" fmla="val 953"/>
              <a:gd name="adj2" fmla="val 190611"/>
              <a:gd name="adj3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ch eine  Minute bis zum Vorbereitung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85800"/>
            <a:ext cx="3581280" cy="824760"/>
          </a:xfrm>
          <a:prstGeom prst="wedgeRectCallout">
            <a:avLst>
              <a:gd name="adj1" fmla="val 62620"/>
              <a:gd name="adj2" fmla="val 2356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hnanzeige spätestens mit dem Ankündigungs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2666880"/>
            <a:ext cx="25905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huss und Flagge müssen zeitgleich k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CEF-A1BB-43D8-BFD9-213CBE5C98F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58BCE-D19F-422E-8038-F8523A0771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WL1Schiff" descr=""/>
          <p:cNvPicPr/>
          <p:nvPr/>
        </p:nvPicPr>
        <p:blipFill>
          <a:blip r:embed="rId1"/>
          <a:stretch/>
        </p:blipFill>
        <p:spPr>
          <a:xfrm>
            <a:off x="990720" y="587520"/>
            <a:ext cx="7162560" cy="6270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854800" y="76320"/>
            <a:ext cx="32072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Vorbereitungs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Trompe1" descr=""/>
          <p:cNvPicPr/>
          <p:nvPr/>
        </p:nvPicPr>
        <p:blipFill>
          <a:blip r:embed="rId2"/>
          <a:stretch/>
        </p:blipFill>
        <p:spPr>
          <a:xfrm>
            <a:off x="5943600" y="4210200"/>
            <a:ext cx="112860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Kanon1" descr=""/>
          <p:cNvPicPr/>
          <p:nvPr/>
        </p:nvPicPr>
        <p:blipFill>
          <a:blip r:embed="rId3"/>
          <a:stretch/>
        </p:blipFill>
        <p:spPr>
          <a:xfrm>
            <a:off x="6800760" y="3943440"/>
            <a:ext cx="1287720" cy="202860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1905120" y="4419720"/>
            <a:ext cx="1371240" cy="1342800"/>
            <a:chOff x="1905120" y="4419720"/>
            <a:chExt cx="1371240" cy="1342800"/>
          </a:xfrm>
        </p:grpSpPr>
        <p:grpSp>
          <p:nvGrpSpPr>
            <p:cNvPr id="225" name=""/>
            <p:cNvGrpSpPr/>
            <p:nvPr/>
          </p:nvGrpSpPr>
          <p:grpSpPr>
            <a:xfrm>
              <a:off x="1905120" y="4419720"/>
              <a:ext cx="1371240" cy="1342800"/>
              <a:chOff x="1905120" y="4419720"/>
              <a:chExt cx="1371240" cy="134280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1905120" y="4419720"/>
                <a:ext cx="1371240" cy="1342800"/>
                <a:chOff x="1905120" y="4419720"/>
                <a:chExt cx="1371240" cy="13428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917720" y="4419720"/>
                  <a:ext cx="1358640" cy="1342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2597400" y="5645880"/>
                  <a:ext cx="0" cy="116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1905120" y="5093640"/>
                  <a:ext cx="180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3114000" y="5086440"/>
                  <a:ext cx="159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2597400" y="4419720"/>
                  <a:ext cx="0" cy="155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 flipV="1">
                  <a:off x="2231280" y="4518000"/>
                  <a:ext cx="64440" cy="109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>
                  <a:off x="3101400" y="5357160"/>
                  <a:ext cx="93600" cy="5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>
                  <a:off x="2892960" y="5565600"/>
                  <a:ext cx="61560" cy="9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1995120" y="5343840"/>
                  <a:ext cx="113040" cy="5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2231640" y="5560560"/>
                  <a:ext cx="79920" cy="102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flipV="1">
                  <a:off x="1996200" y="4788000"/>
                  <a:ext cx="104400" cy="49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3088440" y="4755240"/>
                  <a:ext cx="9252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2890440" y="4514400"/>
                  <a:ext cx="46080" cy="87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2527920" y="5028840"/>
                <a:ext cx="123120" cy="11664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338560" y="52592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0000"/>
                  </a:solidFill>
                  <a:latin typeface="Times New Roman"/>
                </a:rPr>
                <a:t>Se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2581200" y="5076720"/>
            <a:ext cx="619200" cy="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1200" y="5076720"/>
            <a:ext cx="561960" cy="309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5600" y="5081760"/>
            <a:ext cx="323640" cy="537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507672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271240" y="5067360"/>
            <a:ext cx="319320" cy="547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052720" y="5076720"/>
            <a:ext cx="528480" cy="290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000160" y="5081760"/>
            <a:ext cx="581040" cy="4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047680" y="4819680"/>
            <a:ext cx="533160" cy="247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2271240" y="4590720"/>
            <a:ext cx="319320" cy="490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595600" y="4566960"/>
            <a:ext cx="314280" cy="514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600280" y="4785840"/>
            <a:ext cx="542880" cy="290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114800" y="3505320"/>
            <a:ext cx="1371600" cy="838080"/>
            <a:chOff x="4114800" y="3505320"/>
            <a:chExt cx="1371600" cy="838080"/>
          </a:xfrm>
        </p:grpSpPr>
        <p:sp>
          <p:nvSpPr>
            <p:cNvPr id="254" name=""/>
            <p:cNvSpPr/>
            <p:nvPr/>
          </p:nvSpPr>
          <p:spPr>
            <a:xfrm>
              <a:off x="4114800" y="3505320"/>
              <a:ext cx="13716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91080" y="3676680"/>
              <a:ext cx="457200" cy="456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114800" y="4343400"/>
            <a:ext cx="1371600" cy="838080"/>
            <a:chOff x="4114800" y="4343400"/>
            <a:chExt cx="1371600" cy="838080"/>
          </a:xfrm>
        </p:grpSpPr>
        <p:sp>
          <p:nvSpPr>
            <p:cNvPr id="257" name=""/>
            <p:cNvSpPr/>
            <p:nvPr/>
          </p:nvSpPr>
          <p:spPr>
            <a:xfrm>
              <a:off x="4114800" y="4343400"/>
              <a:ext cx="13716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91080" y="4514760"/>
              <a:ext cx="457200" cy="456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9" name="Starter5" descr=""/>
          <p:cNvPicPr/>
          <p:nvPr/>
        </p:nvPicPr>
        <p:blipFill>
          <a:blip r:embed="rId4"/>
          <a:stretch/>
        </p:blipFill>
        <p:spPr>
          <a:xfrm>
            <a:off x="4572000" y="4038480"/>
            <a:ext cx="1068480" cy="1906560"/>
          </a:xfrm>
          <a:prstGeom prst="rect">
            <a:avLst/>
          </a:prstGeom>
          <a:ln w="0">
            <a:noFill/>
          </a:ln>
        </p:spPr>
      </p:pic>
      <p:pic>
        <p:nvPicPr>
          <p:cNvPr id="260" name="Starter4" descr=""/>
          <p:cNvPicPr/>
          <p:nvPr/>
        </p:nvPicPr>
        <p:blipFill>
          <a:blip r:embed="rId5"/>
          <a:stretch/>
        </p:blipFill>
        <p:spPr>
          <a:xfrm>
            <a:off x="990720" y="4419720"/>
            <a:ext cx="1050840" cy="1589040"/>
          </a:xfrm>
          <a:prstGeom prst="rect">
            <a:avLst/>
          </a:prstGeom>
          <a:ln w="0">
            <a:noFill/>
          </a:ln>
        </p:spPr>
      </p:pic>
      <p:pic>
        <p:nvPicPr>
          <p:cNvPr id="261" name="Starter1" descr=""/>
          <p:cNvPicPr/>
          <p:nvPr/>
        </p:nvPicPr>
        <p:blipFill>
          <a:blip r:embed="rId6"/>
          <a:stretch/>
        </p:blipFill>
        <p:spPr>
          <a:xfrm>
            <a:off x="3352680" y="4114800"/>
            <a:ext cx="1227240" cy="1909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0" y="1828800"/>
            <a:ext cx="2971800" cy="1192680"/>
          </a:xfrm>
          <a:prstGeom prst="wedgeRoundRectCallout">
            <a:avLst>
              <a:gd name="adj1" fmla="val 953"/>
              <a:gd name="adj2" fmla="val 189013"/>
              <a:gd name="adj3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tzte  Minute bis zum Vorbereitung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gnal läu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114800" y="685800"/>
            <a:ext cx="1371600" cy="914400"/>
            <a:chOff x="4114800" y="685800"/>
            <a:chExt cx="1371600" cy="914400"/>
          </a:xfrm>
        </p:grpSpPr>
        <p:sp>
          <p:nvSpPr>
            <p:cNvPr id="264" name=""/>
            <p:cNvSpPr/>
            <p:nvPr/>
          </p:nvSpPr>
          <p:spPr>
            <a:xfrm>
              <a:off x="4114800" y="685800"/>
              <a:ext cx="13716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14800" y="685800"/>
              <a:ext cx="1371600" cy="914400"/>
            </a:xfrm>
            <a:custGeom>
              <a:avLst/>
              <a:gdLst/>
              <a:ahLst/>
              <a:rect l="l" t="t" r="r" b="b"/>
              <a:pathLst>
                <a:path w="864" h="576">
                  <a:moveTo>
                    <a:pt x="0" y="0"/>
                  </a:moveTo>
                  <a:lnTo>
                    <a:pt x="0" y="576"/>
                  </a:lnTo>
                  <a:lnTo>
                    <a:pt x="8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114800" y="1676520"/>
            <a:ext cx="1371600" cy="914400"/>
            <a:chOff x="4114800" y="1676520"/>
            <a:chExt cx="1371600" cy="914400"/>
          </a:xfrm>
        </p:grpSpPr>
        <p:sp>
          <p:nvSpPr>
            <p:cNvPr id="267" name=""/>
            <p:cNvSpPr/>
            <p:nvPr/>
          </p:nvSpPr>
          <p:spPr>
            <a:xfrm>
              <a:off x="4114800" y="1676520"/>
              <a:ext cx="1371600" cy="91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647600" y="1771560"/>
              <a:ext cx="393480" cy="690480"/>
            </a:xfrm>
            <a:custGeom>
              <a:avLst/>
              <a:gdLst/>
              <a:ahLst/>
              <a:rect l="l" t="t" r="r" b="b"/>
              <a:pathLst>
                <a:path w="248" h="435">
                  <a:moveTo>
                    <a:pt x="248" y="6"/>
                  </a:moveTo>
                  <a:cubicBezTo>
                    <a:pt x="248" y="231"/>
                    <a:pt x="248" y="163"/>
                    <a:pt x="248" y="234"/>
                  </a:cubicBezTo>
                  <a:cubicBezTo>
                    <a:pt x="248" y="305"/>
                    <a:pt x="248" y="237"/>
                    <a:pt x="248" y="432"/>
                  </a:cubicBezTo>
                  <a:cubicBezTo>
                    <a:pt x="170" y="435"/>
                    <a:pt x="118" y="420"/>
                    <a:pt x="77" y="387"/>
                  </a:cubicBezTo>
                  <a:cubicBezTo>
                    <a:pt x="36" y="354"/>
                    <a:pt x="0" y="290"/>
                    <a:pt x="2" y="234"/>
                  </a:cubicBezTo>
                  <a:cubicBezTo>
                    <a:pt x="3" y="179"/>
                    <a:pt x="14" y="102"/>
                    <a:pt x="86" y="51"/>
                  </a:cubicBezTo>
                  <a:cubicBezTo>
                    <a:pt x="158" y="0"/>
                    <a:pt x="167" y="9"/>
                    <a:pt x="248" y="6"/>
                  </a:cubicBez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0" y="1828800"/>
            <a:ext cx="2971800" cy="1192680"/>
          </a:xfrm>
          <a:prstGeom prst="wedgeRoundRectCallout">
            <a:avLst>
              <a:gd name="adj1" fmla="val 953"/>
              <a:gd name="adj2" fmla="val 190611"/>
              <a:gd name="adj3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ch 3  Minuten bis zum 1-Minute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91320" y="1295280"/>
            <a:ext cx="16002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huss und Flagge müssen zeitgleich k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90920" y="609480"/>
            <a:ext cx="6553080" cy="4452840"/>
            <a:chOff x="2590920" y="609480"/>
            <a:chExt cx="6553080" cy="4452840"/>
          </a:xfrm>
        </p:grpSpPr>
        <p:grpSp>
          <p:nvGrpSpPr>
            <p:cNvPr id="272" name=""/>
            <p:cNvGrpSpPr/>
            <p:nvPr/>
          </p:nvGrpSpPr>
          <p:grpSpPr>
            <a:xfrm>
              <a:off x="2590920" y="609480"/>
              <a:ext cx="6553080" cy="4452840"/>
              <a:chOff x="2590920" y="609480"/>
              <a:chExt cx="6553080" cy="445284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2590920" y="4471560"/>
                <a:ext cx="0" cy="590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7162920" y="609480"/>
                <a:ext cx="1981080" cy="3581640"/>
                <a:chOff x="7162920" y="609480"/>
                <a:chExt cx="1981080" cy="35816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7162920" y="609480"/>
                  <a:ext cx="1981080" cy="3581640"/>
                </a:xfrm>
                <a:prstGeom prst="irregularSeal1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391520" y="1066680"/>
                  <a:ext cx="1523880" cy="266724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4114800" y="2666880"/>
              <a:ext cx="1371600" cy="838440"/>
              <a:chOff x="4114800" y="2666880"/>
              <a:chExt cx="1371600" cy="838440"/>
            </a:xfrm>
          </p:grpSpPr>
          <p:sp>
            <p:nvSpPr>
              <p:cNvPr id="278" name=""/>
              <p:cNvSpPr/>
              <p:nvPr/>
            </p:nvSpPr>
            <p:spPr>
              <a:xfrm>
                <a:off x="4114800" y="2666880"/>
                <a:ext cx="1371600" cy="838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91080" y="2838600"/>
                <a:ext cx="457200" cy="457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2514600" y="15238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we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o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oder Schw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F19-5CAD-4B40-BEE3-14CAFD5DC16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D4FAC-4B41-4F7F-95AC-CFC9DC49B4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WL1Schiff" descr=""/>
          <p:cNvPicPr/>
          <p:nvPr/>
        </p:nvPicPr>
        <p:blipFill>
          <a:blip r:embed="rId1"/>
          <a:stretch/>
        </p:blipFill>
        <p:spPr>
          <a:xfrm>
            <a:off x="990720" y="587520"/>
            <a:ext cx="7162560" cy="62704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902320" y="76320"/>
            <a:ext cx="31219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Ein Minuten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Trompe1" descr=""/>
          <p:cNvPicPr/>
          <p:nvPr/>
        </p:nvPicPr>
        <p:blipFill>
          <a:blip r:embed="rId2"/>
          <a:stretch/>
        </p:blipFill>
        <p:spPr>
          <a:xfrm>
            <a:off x="5943600" y="4210200"/>
            <a:ext cx="112860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Kanon1" descr=""/>
          <p:cNvPicPr/>
          <p:nvPr/>
        </p:nvPicPr>
        <p:blipFill>
          <a:blip r:embed="rId3"/>
          <a:stretch/>
        </p:blipFill>
        <p:spPr>
          <a:xfrm>
            <a:off x="6800760" y="3943440"/>
            <a:ext cx="1287720" cy="202860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1905120" y="4419720"/>
            <a:ext cx="1371240" cy="1342800"/>
            <a:chOff x="1905120" y="4419720"/>
            <a:chExt cx="1371240" cy="1342800"/>
          </a:xfrm>
        </p:grpSpPr>
        <p:grpSp>
          <p:nvGrpSpPr>
            <p:cNvPr id="287" name=""/>
            <p:cNvGrpSpPr/>
            <p:nvPr/>
          </p:nvGrpSpPr>
          <p:grpSpPr>
            <a:xfrm>
              <a:off x="1905120" y="4419720"/>
              <a:ext cx="1371240" cy="1342800"/>
              <a:chOff x="1905120" y="4419720"/>
              <a:chExt cx="1371240" cy="134280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1905120" y="4419720"/>
                <a:ext cx="1371240" cy="1342800"/>
                <a:chOff x="1905120" y="4419720"/>
                <a:chExt cx="1371240" cy="13428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917720" y="4419720"/>
                  <a:ext cx="1358640" cy="1342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2597400" y="5645880"/>
                  <a:ext cx="0" cy="116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1905120" y="5093640"/>
                  <a:ext cx="180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3114000" y="5086440"/>
                  <a:ext cx="159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2597400" y="4419720"/>
                  <a:ext cx="0" cy="155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 flipV="1">
                  <a:off x="2231280" y="4518000"/>
                  <a:ext cx="64440" cy="109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>
                  <a:off x="3101400" y="5357160"/>
                  <a:ext cx="93600" cy="5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>
                  <a:off x="2892960" y="5565600"/>
                  <a:ext cx="61560" cy="9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1995120" y="5343840"/>
                  <a:ext cx="113040" cy="5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2231640" y="5560560"/>
                  <a:ext cx="79920" cy="102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>
                  <a:off x="1996200" y="4788000"/>
                  <a:ext cx="104400" cy="49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3088440" y="4755240"/>
                  <a:ext cx="9252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>
                  <a:off x="2890440" y="4514400"/>
                  <a:ext cx="46080" cy="87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2527920" y="5028840"/>
                <a:ext cx="123120" cy="11664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2338560" y="52592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0000"/>
                  </a:solidFill>
                  <a:latin typeface="Times New Roman"/>
                </a:rPr>
                <a:t>Se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581200" y="5076720"/>
            <a:ext cx="619200" cy="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1200" y="5076720"/>
            <a:ext cx="561960" cy="309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5600" y="5081760"/>
            <a:ext cx="323640" cy="537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90920" y="507672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271240" y="5067360"/>
            <a:ext cx="319320" cy="547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052720" y="5076720"/>
            <a:ext cx="528480" cy="290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000160" y="5081760"/>
            <a:ext cx="581040" cy="4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2047680" y="4819680"/>
            <a:ext cx="533160" cy="247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2271240" y="4590720"/>
            <a:ext cx="319320" cy="490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595600" y="4566960"/>
            <a:ext cx="314280" cy="514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600280" y="4785840"/>
            <a:ext cx="542880" cy="290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114800" y="3505320"/>
            <a:ext cx="1371600" cy="838080"/>
            <a:chOff x="4114800" y="3505320"/>
            <a:chExt cx="1371600" cy="838080"/>
          </a:xfrm>
        </p:grpSpPr>
        <p:sp>
          <p:nvSpPr>
            <p:cNvPr id="316" name=""/>
            <p:cNvSpPr/>
            <p:nvPr/>
          </p:nvSpPr>
          <p:spPr>
            <a:xfrm>
              <a:off x="4114800" y="3505320"/>
              <a:ext cx="13716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91080" y="3676680"/>
              <a:ext cx="457200" cy="456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114800" y="4343400"/>
            <a:ext cx="1371600" cy="838080"/>
            <a:chOff x="4114800" y="4343400"/>
            <a:chExt cx="1371600" cy="838080"/>
          </a:xfrm>
        </p:grpSpPr>
        <p:sp>
          <p:nvSpPr>
            <p:cNvPr id="319" name=""/>
            <p:cNvSpPr/>
            <p:nvPr/>
          </p:nvSpPr>
          <p:spPr>
            <a:xfrm>
              <a:off x="4114800" y="4343400"/>
              <a:ext cx="13716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591080" y="4514760"/>
              <a:ext cx="457200" cy="456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Starter5" descr=""/>
          <p:cNvPicPr/>
          <p:nvPr/>
        </p:nvPicPr>
        <p:blipFill>
          <a:blip r:embed="rId4"/>
          <a:stretch/>
        </p:blipFill>
        <p:spPr>
          <a:xfrm>
            <a:off x="4572000" y="4038480"/>
            <a:ext cx="1068480" cy="1906560"/>
          </a:xfrm>
          <a:prstGeom prst="rect">
            <a:avLst/>
          </a:prstGeom>
          <a:ln w="0">
            <a:noFill/>
          </a:ln>
        </p:spPr>
      </p:pic>
      <p:pic>
        <p:nvPicPr>
          <p:cNvPr id="322" name="Starter4" descr=""/>
          <p:cNvPicPr/>
          <p:nvPr/>
        </p:nvPicPr>
        <p:blipFill>
          <a:blip r:embed="rId5"/>
          <a:stretch/>
        </p:blipFill>
        <p:spPr>
          <a:xfrm>
            <a:off x="990720" y="4419720"/>
            <a:ext cx="1050840" cy="1589040"/>
          </a:xfrm>
          <a:prstGeom prst="rect">
            <a:avLst/>
          </a:prstGeom>
          <a:ln w="0">
            <a:noFill/>
          </a:ln>
        </p:spPr>
      </p:pic>
      <p:pic>
        <p:nvPicPr>
          <p:cNvPr id="323" name="Starter1" descr=""/>
          <p:cNvPicPr/>
          <p:nvPr/>
        </p:nvPicPr>
        <p:blipFill>
          <a:blip r:embed="rId6"/>
          <a:stretch/>
        </p:blipFill>
        <p:spPr>
          <a:xfrm>
            <a:off x="3352680" y="4114800"/>
            <a:ext cx="1227240" cy="19098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1828800"/>
            <a:ext cx="2971800" cy="1192680"/>
          </a:xfrm>
          <a:prstGeom prst="wedgeRoundRectCallout">
            <a:avLst>
              <a:gd name="adj1" fmla="val 953"/>
              <a:gd name="adj2" fmla="val 190611"/>
              <a:gd name="adj3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zte  Minute vor dem 1-Minute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läu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1828800"/>
            <a:ext cx="2971800" cy="1192680"/>
          </a:xfrm>
          <a:prstGeom prst="wedgeRoundRectCallout">
            <a:avLst>
              <a:gd name="adj1" fmla="val 953"/>
              <a:gd name="adj2" fmla="val 189013"/>
              <a:gd name="adj3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ch eine  Minute bis zum Star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114800" y="685800"/>
            <a:ext cx="1371600" cy="914400"/>
            <a:chOff x="4114800" y="685800"/>
            <a:chExt cx="1371600" cy="914400"/>
          </a:xfrm>
        </p:grpSpPr>
        <p:sp>
          <p:nvSpPr>
            <p:cNvPr id="327" name=""/>
            <p:cNvSpPr/>
            <p:nvPr/>
          </p:nvSpPr>
          <p:spPr>
            <a:xfrm>
              <a:off x="4114800" y="685800"/>
              <a:ext cx="13716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14800" y="685800"/>
              <a:ext cx="1371600" cy="914400"/>
            </a:xfrm>
            <a:custGeom>
              <a:avLst/>
              <a:gdLst/>
              <a:ahLst/>
              <a:rect l="l" t="t" r="r" b="b"/>
              <a:pathLst>
                <a:path w="864" h="576">
                  <a:moveTo>
                    <a:pt x="0" y="0"/>
                  </a:moveTo>
                  <a:lnTo>
                    <a:pt x="0" y="576"/>
                  </a:lnTo>
                  <a:lnTo>
                    <a:pt x="8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114800" y="1676520"/>
            <a:ext cx="1371600" cy="914400"/>
            <a:chOff x="4114800" y="1676520"/>
            <a:chExt cx="1371600" cy="914400"/>
          </a:xfrm>
        </p:grpSpPr>
        <p:sp>
          <p:nvSpPr>
            <p:cNvPr id="330" name=""/>
            <p:cNvSpPr/>
            <p:nvPr/>
          </p:nvSpPr>
          <p:spPr>
            <a:xfrm>
              <a:off x="4114800" y="1676520"/>
              <a:ext cx="1371600" cy="91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647600" y="1771560"/>
              <a:ext cx="393480" cy="690480"/>
            </a:xfrm>
            <a:custGeom>
              <a:avLst/>
              <a:gdLst/>
              <a:ahLst/>
              <a:rect l="l" t="t" r="r" b="b"/>
              <a:pathLst>
                <a:path w="248" h="435">
                  <a:moveTo>
                    <a:pt x="248" y="6"/>
                  </a:moveTo>
                  <a:cubicBezTo>
                    <a:pt x="248" y="231"/>
                    <a:pt x="248" y="163"/>
                    <a:pt x="248" y="234"/>
                  </a:cubicBezTo>
                  <a:cubicBezTo>
                    <a:pt x="248" y="305"/>
                    <a:pt x="248" y="237"/>
                    <a:pt x="248" y="432"/>
                  </a:cubicBezTo>
                  <a:cubicBezTo>
                    <a:pt x="170" y="435"/>
                    <a:pt x="118" y="420"/>
                    <a:pt x="77" y="387"/>
                  </a:cubicBezTo>
                  <a:cubicBezTo>
                    <a:pt x="36" y="354"/>
                    <a:pt x="0" y="290"/>
                    <a:pt x="2" y="234"/>
                  </a:cubicBezTo>
                  <a:cubicBezTo>
                    <a:pt x="3" y="179"/>
                    <a:pt x="14" y="102"/>
                    <a:pt x="86" y="51"/>
                  </a:cubicBezTo>
                  <a:cubicBezTo>
                    <a:pt x="158" y="0"/>
                    <a:pt x="167" y="9"/>
                    <a:pt x="248" y="6"/>
                  </a:cubicBez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114800" y="2666880"/>
            <a:ext cx="1371600" cy="838440"/>
            <a:chOff x="4114800" y="2666880"/>
            <a:chExt cx="1371600" cy="838440"/>
          </a:xfrm>
        </p:grpSpPr>
        <p:sp>
          <p:nvSpPr>
            <p:cNvPr id="333" name=""/>
            <p:cNvSpPr/>
            <p:nvPr/>
          </p:nvSpPr>
          <p:spPr>
            <a:xfrm>
              <a:off x="4114800" y="2666880"/>
              <a:ext cx="1371600" cy="83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91080" y="28386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590920" y="1371600"/>
            <a:ext cx="5715000" cy="3690720"/>
            <a:chOff x="2590920" y="1371600"/>
            <a:chExt cx="5715000" cy="3690720"/>
          </a:xfrm>
        </p:grpSpPr>
        <p:sp>
          <p:nvSpPr>
            <p:cNvPr id="336" name=""/>
            <p:cNvSpPr/>
            <p:nvPr/>
          </p:nvSpPr>
          <p:spPr>
            <a:xfrm flipV="1">
              <a:off x="2590920" y="4471560"/>
              <a:ext cx="0" cy="590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14800" y="2666880"/>
              <a:ext cx="1371600" cy="838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67280" y="1371600"/>
              <a:ext cx="2438640" cy="2209680"/>
            </a:xfrm>
            <a:prstGeom prst="wedgeEllipseCallout">
              <a:avLst>
                <a:gd name="adj1" fmla="val -37305"/>
                <a:gd name="adj2" fmla="val 93245"/>
              </a:avLst>
            </a:prstGeom>
            <a:solidFill>
              <a:srgbClr val="99c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6477120" y="1905120"/>
              <a:ext cx="1143000" cy="1218600"/>
              <a:chOff x="6477120" y="1905120"/>
              <a:chExt cx="1143000" cy="1218600"/>
            </a:xfrm>
          </p:grpSpPr>
          <p:sp>
            <p:nvSpPr>
              <p:cNvPr id="340" name=""/>
              <p:cNvSpPr/>
              <p:nvPr/>
            </p:nvSpPr>
            <p:spPr>
              <a:xfrm>
                <a:off x="6553440" y="2374920"/>
                <a:ext cx="1066680" cy="60912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77120" y="2286000"/>
                <a:ext cx="1066680" cy="60912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477120" y="213336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58000" y="2819160"/>
                <a:ext cx="152640" cy="759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10640" y="24382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010640" y="2743200"/>
                <a:ext cx="15228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162920" y="23619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162920" y="2514600"/>
                <a:ext cx="152280" cy="7560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15200" y="21333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53440" y="2514600"/>
                <a:ext cx="1066680" cy="60912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77120" y="1981080"/>
                <a:ext cx="1066680" cy="60912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91520" y="2286000"/>
                <a:ext cx="15228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543800" y="19051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769-D398-423E-93D5-941399D81FD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7FF54-2FDA-49A1-9ED0-D87C22B016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WL1Schiff" descr=""/>
          <p:cNvPicPr/>
          <p:nvPr/>
        </p:nvPicPr>
        <p:blipFill>
          <a:blip r:embed="rId1"/>
          <a:stretch/>
        </p:blipFill>
        <p:spPr>
          <a:xfrm>
            <a:off x="990720" y="587520"/>
            <a:ext cx="7162560" cy="62704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439440" y="76320"/>
            <a:ext cx="20383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Start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Trompe1" descr=""/>
          <p:cNvPicPr/>
          <p:nvPr/>
        </p:nvPicPr>
        <p:blipFill>
          <a:blip r:embed="rId2"/>
          <a:stretch/>
        </p:blipFill>
        <p:spPr>
          <a:xfrm>
            <a:off x="5943600" y="4210200"/>
            <a:ext cx="1128600" cy="1828800"/>
          </a:xfrm>
          <a:prstGeom prst="rect">
            <a:avLst/>
          </a:prstGeom>
          <a:ln w="0">
            <a:noFill/>
          </a:ln>
        </p:spPr>
      </p:pic>
      <p:pic>
        <p:nvPicPr>
          <p:cNvPr id="357" name="Kanon1" descr=""/>
          <p:cNvPicPr/>
          <p:nvPr/>
        </p:nvPicPr>
        <p:blipFill>
          <a:blip r:embed="rId3"/>
          <a:stretch/>
        </p:blipFill>
        <p:spPr>
          <a:xfrm>
            <a:off x="6800760" y="3943440"/>
            <a:ext cx="1287720" cy="2028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1905120" y="4419720"/>
            <a:ext cx="1371240" cy="1342800"/>
            <a:chOff x="1905120" y="4419720"/>
            <a:chExt cx="1371240" cy="1342800"/>
          </a:xfrm>
        </p:grpSpPr>
        <p:grpSp>
          <p:nvGrpSpPr>
            <p:cNvPr id="359" name=""/>
            <p:cNvGrpSpPr/>
            <p:nvPr/>
          </p:nvGrpSpPr>
          <p:grpSpPr>
            <a:xfrm>
              <a:off x="1905120" y="4419720"/>
              <a:ext cx="1371240" cy="1342800"/>
              <a:chOff x="1905120" y="4419720"/>
              <a:chExt cx="1371240" cy="134280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1905120" y="4419720"/>
                <a:ext cx="1371240" cy="1342800"/>
                <a:chOff x="1905120" y="4419720"/>
                <a:chExt cx="1371240" cy="13428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917720" y="4419720"/>
                  <a:ext cx="1358640" cy="1342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2597400" y="5645880"/>
                  <a:ext cx="0" cy="116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>
                  <a:off x="1905120" y="5093640"/>
                  <a:ext cx="180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>
                  <a:off x="3114000" y="5086440"/>
                  <a:ext cx="159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2597400" y="4419720"/>
                  <a:ext cx="0" cy="155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>
                  <a:off x="2231280" y="4518000"/>
                  <a:ext cx="64440" cy="109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flipV="1">
                  <a:off x="3101400" y="5357160"/>
                  <a:ext cx="93600" cy="5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 flipV="1">
                  <a:off x="2892960" y="5565600"/>
                  <a:ext cx="61560" cy="9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>
                  <a:off x="1995120" y="5343840"/>
                  <a:ext cx="113040" cy="5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2231640" y="5560560"/>
                  <a:ext cx="79920" cy="102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>
                  <a:off x="1996200" y="4788000"/>
                  <a:ext cx="104400" cy="49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>
                  <a:off x="3088440" y="4755240"/>
                  <a:ext cx="9252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2890440" y="4514400"/>
                  <a:ext cx="46080" cy="87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2527920" y="5028840"/>
                <a:ext cx="123120" cy="11664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2338560" y="52592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0000"/>
                  </a:solidFill>
                  <a:latin typeface="Times New Roman"/>
                </a:rPr>
                <a:t>Se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581200" y="5076720"/>
            <a:ext cx="619200" cy="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81200" y="5076720"/>
            <a:ext cx="561960" cy="309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95600" y="5081760"/>
            <a:ext cx="323640" cy="537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90920" y="507672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271240" y="5067360"/>
            <a:ext cx="319320" cy="547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052720" y="5076720"/>
            <a:ext cx="528480" cy="290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000160" y="5081760"/>
            <a:ext cx="581040" cy="4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047680" y="4819680"/>
            <a:ext cx="533160" cy="247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271240" y="4590720"/>
            <a:ext cx="319320" cy="490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595600" y="4566960"/>
            <a:ext cx="314280" cy="514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2600280" y="4785840"/>
            <a:ext cx="542880" cy="290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114800" y="3962520"/>
            <a:ext cx="1371600" cy="914400"/>
            <a:chOff x="4114800" y="3962520"/>
            <a:chExt cx="1371600" cy="914400"/>
          </a:xfrm>
        </p:grpSpPr>
        <p:sp>
          <p:nvSpPr>
            <p:cNvPr id="388" name=""/>
            <p:cNvSpPr/>
            <p:nvPr/>
          </p:nvSpPr>
          <p:spPr>
            <a:xfrm>
              <a:off x="4114800" y="3962520"/>
              <a:ext cx="1371600" cy="91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724280" y="4057920"/>
              <a:ext cx="393840" cy="690480"/>
            </a:xfrm>
            <a:custGeom>
              <a:avLst/>
              <a:gdLst/>
              <a:ahLst/>
              <a:rect l="l" t="t" r="r" b="b"/>
              <a:pathLst>
                <a:path w="248" h="435">
                  <a:moveTo>
                    <a:pt x="248" y="6"/>
                  </a:moveTo>
                  <a:cubicBezTo>
                    <a:pt x="248" y="231"/>
                    <a:pt x="248" y="163"/>
                    <a:pt x="248" y="234"/>
                  </a:cubicBezTo>
                  <a:cubicBezTo>
                    <a:pt x="248" y="305"/>
                    <a:pt x="248" y="237"/>
                    <a:pt x="248" y="432"/>
                  </a:cubicBezTo>
                  <a:cubicBezTo>
                    <a:pt x="170" y="435"/>
                    <a:pt x="118" y="420"/>
                    <a:pt x="77" y="387"/>
                  </a:cubicBezTo>
                  <a:cubicBezTo>
                    <a:pt x="36" y="354"/>
                    <a:pt x="0" y="290"/>
                    <a:pt x="2" y="234"/>
                  </a:cubicBezTo>
                  <a:cubicBezTo>
                    <a:pt x="3" y="179"/>
                    <a:pt x="14" y="102"/>
                    <a:pt x="86" y="51"/>
                  </a:cubicBezTo>
                  <a:cubicBezTo>
                    <a:pt x="158" y="0"/>
                    <a:pt x="167" y="9"/>
                    <a:pt x="248" y="6"/>
                  </a:cubicBez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Starter5" descr=""/>
          <p:cNvPicPr/>
          <p:nvPr/>
        </p:nvPicPr>
        <p:blipFill>
          <a:blip r:embed="rId4"/>
          <a:stretch/>
        </p:blipFill>
        <p:spPr>
          <a:xfrm>
            <a:off x="4572000" y="4038480"/>
            <a:ext cx="1068480" cy="1906560"/>
          </a:xfrm>
          <a:prstGeom prst="rect">
            <a:avLst/>
          </a:prstGeom>
          <a:ln w="0">
            <a:noFill/>
          </a:ln>
        </p:spPr>
      </p:pic>
      <p:pic>
        <p:nvPicPr>
          <p:cNvPr id="391" name="Starter4" descr=""/>
          <p:cNvPicPr/>
          <p:nvPr/>
        </p:nvPicPr>
        <p:blipFill>
          <a:blip r:embed="rId5"/>
          <a:stretch/>
        </p:blipFill>
        <p:spPr>
          <a:xfrm>
            <a:off x="990720" y="4419720"/>
            <a:ext cx="1050840" cy="1589040"/>
          </a:xfrm>
          <a:prstGeom prst="rect">
            <a:avLst/>
          </a:prstGeom>
          <a:ln w="0">
            <a:noFill/>
          </a:ln>
        </p:spPr>
      </p:pic>
      <p:pic>
        <p:nvPicPr>
          <p:cNvPr id="392" name="Starter1" descr=""/>
          <p:cNvPicPr/>
          <p:nvPr/>
        </p:nvPicPr>
        <p:blipFill>
          <a:blip r:embed="rId6"/>
          <a:stretch/>
        </p:blipFill>
        <p:spPr>
          <a:xfrm>
            <a:off x="3352680" y="4114800"/>
            <a:ext cx="1227240" cy="19098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0" y="1828800"/>
            <a:ext cx="2971800" cy="1192680"/>
          </a:xfrm>
          <a:prstGeom prst="wedgeRoundRectCallout">
            <a:avLst>
              <a:gd name="adj1" fmla="val 953"/>
              <a:gd name="adj2" fmla="val 189013"/>
              <a:gd name="adj3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ch eine  Minute bis zum Star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114800" y="685800"/>
            <a:ext cx="1371600" cy="914400"/>
            <a:chOff x="4114800" y="685800"/>
            <a:chExt cx="1371600" cy="914400"/>
          </a:xfrm>
        </p:grpSpPr>
        <p:sp>
          <p:nvSpPr>
            <p:cNvPr id="395" name=""/>
            <p:cNvSpPr/>
            <p:nvPr/>
          </p:nvSpPr>
          <p:spPr>
            <a:xfrm>
              <a:off x="4114800" y="685800"/>
              <a:ext cx="13716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14800" y="685800"/>
              <a:ext cx="1371600" cy="914400"/>
            </a:xfrm>
            <a:custGeom>
              <a:avLst/>
              <a:gdLst/>
              <a:ahLst/>
              <a:rect l="l" t="t" r="r" b="b"/>
              <a:pathLst>
                <a:path w="864" h="576">
                  <a:moveTo>
                    <a:pt x="0" y="0"/>
                  </a:moveTo>
                  <a:lnTo>
                    <a:pt x="0" y="576"/>
                  </a:lnTo>
                  <a:lnTo>
                    <a:pt x="8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114800" y="1676520"/>
            <a:ext cx="1371600" cy="914400"/>
            <a:chOff x="4114800" y="1676520"/>
            <a:chExt cx="1371600" cy="914400"/>
          </a:xfrm>
        </p:grpSpPr>
        <p:sp>
          <p:nvSpPr>
            <p:cNvPr id="398" name=""/>
            <p:cNvSpPr/>
            <p:nvPr/>
          </p:nvSpPr>
          <p:spPr>
            <a:xfrm>
              <a:off x="4114800" y="1676520"/>
              <a:ext cx="1371600" cy="91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4666680" y="1771920"/>
              <a:ext cx="393480" cy="690480"/>
            </a:xfrm>
            <a:custGeom>
              <a:avLst/>
              <a:gdLst/>
              <a:ahLst/>
              <a:rect l="l" t="t" r="r" b="b"/>
              <a:pathLst>
                <a:path w="248" h="435">
                  <a:moveTo>
                    <a:pt x="248" y="6"/>
                  </a:moveTo>
                  <a:cubicBezTo>
                    <a:pt x="248" y="231"/>
                    <a:pt x="248" y="163"/>
                    <a:pt x="248" y="234"/>
                  </a:cubicBezTo>
                  <a:cubicBezTo>
                    <a:pt x="248" y="305"/>
                    <a:pt x="248" y="237"/>
                    <a:pt x="248" y="432"/>
                  </a:cubicBezTo>
                  <a:cubicBezTo>
                    <a:pt x="170" y="435"/>
                    <a:pt x="118" y="420"/>
                    <a:pt x="77" y="387"/>
                  </a:cubicBezTo>
                  <a:cubicBezTo>
                    <a:pt x="36" y="354"/>
                    <a:pt x="0" y="290"/>
                    <a:pt x="2" y="234"/>
                  </a:cubicBezTo>
                  <a:cubicBezTo>
                    <a:pt x="3" y="179"/>
                    <a:pt x="14" y="102"/>
                    <a:pt x="86" y="51"/>
                  </a:cubicBezTo>
                  <a:cubicBezTo>
                    <a:pt x="158" y="0"/>
                    <a:pt x="167" y="9"/>
                    <a:pt x="248" y="6"/>
                  </a:cubicBez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114800" y="2819520"/>
            <a:ext cx="1371600" cy="914400"/>
            <a:chOff x="4114800" y="2819520"/>
            <a:chExt cx="1371600" cy="914400"/>
          </a:xfrm>
        </p:grpSpPr>
        <p:sp>
          <p:nvSpPr>
            <p:cNvPr id="401" name=""/>
            <p:cNvSpPr/>
            <p:nvPr/>
          </p:nvSpPr>
          <p:spPr>
            <a:xfrm>
              <a:off x="4114800" y="2819520"/>
              <a:ext cx="1371600" cy="91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4724280" y="2914920"/>
              <a:ext cx="393840" cy="690480"/>
            </a:xfrm>
            <a:custGeom>
              <a:avLst/>
              <a:gdLst/>
              <a:ahLst/>
              <a:rect l="l" t="t" r="r" b="b"/>
              <a:pathLst>
                <a:path w="248" h="435">
                  <a:moveTo>
                    <a:pt x="248" y="6"/>
                  </a:moveTo>
                  <a:cubicBezTo>
                    <a:pt x="248" y="231"/>
                    <a:pt x="248" y="163"/>
                    <a:pt x="248" y="234"/>
                  </a:cubicBezTo>
                  <a:cubicBezTo>
                    <a:pt x="248" y="305"/>
                    <a:pt x="248" y="237"/>
                    <a:pt x="248" y="432"/>
                  </a:cubicBezTo>
                  <a:cubicBezTo>
                    <a:pt x="170" y="435"/>
                    <a:pt x="118" y="420"/>
                    <a:pt x="77" y="387"/>
                  </a:cubicBezTo>
                  <a:cubicBezTo>
                    <a:pt x="36" y="354"/>
                    <a:pt x="0" y="290"/>
                    <a:pt x="2" y="234"/>
                  </a:cubicBezTo>
                  <a:cubicBezTo>
                    <a:pt x="3" y="179"/>
                    <a:pt x="14" y="102"/>
                    <a:pt x="86" y="51"/>
                  </a:cubicBezTo>
                  <a:cubicBezTo>
                    <a:pt x="158" y="0"/>
                    <a:pt x="167" y="9"/>
                    <a:pt x="248" y="6"/>
                  </a:cubicBez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0" y="1828800"/>
            <a:ext cx="2971800" cy="1192680"/>
          </a:xfrm>
          <a:prstGeom prst="wedgeRoundRectCallout">
            <a:avLst>
              <a:gd name="adj1" fmla="val 953"/>
              <a:gd name="adj2" fmla="val 190611"/>
              <a:gd name="adj3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Start ist gelungen Startzeit im Protok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schrei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15000" y="1371600"/>
            <a:ext cx="144792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huss und Flagge müssen zeitgleich k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590920" y="609480"/>
            <a:ext cx="6553080" cy="4452840"/>
            <a:chOff x="2590920" y="609480"/>
            <a:chExt cx="6553080" cy="4452840"/>
          </a:xfrm>
        </p:grpSpPr>
        <p:grpSp>
          <p:nvGrpSpPr>
            <p:cNvPr id="406" name=""/>
            <p:cNvGrpSpPr/>
            <p:nvPr/>
          </p:nvGrpSpPr>
          <p:grpSpPr>
            <a:xfrm>
              <a:off x="2590920" y="609480"/>
              <a:ext cx="6553080" cy="4452840"/>
              <a:chOff x="2590920" y="609480"/>
              <a:chExt cx="6553080" cy="4452840"/>
            </a:xfrm>
          </p:grpSpPr>
          <p:sp>
            <p:nvSpPr>
              <p:cNvPr id="407" name=""/>
              <p:cNvSpPr/>
              <p:nvPr/>
            </p:nvSpPr>
            <p:spPr>
              <a:xfrm flipV="1">
                <a:off x="2590920" y="4471560"/>
                <a:ext cx="0" cy="590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7162920" y="609480"/>
                <a:ext cx="1981080" cy="3581640"/>
                <a:chOff x="7162920" y="609480"/>
                <a:chExt cx="1981080" cy="358164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162920" y="609480"/>
                  <a:ext cx="1981080" cy="3581640"/>
                </a:xfrm>
                <a:prstGeom prst="irregularSeal1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391520" y="1066680"/>
                  <a:ext cx="1523880" cy="266724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1" name=""/>
            <p:cNvSpPr/>
            <p:nvPr/>
          </p:nvSpPr>
          <p:spPr>
            <a:xfrm>
              <a:off x="4114800" y="1676520"/>
              <a:ext cx="137160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7A5-AAF5-4901-926A-F6DC310A8B8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8DDDA-7772-49F3-BA46-7B8AC209E7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9T11:56:45Z</dcterms:created>
  <dc:creator>Ulrich Finckh</dc:creator>
  <dc:description/>
  <dc:language>en-US</dc:language>
  <cp:lastModifiedBy>Ulrich Finckh</cp:lastModifiedBy>
  <cp:lastPrinted>2000-01-09T19:42:29Z</cp:lastPrinted>
  <dcterms:modified xsi:type="dcterms:W3CDTF">2000-11-19T20:06:08Z</dcterms:modified>
  <cp:revision>59</cp:revision>
  <dc:subject/>
  <dc:title>Kein Folientitel</dc:title>
</cp:coreProperties>
</file>