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963E-C506-411F-9E5E-0D29435DC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144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0" y="3839040"/>
            <a:ext cx="9144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ACE8-B5A5-435B-A4E5-7B4AB6C01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4462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5760" y="1371240"/>
            <a:ext cx="4462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0" y="3839040"/>
            <a:ext cx="4462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5760" y="3839040"/>
            <a:ext cx="4462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EA28-AC47-4BAA-9EED-366FEBDDE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2944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91680" y="1371240"/>
            <a:ext cx="2944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3360" y="1371240"/>
            <a:ext cx="2944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0" y="3839040"/>
            <a:ext cx="2944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91680" y="3839040"/>
            <a:ext cx="2944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3360" y="3839040"/>
            <a:ext cx="2944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CB37-FB32-49F4-96C1-DC558C323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0" y="137124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BE40-332B-4D2B-BD24-78256D546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70DB-DF6E-44F5-B6E7-9334D19DD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4462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5760" y="1371240"/>
            <a:ext cx="4462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ABF3-EF60-4598-951F-A9ED50340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6184-E3F2-4888-AB26-24E14EFB6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F377-CABF-4D26-B4AC-6CE6E5E14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4462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760" y="1371240"/>
            <a:ext cx="4462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0" y="3839040"/>
            <a:ext cx="4462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23E4-1939-4272-9971-4A890C620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4462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760" y="1371240"/>
            <a:ext cx="4462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5760" y="3839040"/>
            <a:ext cx="4462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12FF-34E5-42A0-951F-FD0EF9018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4462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760" y="1371240"/>
            <a:ext cx="4462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0" y="3839040"/>
            <a:ext cx="9144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89F1-5705-4A34-A667-6BBACEDD3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137124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99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99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99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88DBD-3A2D-4C9B-8D0A-4079BB014729}" type="slidenum">
              <a:rPr b="0" lang="en-US" sz="1400" spc="-1" strike="noStrike">
                <a:solidFill>
                  <a:srgbClr val="3399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Organisation einer größeren Regat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47242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Das Organisationskomitee sollte vor Annahme einer größeren Regattaveranstaltung die folgenden Punkte erwäg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solingolimpic15" descr=""/>
          <p:cNvPicPr/>
          <p:nvPr/>
        </p:nvPicPr>
        <p:blipFill>
          <a:blip r:embed="rId1"/>
          <a:stretch/>
        </p:blipFill>
        <p:spPr>
          <a:xfrm>
            <a:off x="1523880" y="914400"/>
            <a:ext cx="5867640" cy="3897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7FC4-3895-415D-A484-80775A38E1F5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U.Finckh,Breitbrunn</a:t>
            </a:r>
          </a:p>
        </p:txBody>
      </p:sp>
    </p:spTree>
  </p:cSld>
  <p:transition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Zeitaufwand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95280" y="51051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Deutsche Meisterschaften mindestens 3 T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WM und EM mindestens 6 T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laserolimpic1" descr=""/>
          <p:cNvPicPr/>
          <p:nvPr/>
        </p:nvPicPr>
        <p:blipFill>
          <a:blip r:embed="rId1"/>
          <a:stretch/>
        </p:blipFill>
        <p:spPr>
          <a:xfrm>
            <a:off x="1523880" y="1066680"/>
            <a:ext cx="5867640" cy="3978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3329-941A-4C3A-BC82-0114063188D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U.Finckh,Breitbrunn</a:t>
            </a:r>
          </a:p>
        </p:txBody>
      </p:sp>
    </p:spTree>
  </p:cSld>
  <p:transition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Zeitpunk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480024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Kann zum geplanten Zeitpunkt der Regatten statistisch mit einigermaßen akzeptablen Windverhältnissen gerechnet werden? (Wichtig bei der Austragung von Meisterschaften!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laser10finish" descr=""/>
          <p:cNvPicPr/>
          <p:nvPr/>
        </p:nvPicPr>
        <p:blipFill>
          <a:blip r:embed="rId1"/>
          <a:stretch/>
        </p:blipFill>
        <p:spPr>
          <a:xfrm>
            <a:off x="1600200" y="914400"/>
            <a:ext cx="5638680" cy="3917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508D-6703-4CBC-AB00-52ABC726D8F4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U.Finckh,Breitbrunn</a:t>
            </a:r>
          </a:p>
        </p:txBody>
      </p:sp>
    </p:spTree>
  </p:cSld>
  <p:transition>
    <p:pull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4419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Personalaufwand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533520"/>
            <a:ext cx="449568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Sind Klubmitglieder bereit, vor, während und nach der Regatta ihre Zeit zur Verfügung zu stellen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Stehen ein erfahrener Wettfahrtleiter sowie gute, schnell arbeitende Mannschaften für Startschiff und Bojenleger zur Verfügung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Gibt es genügend Leute für eine korrekte Organisation an Lan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Können erfahrene Leute für das Schiedsgericht angeworben werd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Sollte eine Internationale Jury eingesetzt werd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dc-040" descr=""/>
          <p:cNvPicPr/>
          <p:nvPr/>
        </p:nvPicPr>
        <p:blipFill>
          <a:blip r:embed="rId1"/>
          <a:stretch/>
        </p:blipFill>
        <p:spPr>
          <a:xfrm>
            <a:off x="0" y="2224080"/>
            <a:ext cx="4495680" cy="3019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00CD-5F03-46A7-9CDA-2ACE8558A09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U.Finckh,Breitbrunn</a:t>
            </a:r>
          </a:p>
        </p:txBody>
      </p:sp>
    </p:spTree>
  </p:cSld>
  <p:transition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Haftpflichtversicherung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5181480"/>
            <a:ext cx="7848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Deckt die Haftpflichtversicherung des Klubs alle an der Organisation beteiligten Persone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470ol01" descr=""/>
          <p:cNvPicPr/>
          <p:nvPr/>
        </p:nvPicPr>
        <p:blipFill>
          <a:blip r:embed="rId1"/>
          <a:stretch/>
        </p:blipFill>
        <p:spPr>
          <a:xfrm>
            <a:off x="1219320" y="1066680"/>
            <a:ext cx="6019560" cy="4046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CB51-C149-4130-8CC9-B716F2500789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U.Finckh,Breitbrunn</a:t>
            </a:r>
          </a:p>
        </p:txBody>
      </p:sp>
    </p:spTree>
  </p:cSld>
  <p:transition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Materialaufwand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48320" y="1371240"/>
            <a:ext cx="4495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Stehen genügend Motorboote zur Wettfahrtorganisation und zur Sicherung der Regattateilnehmer zur Verfüg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Besteht die Möglichkeit, Motorboote bei benachbarten Klubs auszuleih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Sind die Eigner der Motorboote bereit, diese selber zu fahr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Können alle Boote auch bei schlechtem Wetter bedingungslos eingesetzt werd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hafenolimpic" descr=""/>
          <p:cNvPicPr/>
          <p:nvPr/>
        </p:nvPicPr>
        <p:blipFill>
          <a:blip r:embed="rId1"/>
          <a:stretch/>
        </p:blipFill>
        <p:spPr>
          <a:xfrm>
            <a:off x="0" y="2241720"/>
            <a:ext cx="4495680" cy="2982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0597-24E3-4909-A28A-8EC3D89E958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U.Finckh,Breitbrunn</a:t>
            </a:r>
          </a:p>
        </p:txBody>
      </p:sp>
    </p:spTree>
  </p:cSld>
  <p:transition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05280" y="762120"/>
            <a:ext cx="4343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Infrastruktur an Land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581280" y="762120"/>
            <a:ext cx="556272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ff"/>
                </a:solidFill>
                <a:latin typeface="Times New Roman"/>
              </a:rPr>
              <a:t>Sind Räumlichkeiten vorhanden für das Wettfahrtbüro und ein ruhig gelegener Raum für die Jur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ff"/>
                </a:solidFill>
                <a:latin typeface="Times New Roman"/>
              </a:rPr>
              <a:t>Umkleideräume und Duschen für die Teilnehm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ff"/>
                </a:solidFill>
                <a:latin typeface="Times New Roman"/>
              </a:rPr>
              <a:t>Kann für Verpflegung ausreichend gesorgt werd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ff"/>
                </a:solidFill>
                <a:latin typeface="Times New Roman"/>
              </a:rPr>
              <a:t>Ist der Klubraum groß genug oder muss ein Zelt aufgeschlagen werd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ff"/>
                </a:solidFill>
                <a:latin typeface="Times New Roman"/>
              </a:rPr>
              <a:t>Stehen Parkplätze, Abstellmöglichkeiten für Trailer, Standplätze für Jollen an Land und Wasserliegeplätze für Yachten zur Verfügu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ff"/>
                </a:solidFill>
                <a:latin typeface="Times New Roman"/>
              </a:rPr>
              <a:t>Reichen vorhandene Slip- und Krananlagen aus, um reibungsloses Slippen zu garantier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hafenolimpic2" descr=""/>
          <p:cNvPicPr/>
          <p:nvPr/>
        </p:nvPicPr>
        <p:blipFill>
          <a:blip r:embed="rId1"/>
          <a:stretch/>
        </p:blipFill>
        <p:spPr>
          <a:xfrm>
            <a:off x="0" y="2819520"/>
            <a:ext cx="3657600" cy="2441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133A-2068-4AD7-B9D5-6128A82E19F0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U.Finckh,Breitbrunn</a:t>
            </a:r>
          </a:p>
        </p:txBody>
      </p:sp>
    </p:spTree>
  </p:cSld>
  <p:transition>
    <p:pull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Unterbringung der Gäste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48320" y="2286000"/>
            <a:ext cx="44956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stehen genügend Hotelzimmer zur Verfüg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Können preiswertere Unterkünfte angeboten werden (Camping, Jugendherberge, Privat)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fans" descr=""/>
          <p:cNvPicPr/>
          <p:nvPr/>
        </p:nvPicPr>
        <p:blipFill>
          <a:blip r:embed="rId1"/>
          <a:stretch/>
        </p:blipFill>
        <p:spPr>
          <a:xfrm>
            <a:off x="0" y="2244600"/>
            <a:ext cx="4495680" cy="2976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1FD5-3B43-4A4D-9537-8D05D57E1EC1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U.Finckh,Breitbrunn</a:t>
            </a:r>
          </a:p>
        </p:txBody>
      </p:sp>
    </p:spTree>
  </p:cSld>
  <p:transition>
    <p:pull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Budge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191120" y="2742840"/>
            <a:ext cx="44956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Können die zu erwartenden Ausgaben durch das Startgeld und diverse Sponsorbeiträge gedeckt werde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solingolimpic12" descr=""/>
          <p:cNvPicPr/>
          <p:nvPr/>
        </p:nvPicPr>
        <p:blipFill>
          <a:blip r:embed="rId1"/>
          <a:stretch/>
        </p:blipFill>
        <p:spPr>
          <a:xfrm>
            <a:off x="679320" y="1371600"/>
            <a:ext cx="3135600" cy="4724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EA14-250C-4715-A038-7FF2FFA68B2F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U.Finckh,Breitbrunn</a:t>
            </a:r>
          </a:p>
        </p:txBody>
      </p:sp>
    </p:spTree>
  </p:cSld>
  <p:transition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8T19:33:22Z</dcterms:created>
  <dc:creator>Ulrich Finckh</dc:creator>
  <dc:description/>
  <dc:language>en-US</dc:language>
  <cp:lastModifiedBy>Ulrich Finckh</cp:lastModifiedBy>
  <dcterms:modified xsi:type="dcterms:W3CDTF">2003-02-18T20:10:50Z</dcterms:modified>
  <cp:revision>1</cp:revision>
  <dc:subject/>
  <dc:title>Organisation einer größeren Regatta</dc:title>
</cp:coreProperties>
</file>