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4D2BC-2BD9-4689-9963-7805D55E1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9C94E-F711-4501-BEDE-2B3ADEFD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76371-5C90-4AE3-8AF6-FA3A18F01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B917A-350F-47CA-82B3-7CD281135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E56FE-6E3B-4814-BF37-BC5260BBD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57F18-C57F-4F99-B976-F6FED6269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5B5F3-68DD-479C-B4CF-81394905E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81F66-B277-4EB7-A211-CF000F0FE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F32DA-87A8-4051-AA61-A7136026D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0FF56-868C-48B8-A57A-98952A9A2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3674-AD5A-45A4-A023-888234684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F7CE-FACF-4902-B931-62AE1305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A628D-E3C5-4F70-A9A8-76739525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AFE43-5C36-412E-A6B5-111C4CF7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D8568-4B0D-405A-A024-F1E71E068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926F0-1EEE-4222-9936-16B658A78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5B26E-D06D-43F6-9621-880A65ED3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E44D-8F36-472E-BA3E-CDE0FB92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10007-438F-4251-8E54-BDA3ED41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AE04-1AB4-4AB8-920B-97468FCCD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D62B-5370-4AC8-AF85-21E82A1B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774D-B5EA-48EE-A28D-A3AFDA56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AFDFE-5A7F-4B60-B744-E0C25175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E976-F7F1-4747-9145-1D6962402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475B-F1CE-466D-90D8-BF36A57DB1D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2" name="lsv-loogo" descr=""/>
          <p:cNvPicPr/>
          <p:nvPr/>
        </p:nvPicPr>
        <p:blipFill>
          <a:blip r:embed="rId2"/>
          <a:stretch/>
        </p:blipFill>
        <p:spPr>
          <a:xfrm>
            <a:off x="7391520" y="457200"/>
            <a:ext cx="12222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35EE-76FD-4C26-83BA-9ED977D6AA1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aftung bei</a:t>
            </a:r>
            <a:br>
              <a:rPr sz="4400"/>
            </a:br>
            <a:r>
              <a:rPr b="0" lang="en-GB" sz="4400" spc="-1" strike="noStrike">
                <a:solidFill>
                  <a:srgbClr val="333399"/>
                </a:solidFill>
                <a:latin typeface="Tahoma"/>
              </a:rPr>
              <a:t>Vereinsveranstaltungen</a:t>
            </a:r>
            <a:endParaRPr b="0" lang="en-US" sz="44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Landes Segler Verband</a:t>
            </a:r>
            <a:br>
              <a:rPr sz="3200"/>
            </a:br>
            <a:r>
              <a:rPr b="0" lang="de-DE" sz="3200" spc="-1" strike="noStrike">
                <a:solidFill>
                  <a:srgbClr val="000000"/>
                </a:solidFill>
                <a:latin typeface="Tahoma"/>
              </a:rPr>
              <a:t>Baden-Württemberg</a:t>
            </a:r>
            <a:endParaRPr b="0" lang="en-US" sz="3200" spc="-1" strike="noStrike">
              <a:solidFill>
                <a:srgbClr val="000000"/>
              </a:solidFill>
              <a:latin typeface="Tahoma"/>
            </a:endParaRPr>
          </a:p>
        </p:txBody>
      </p:sp>
      <p:grpSp>
        <p:nvGrpSpPr>
          <p:cNvPr id="102" name=""/>
          <p:cNvGrpSpPr/>
          <p:nvPr/>
        </p:nvGrpSpPr>
        <p:grpSpPr>
          <a:xfrm>
            <a:off x="1512720" y="2705040"/>
            <a:ext cx="6119640" cy="1768680"/>
            <a:chOff x="1512720" y="2705040"/>
            <a:chExt cx="6119640" cy="1768680"/>
          </a:xfrm>
        </p:grpSpPr>
        <p:sp>
          <p:nvSpPr>
            <p:cNvPr id="103" name=""/>
            <p:cNvSpPr/>
            <p:nvPr/>
          </p:nvSpPr>
          <p:spPr>
            <a:xfrm>
              <a:off x="1512720" y="2705040"/>
              <a:ext cx="6119640" cy="849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1512720" y="2705040"/>
              <a:ext cx="825480" cy="1768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8600" spc="-1" strike="noStrike">
                  <a:solidFill>
                    <a:srgbClr val="000000"/>
                  </a:solidFill>
                  <a:latin typeface="Tahoma"/>
                </a:rPr>
                <a:t> </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grpSp>
      <p:pic>
        <p:nvPicPr>
          <p:cNvPr id="105" name="lsv-loogo" descr=""/>
          <p:cNvPicPr/>
          <p:nvPr/>
        </p:nvPicPr>
        <p:blipFill>
          <a:blip r:embed="rId1"/>
          <a:stretch/>
        </p:blipFill>
        <p:spPr>
          <a:xfrm>
            <a:off x="6168960" y="3657600"/>
            <a:ext cx="122256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hre Fragen?</a:t>
            </a:r>
            <a:endParaRPr b="0" lang="en-US" sz="4400" spc="-1" strike="noStrike">
              <a:solidFill>
                <a:srgbClr val="333399"/>
              </a:solidFill>
              <a:latin typeface="Tahoma"/>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 Vorschlag</a:t>
            </a:r>
            <a:endParaRPr b="0" lang="en-US" sz="4400" spc="-1" strike="noStrike">
              <a:solidFill>
                <a:srgbClr val="333399"/>
              </a:solidFill>
              <a:latin typeface="Tahoma"/>
            </a:endParaRPr>
          </a:p>
        </p:txBody>
      </p:sp>
      <p:sp>
        <p:nvSpPr>
          <p:cNvPr id="128" name=""/>
          <p:cNvSpPr/>
          <p:nvPr/>
        </p:nvSpPr>
        <p:spPr>
          <a:xfrm>
            <a:off x="380880" y="2095560"/>
            <a:ext cx="853452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Mit meiner Unterschrift wird der nachfolgende Haftungsausschluss ausdrücklich vereinbart. Die entsprechenden Regeln zu Pkt. 3 erkenne ich 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1.</a:t>
            </a:r>
            <a:r>
              <a:rPr b="1" lang="de-DE" sz="1200" spc="-1" strike="noStrike">
                <a:solidFill>
                  <a:srgbClr val="000000"/>
                </a:solidFill>
                <a:latin typeface="Times New Roman"/>
                <a:ea typeface="Times New Roman"/>
              </a:rPr>
              <a:t>    </a:t>
            </a:r>
            <a:r>
              <a:rPr b="1" lang="de-DE" sz="1200" spc="-1" strike="noStrike">
                <a:solidFill>
                  <a:srgbClr val="000000"/>
                </a:solidFill>
                <a:latin typeface="Tahoma"/>
                <a:ea typeface="Times New Roman"/>
              </a:rPr>
              <a:t>Die Wettfahrtleitungen und die Veranstalter und die beteiligten Erfüllungs- und Verrichtungs-gehilfen übernehmen gegenüber den beteiligten Regattateilnehmern keine Haftung, gleich aus welchem Rechtsgrund, für Sach- und Vermögensschäden aller Art und deren Folgen, soweit  diese nicht durch die Verletzung einer wesentlichen Vertragspflicht des Veranstalters (Kardinalspflicht) entstanden sind. Bei der Verletzung von Haupt-/bzw. vertragswesentlichen Pflichten (Kardinalspflichten) ist die Haftung des Veranstalters in Fällen leichter Fahrlässigkeit beschränkt auf vorhersehbare, typischerweise eintretende Schäden. Dies gilt auch für die Verursachung der Schäden durch Personen, die Schlepp-, Sicherungs- und Bergungsfahrzeuge  zur Verfügung stellen, diese führen oder bei deren Einsatz behilflich s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2.</a:t>
            </a:r>
            <a:r>
              <a:rPr b="1" lang="de-DE" sz="1200" spc="-1" strike="noStrike">
                <a:solidFill>
                  <a:srgbClr val="000000"/>
                </a:solidFill>
                <a:latin typeface="Times New Roman"/>
                <a:ea typeface="Times New Roman"/>
              </a:rPr>
              <a:t>       </a:t>
            </a:r>
            <a:r>
              <a:rPr b="1" lang="de-DE" sz="1200" spc="-1" strike="noStrike">
                <a:solidFill>
                  <a:srgbClr val="000000"/>
                </a:solidFill>
                <a:latin typeface="Tahoma"/>
                <a:ea typeface="Times New Roman"/>
              </a:rPr>
              <a:t>Es wird ausdrücklich bestätigt, dass die gemeldete Yacht und die dazu gehörige Mannschaft alle Anforderungen an Personen und Material erfüllt, die für eine Teilnahme an der Veranstaltung notwendig sind. Dies gilt insbesondere für den Ausbildungsstand, die körperliche Eignung der Mannschaft und die Sicherheit der Yacht. Es wird anerkannt, dass die Wettfahrtleiter und Veranstalter dafür keine Verantwortung übernehmen kön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3.</a:t>
            </a:r>
            <a:r>
              <a:rPr b="1" lang="de-DE" sz="1200" spc="-1" strike="noStrike">
                <a:solidFill>
                  <a:srgbClr val="000000"/>
                </a:solidFill>
                <a:latin typeface="Times New Roman"/>
                <a:ea typeface="Times New Roman"/>
              </a:rPr>
              <a:t>       </a:t>
            </a:r>
            <a:r>
              <a:rPr b="1" lang="de-DE" sz="1200" spc="-1" strike="noStrike">
                <a:solidFill>
                  <a:srgbClr val="000000"/>
                </a:solidFill>
                <a:latin typeface="Tahoma"/>
                <a:ea typeface="Times New Roman"/>
              </a:rPr>
              <a:t>Ich verpflichte mich, die gültigen WR der ISAF und die WO des DSV, die Klassenvorschriften sowie die Segelanweisungen einzuhalten und erkenne diese ausdrücklich 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Unterschrift des Steuermanns/der Steuerfrau)         Unterschriften der Mannschaf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SV Vorschlag (ergänzt)</a:t>
            </a:r>
            <a:endParaRPr b="0" lang="en-US" sz="4400" spc="-1" strike="noStrike">
              <a:solidFill>
                <a:srgbClr val="333399"/>
              </a:solidFill>
              <a:latin typeface="Tahoma"/>
            </a:endParaRPr>
          </a:p>
        </p:txBody>
      </p:sp>
      <p:sp>
        <p:nvSpPr>
          <p:cNvPr id="130" name=""/>
          <p:cNvSpPr/>
          <p:nvPr/>
        </p:nvSpPr>
        <p:spPr>
          <a:xfrm>
            <a:off x="380880" y="2095560"/>
            <a:ext cx="853452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a:t>
            </a:r>
            <a:r>
              <a:rPr b="1" lang="de-DE" sz="1200" spc="-1" strike="noStrike">
                <a:solidFill>
                  <a:srgbClr val="000000"/>
                </a:solidFill>
                <a:latin typeface="Arial"/>
                <a:ea typeface="Times New Roman"/>
              </a:rPr>
              <a:t>Haftungsausschluss – Haftungsbegrenzung – Unterwerfungsklausel</a:t>
            </a:r>
            <a:br>
              <a:rPr sz="1200"/>
            </a:br>
            <a:r>
              <a:rPr b="0" lang="de-DE" sz="1200" spc="-1" strike="noStrike">
                <a:solidFill>
                  <a:srgbClr val="000000"/>
                </a:solidFill>
                <a:latin typeface="Arial"/>
                <a:ea typeface="Times New Roman"/>
              </a:rPr>
              <a:t>Die Verantwortung für die Entscheidung eines Bootsführers, an einer Wettfahrt teilzunehmen oder sie fortzusetzen, liegt allein bei ihm, er übernimmt insoweit auch die Verantwortung für seine Mannschaft. Der Bootsführer ist für die Eignung und das richtige seemännische Verhalten seiner Crew sowie für die Eignung und den verkehrssicheren Zustand des gemeldeten Bootes verantwortli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er Veranstalter ist berechtigt, in Fällen höherer Gewalt oder aufgrund behördlicher Anordnungen oder aus Sicherheitsgründen, Änderungen in der Durchführung der Veranstaltung vorzunehmen oder die Veranstaltung abzusagen. In diesen Fällen besteht keine Schadenersatzverpflichtung des Veranstalters gegenüber dem Teilneh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Haftung des Veranstalters, gleich aus welchem Rechtsgrund, für Sach- und Vermögensschäden jeder Art und deren Folgen, die dem Teilnehmer während oder im Zusammenhang mit der Teilnahme an der Veranstaltung durch ein Verhalten des Veranstalters, seiner Vertreter, Erfüllungsgehilfen oder Beauftragten entstehen, ist bei der Verletzung von Pflichten, die nicht Haupt-/bzw. vertragswesentliche Pflichten (Kardinalpflichten) sind, beschränkt auf Schäden, die vorsätzlich oder grob fahrlässig verursacht wurden. Bei der Verletzung von Kardinalpflichten ist die Haftung des Veranstalters in Fällen einfacher Fahrlässigkeit beschränkt auf vorhersehbare, typischerweise eintretende Schäden. Soweit die Schadenersatzhaftung des Veranstalters ausgeschlossen oder eingeschränkt ist, befreit der Teilnehmer von der persönlichen Schadenersatzhaftung auch die Angestellten - Arbeitnehmer und Mitarbeiter - Vertreter, Erfüllungsgehilfen, Sponsoren und Personen, die Schlepp-, Sicherungs-, oder Bergungsfahrzeuge bereitstellen, führen oder bei deren Einsatz behilflich sind, sowie auch alle anderen Personen, denen im Zusammenhang mit der Durchführung der Veranstaltung ein Auftrag erteilt worden 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gültigen Wettfahrtregeln der ISAF, die Ordnungsvorschriften Regattasegeln und das Verbandsrecht des DSV, die Klassenvorschriften sowie die Vorschriften der Ausschreibung und Segelanweisung sind einzuhalten und werden ausdrücklich anerkannt.</a:t>
            </a:r>
            <a:r>
              <a:rPr b="1" lang="de-DE" sz="1200" spc="-1" strike="noStrike">
                <a:solidFill>
                  <a:srgbClr val="000000"/>
                </a:solidFill>
                <a:latin typeface="Arial"/>
                <a:ea typeface="Times New Roman"/>
              </a:rPr>
              <a:t>”</a:t>
            </a: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r>
              <a:rPr b="1" lang="de-DE"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Überblick </a:t>
            </a:r>
            <a:endParaRPr b="0" lang="en-US" sz="4400" spc="-1" strike="noStrike">
              <a:solidFill>
                <a:srgbClr val="333399"/>
              </a:solidFill>
              <a:latin typeface="Tahoma"/>
            </a:endParaRPr>
          </a:p>
        </p:txBody>
      </p:sp>
      <p:sp>
        <p:nvSpPr>
          <p:cNvPr id="107" name="PlaceHolder 2"/>
          <p:cNvSpPr>
            <a:spLocks noGrp="1"/>
          </p:cNvSpPr>
          <p:nvPr>
            <p:ph/>
          </p:nvPr>
        </p:nvSpPr>
        <p:spPr>
          <a:xfrm>
            <a:off x="685800" y="2017800"/>
            <a:ext cx="815328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Neue Rechtslage seit 1.1.2002</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Bisherige Klauseln meist rechtsunwirksam</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erein haftet bei Grober Fahrlässigkeit</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Neu: Einfache Fahrlässigkeit genügt oft...</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aut Rechtsprechung des BGH kann die Haftung auch dafür nicht ausgeschlossen werden. </a:t>
            </a:r>
            <a:endParaRPr b="0" lang="en-US" sz="24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äufig ein Verstoß gegen AGB Generalklausel </a:t>
            </a:r>
            <a:endParaRPr b="0" lang="en-US" sz="24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SV hat eine Empfehlung in Vorbereitung</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08" name=""/>
          <p:cNvGrpSpPr/>
          <p:nvPr/>
        </p:nvGrpSpPr>
        <p:grpSpPr>
          <a:xfrm>
            <a:off x="1512720" y="2705040"/>
            <a:ext cx="6119640" cy="1768680"/>
            <a:chOff x="1512720" y="2705040"/>
            <a:chExt cx="6119640" cy="1768680"/>
          </a:xfrm>
        </p:grpSpPr>
        <p:sp>
          <p:nvSpPr>
            <p:cNvPr id="109" name=""/>
            <p:cNvSpPr/>
            <p:nvPr/>
          </p:nvSpPr>
          <p:spPr>
            <a:xfrm>
              <a:off x="1512720" y="2705040"/>
              <a:ext cx="6119640" cy="849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1512720" y="2705040"/>
              <a:ext cx="825480" cy="1768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8600" spc="-1" strike="noStrike">
                  <a:solidFill>
                    <a:srgbClr val="000000"/>
                  </a:solidFill>
                  <a:latin typeface="Tahoma"/>
                </a:rPr>
                <a:t> </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Unmöglich ist...</a:t>
            </a:r>
            <a:endParaRPr b="0" lang="en-US" sz="4400" spc="-1" strike="noStrike">
              <a:solidFill>
                <a:srgbClr val="333399"/>
              </a:solidFill>
              <a:latin typeface="Tahoma"/>
            </a:endParaRPr>
          </a:p>
        </p:txBody>
      </p:sp>
      <p:sp>
        <p:nvSpPr>
          <p:cNvPr id="112" name=""/>
          <p:cNvSpPr/>
          <p:nvPr/>
        </p:nvSpPr>
        <p:spPr>
          <a:xfrm>
            <a:off x="457200" y="2514600"/>
            <a:ext cx="8458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ea typeface="Times New Roman"/>
              </a:rPr>
              <a:t>Ein Haftungsausschluss bei grobem Verschulden oder bei vorsätzlichem Handeln sowie bei Schäden an Körper, Gesundheit und Leben, ist generell unmöglich!</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Versicherung</a:t>
            </a:r>
            <a:endParaRPr b="0" lang="en-US" sz="4400" spc="-1" strike="noStrike">
              <a:solidFill>
                <a:srgbClr val="333399"/>
              </a:solidFill>
              <a:latin typeface="Tahoma"/>
            </a:endParaRPr>
          </a:p>
        </p:txBody>
      </p:sp>
      <p:sp>
        <p:nvSpPr>
          <p:cNvPr id="114" name=""/>
          <p:cNvSpPr/>
          <p:nvPr/>
        </p:nvSpPr>
        <p:spPr>
          <a:xfrm>
            <a:off x="457200" y="2514600"/>
            <a:ext cx="84582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ea typeface="Times New Roman"/>
              </a:rPr>
              <a:t>Haftungsrechtliche Lücken sind vorbeugend durch eine entsprechende Versicherung abzudecken!</a:t>
            </a:r>
            <a:r>
              <a:rPr b="0" lang="en-US" sz="3200" spc="-1" strike="noStrike">
                <a:solidFill>
                  <a:srgbClr val="000000"/>
                </a:solidFill>
                <a:latin typeface="Tahoma"/>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ea typeface="Times New Roman"/>
              </a:rPr>
              <a:t>(Veranstalter-Haftpflichtversicheru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inder und Jugendliche</a:t>
            </a:r>
            <a:endParaRPr b="0" lang="en-US" sz="4400" spc="-1" strike="noStrike">
              <a:solidFill>
                <a:srgbClr val="333399"/>
              </a:solidFill>
              <a:latin typeface="Tahoma"/>
            </a:endParaRPr>
          </a:p>
        </p:txBody>
      </p:sp>
      <p:sp>
        <p:nvSpPr>
          <p:cNvPr id="116" name=""/>
          <p:cNvSpPr/>
          <p:nvPr/>
        </p:nvSpPr>
        <p:spPr>
          <a:xfrm>
            <a:off x="457200" y="2514600"/>
            <a:ext cx="8458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ea typeface="Times New Roman"/>
              </a:rPr>
              <a:t>Bei Regatten, an denen auch Kinder und Jugendliche teilnehmen, ist ein Haftungsausschluss für Schäden noch enger zu sehen!</a:t>
            </a:r>
            <a:r>
              <a:rPr b="0" lang="en-US"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Ein Beispiel...</a:t>
            </a:r>
            <a:endParaRPr b="0" lang="en-US" sz="4400" spc="-1" strike="noStrike">
              <a:solidFill>
                <a:srgbClr val="333399"/>
              </a:solidFill>
              <a:latin typeface="Tahoma"/>
            </a:endParaRPr>
          </a:p>
        </p:txBody>
      </p:sp>
      <p:sp>
        <p:nvSpPr>
          <p:cNvPr id="118" name=""/>
          <p:cNvSpPr/>
          <p:nvPr/>
        </p:nvSpPr>
        <p:spPr>
          <a:xfrm>
            <a:off x="457200" y="227664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ea typeface="Times New Roman"/>
              </a:rPr>
              <a:t>Bei einer Regatta zieht ein Unwetter auf, die Wettfahrtleitung (tätig für den Veranstalter) beendet die Wettfahrt nicht früh-zeitig, die teilnehmenden Kinder und Jugendlichen gera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ea typeface="Times New Roman"/>
              </a:rPr>
              <a:t>in „Seenot“. Darüber hinaus stellt sich heraus, dass nicht genügend Bergungsfahrzeuge zur Verfügung stehen. Ein Kind erleidet einen körperlichen Schaden</a:t>
            </a:r>
            <a:r>
              <a:rPr b="1" lang="de-DE" sz="2400" spc="-1" strike="noStrike">
                <a:solidFill>
                  <a:srgbClr val="000000"/>
                </a:solidFill>
                <a:latin typeface="Tahoma"/>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ea typeface="Times New Roman"/>
              </a:rPr>
              <a:t>Ein zivilrechtlicher Haftungsausschluss würde hier mit Sicherheit nicht greifen. Der Veranstalter müsste für die entsprechenden Folgen einste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LSVb-BW Vorschlag</a:t>
            </a:r>
            <a:endParaRPr b="0" lang="en-US" sz="4400" spc="-1" strike="noStrike">
              <a:solidFill>
                <a:srgbClr val="333399"/>
              </a:solidFill>
              <a:latin typeface="Tahoma"/>
            </a:endParaRPr>
          </a:p>
        </p:txBody>
      </p:sp>
      <p:sp>
        <p:nvSpPr>
          <p:cNvPr id="120" name=""/>
          <p:cNvSpPr/>
          <p:nvPr/>
        </p:nvSpPr>
        <p:spPr>
          <a:xfrm>
            <a:off x="609480" y="2328840"/>
            <a:ext cx="807732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ea typeface="Times New Roman"/>
              </a:rPr>
              <a:t>Den Vorschlag für eine „Haftungsfreizeich-nungsklausel“ für Regatta-Ausschreibungen etc. finden Sie auf der Web-Seite d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ea typeface="Times New Roman"/>
              </a:rPr>
              <a:t>Landes-Segler-Verbandes Baden-Württemberg.</a:t>
            </a:r>
            <a:r>
              <a:rPr b="1" lang="de-DE" sz="2800" spc="-1" strike="noStrike">
                <a:solidFill>
                  <a:srgbClr val="000000"/>
                </a:solidFill>
                <a:latin typeface="Tahoma"/>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ea typeface="Times New Roman"/>
              </a:rPr>
              <a:t>www.seglerverband-bw.de</a:t>
            </a:r>
            <a:r>
              <a:rPr b="0" lang="en-US" sz="2800" spc="-1" strike="noStrike">
                <a:solidFill>
                  <a:srgbClr val="000000"/>
                </a:solidFill>
                <a:latin typeface="Tahom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 Vorschlag (1/2)</a:t>
            </a:r>
            <a:endParaRPr b="0" lang="en-US" sz="4400" spc="-1" strike="noStrike">
              <a:solidFill>
                <a:srgbClr val="333399"/>
              </a:solidFill>
              <a:latin typeface="Tahoma"/>
            </a:endParaRPr>
          </a:p>
        </p:txBody>
      </p:sp>
      <p:sp>
        <p:nvSpPr>
          <p:cNvPr id="122" name=""/>
          <p:cNvSpPr/>
          <p:nvPr/>
        </p:nvSpPr>
        <p:spPr>
          <a:xfrm>
            <a:off x="380880" y="2336760"/>
            <a:ext cx="8534520" cy="350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Mit meiner Unterschrift wird der nachfolgende Haftungsausschluss ausdrücklich vereinbart. Die entsprechenden Regeln zu Pkt. 3 erkenne ich an.</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1. </a:t>
            </a: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Die Wettfahrtleitungen und die Veranstalter und die beteiligten Erfüllungs- und Verrichtungs-gehilfen übernehmen gegenüber den beteiligten Regattateilnehmern keine Haftung, gleich aus welchem Rechtsgrund, für Sach- und Vermögensschäden aller Art und deren Folgen, soweit  diese nicht durch die Verletzung einer wesentlichen Vertragspflicht des Veranstalters (Kardinalspflicht) entstanden sind. Bei der Verletzung von Haupt-/bzw. vertragswesentlichen Pflichten (Kardinalspflichten) ist die Haftung des Veranstalters in Fällen leichter Fahrlässigkeit beschränkt auf vorhersehbare, typischerweise eintretende Schäden. Dies gilt auch für die Verursachung der Schäden durch Personen, die Schlepp-, Sicherungs- und Bergungsfahrzeuge  zur Verfügung stellen, diese führen oder bei deren Einsatz behilflich si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 Vorschlag (2/2)</a:t>
            </a:r>
            <a:endParaRPr b="0" lang="en-US" sz="4400" spc="-1" strike="noStrike">
              <a:solidFill>
                <a:srgbClr val="333399"/>
              </a:solidFill>
              <a:latin typeface="Tahoma"/>
            </a:endParaRPr>
          </a:p>
        </p:txBody>
      </p:sp>
      <p:sp>
        <p:nvSpPr>
          <p:cNvPr id="124" name=""/>
          <p:cNvSpPr/>
          <p:nvPr/>
        </p:nvSpPr>
        <p:spPr>
          <a:xfrm>
            <a:off x="304920" y="2209680"/>
            <a:ext cx="8534160" cy="447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2.</a:t>
            </a:r>
            <a:r>
              <a:rPr b="1" lang="de-DE" sz="1600" spc="-1" strike="noStrike">
                <a:solidFill>
                  <a:srgbClr val="000000"/>
                </a:solidFill>
                <a:latin typeface="Times New Roman"/>
                <a:ea typeface="Times New Roman"/>
              </a:rPr>
              <a:t>    </a:t>
            </a:r>
            <a:r>
              <a:rPr b="1" lang="de-DE" sz="1600" spc="-1" strike="noStrike">
                <a:solidFill>
                  <a:srgbClr val="000000"/>
                </a:solidFill>
                <a:latin typeface="Tahoma"/>
                <a:ea typeface="Times New Roman"/>
              </a:rPr>
              <a:t>Es wird ausdrücklich bestätigt, dass die gemeldete Yacht und die dazu gehörige Mannschaft alle Anforderungen an Personen und Material erfüllt, die für eine Teilnahme an der Veranstaltung notwendig sind. Dies gilt insbesondere für den Ausbildungsstand, die körperliche Eignung der Mannschaft und die Sicherheit der Yacht. Es wird anerkannt, dass die Wettfahrtleiter und Veranstalter dafür keine Verantwortung übernehmen können.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3. </a:t>
            </a:r>
            <a:r>
              <a:rPr b="1" lang="de-DE" sz="1600" spc="-1" strike="noStrike">
                <a:solidFill>
                  <a:srgbClr val="000000"/>
                </a:solidFill>
                <a:latin typeface="Times New Roman"/>
                <a:ea typeface="Times New Roman"/>
              </a:rPr>
              <a:t>    </a:t>
            </a:r>
            <a:r>
              <a:rPr b="1" lang="de-DE" sz="1600" spc="-1" strike="noStrike">
                <a:solidFill>
                  <a:srgbClr val="000000"/>
                </a:solidFill>
                <a:latin typeface="Tahoma"/>
                <a:ea typeface="Times New Roman"/>
              </a:rPr>
              <a:t>Ich verpflichte mich, die gültigen WR der ISAF und die WO des DSV, die Klassenvorschriften sowie die Segelanweisungen einzuhalten und erkenne diese ausdrücklich an.</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a:t>
            </a:r>
            <a:r>
              <a:rPr b="1" lang="de-DE" sz="1600" spc="-1" strike="noStrike">
                <a:solidFill>
                  <a:srgbClr val="000000"/>
                </a:solidFill>
                <a:latin typeface="Tahoma"/>
                <a:ea typeface="Times New Roman"/>
              </a:rPr>
              <a:t>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Unterschrift des Steuermanns/der Steuerfrau)</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ea typeface="Times New Roman"/>
              </a:rPr>
              <a:t>	</a:t>
            </a:r>
            <a:r>
              <a:rPr b="1" lang="de-DE" sz="1600" spc="-1" strike="noStrike">
                <a:solidFill>
                  <a:srgbClr val="000000"/>
                </a:solidFill>
                <a:latin typeface="Tahoma"/>
                <a:ea typeface="Times New Roman"/>
              </a:rPr>
              <a:t>Unterschriften der Mannschaft</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3T10:31:39Z</dcterms:created>
  <dc:creator>Klaus Fischer</dc:creator>
  <dc:description/>
  <dc:language>en-US</dc:language>
  <cp:lastModifiedBy>Ulrich Finckh</cp:lastModifiedBy>
  <dcterms:modified xsi:type="dcterms:W3CDTF">2003-02-19T16:42:15Z</dcterms:modified>
  <cp:revision>11</cp:revision>
  <dc:subject/>
  <dc:title>Seminarkonzept  Bereich Wettsegeln</dc:title>
</cp:coreProperties>
</file>