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022-657F-4D53-8953-83C17BA6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588-5EC3-4AE6-9BC2-A1CF3BC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95E-FF43-4213-8926-53046D7B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81A-EBF0-4D24-BC33-F4BE2023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349-5F62-4301-985B-8002170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9FC-450C-4100-AA6C-88FAAAB3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E3D-7B41-420F-B953-FAA351D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057-3D19-4856-9082-8C35510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3DC-83E4-4E21-8CDD-BB66EA3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110-1F3B-4A25-ACFB-D845574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BF0-4AB5-4D9F-AB29-77698F1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F0D-2417-4B4C-BED4-28C1B69C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A43-EC73-40DF-A0D3-FF5FD21A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rman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97480" y="838080"/>
            <a:ext cx="31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Flagg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8E5-2071-4CBF-93C3-BBDB2D54F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ggen vor Beginn der Wettfahrt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8600" y="838080"/>
            <a:ext cx="2133720" cy="703440"/>
            <a:chOff x="228600" y="838080"/>
            <a:chExt cx="2133720" cy="703440"/>
          </a:xfrm>
        </p:grpSpPr>
        <p:grpSp>
          <p:nvGrpSpPr>
            <p:cNvPr id="45" name=""/>
            <p:cNvGrpSpPr/>
            <p:nvPr/>
          </p:nvGrpSpPr>
          <p:grpSpPr>
            <a:xfrm>
              <a:off x="228600" y="838080"/>
              <a:ext cx="838080" cy="685800"/>
              <a:chOff x="228600" y="838080"/>
              <a:chExt cx="838080" cy="685800"/>
            </a:xfrm>
          </p:grpSpPr>
          <p:sp>
            <p:nvSpPr>
              <p:cNvPr id="46" name=""/>
              <p:cNvSpPr/>
              <p:nvPr/>
            </p:nvSpPr>
            <p:spPr>
              <a:xfrm>
                <a:off x="228600" y="838080"/>
                <a:ext cx="838080" cy="685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7640" y="838080"/>
                <a:ext cx="418680" cy="343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28600" y="1181160"/>
                <a:ext cx="41904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1905120" y="8380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886200" y="914400"/>
            <a:ext cx="5257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ufweite kommen oder diesem Boot f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600200"/>
            <a:ext cx="5257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t gestartete Wettfahrten sind versc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286000"/>
            <a:ext cx="5257800" cy="86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t gestartete Wettfahrten si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 1 - 6 Stunden versc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90920" y="2361960"/>
            <a:ext cx="914400" cy="609480"/>
            <a:chOff x="2590920" y="2361960"/>
            <a:chExt cx="914400" cy="609480"/>
          </a:xfrm>
        </p:grpSpPr>
        <p:sp>
          <p:nvSpPr>
            <p:cNvPr id="54" name=""/>
            <p:cNvSpPr/>
            <p:nvPr/>
          </p:nvSpPr>
          <p:spPr>
            <a:xfrm flipV="1">
              <a:off x="2590920" y="2361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43200" y="25909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25909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886200" y="3505320"/>
            <a:ext cx="5257800" cy="86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t gestartete Wettfahrten sind  versc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tere Signale an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90920" y="1523520"/>
            <a:ext cx="914400" cy="609480"/>
            <a:chOff x="2590920" y="1523520"/>
            <a:chExt cx="914400" cy="609480"/>
          </a:xfrm>
        </p:grpSpPr>
        <p:sp>
          <p:nvSpPr>
            <p:cNvPr id="59" name=""/>
            <p:cNvSpPr/>
            <p:nvPr/>
          </p:nvSpPr>
          <p:spPr>
            <a:xfrm flipV="1">
              <a:off x="2590920" y="1523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175248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400" y="175248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90920" y="761760"/>
            <a:ext cx="457200" cy="609480"/>
            <a:chOff x="2590920" y="761760"/>
            <a:chExt cx="457200" cy="609480"/>
          </a:xfrm>
        </p:grpSpPr>
        <p:sp>
          <p:nvSpPr>
            <p:cNvPr id="63" name=""/>
            <p:cNvSpPr/>
            <p:nvPr/>
          </p:nvSpPr>
          <p:spPr>
            <a:xfrm flipV="1">
              <a:off x="2590920" y="76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3200" y="9907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1600200"/>
            <a:ext cx="2286000" cy="703440"/>
            <a:chOff x="228600" y="1600200"/>
            <a:chExt cx="2286000" cy="703440"/>
          </a:xfrm>
        </p:grpSpPr>
        <p:grpSp>
          <p:nvGrpSpPr>
            <p:cNvPr id="66" name=""/>
            <p:cNvGrpSpPr/>
            <p:nvPr/>
          </p:nvGrpSpPr>
          <p:grpSpPr>
            <a:xfrm>
              <a:off x="228600" y="1676160"/>
              <a:ext cx="1143000" cy="609840"/>
              <a:chOff x="228600" y="1676160"/>
              <a:chExt cx="1143000" cy="609840"/>
            </a:xfrm>
          </p:grpSpPr>
          <p:sp>
            <p:nvSpPr>
              <p:cNvPr id="67" name=""/>
              <p:cNvSpPr/>
              <p:nvPr/>
            </p:nvSpPr>
            <p:spPr>
              <a:xfrm>
                <a:off x="228600" y="1676160"/>
                <a:ext cx="1143000" cy="609840"/>
              </a:xfrm>
              <a:custGeom>
                <a:avLst/>
                <a:gdLst/>
                <a:ahLst/>
                <a:rect l="l" t="t" r="r" b="b"/>
                <a:pathLst>
                  <a:path w="912" h="456">
                    <a:moveTo>
                      <a:pt x="0" y="0"/>
                    </a:moveTo>
                    <a:lnTo>
                      <a:pt x="912" y="144"/>
                    </a:lnTo>
                    <a:lnTo>
                      <a:pt x="912" y="336"/>
                    </a:lnTo>
                    <a:lnTo>
                      <a:pt x="0" y="4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600" y="1676160"/>
                <a:ext cx="161640" cy="609840"/>
              </a:xfrm>
              <a:custGeom>
                <a:avLst/>
                <a:gdLst/>
                <a:ahLst/>
                <a:rect l="l" t="t" r="r" b="b"/>
                <a:pathLst>
                  <a:path w="129" h="456">
                    <a:moveTo>
                      <a:pt x="0" y="0"/>
                    </a:moveTo>
                    <a:lnTo>
                      <a:pt x="129" y="21"/>
                    </a:lnTo>
                    <a:lnTo>
                      <a:pt x="129" y="438"/>
                    </a:lnTo>
                    <a:lnTo>
                      <a:pt x="0" y="4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79120" y="1784520"/>
                <a:ext cx="165240" cy="405000"/>
              </a:xfrm>
              <a:custGeom>
                <a:avLst/>
                <a:gdLst/>
                <a:ahLst/>
                <a:rect l="l" t="t" r="r" b="b"/>
                <a:pathLst>
                  <a:path w="132" h="303">
                    <a:moveTo>
                      <a:pt x="0" y="0"/>
                    </a:moveTo>
                    <a:lnTo>
                      <a:pt x="132" y="21"/>
                    </a:lnTo>
                    <a:lnTo>
                      <a:pt x="132" y="291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7920" y="1728000"/>
                <a:ext cx="169200" cy="509400"/>
              </a:xfrm>
              <a:custGeom>
                <a:avLst/>
                <a:gdLst/>
                <a:ahLst/>
                <a:rect l="l" t="t" r="r" b="b"/>
                <a:pathLst>
                  <a:path w="135" h="381">
                    <a:moveTo>
                      <a:pt x="0" y="0"/>
                    </a:moveTo>
                    <a:lnTo>
                      <a:pt x="135" y="21"/>
                    </a:lnTo>
                    <a:lnTo>
                      <a:pt x="135" y="363"/>
                    </a:lnTo>
                    <a:lnTo>
                      <a:pt x="0" y="3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06000" y="1844640"/>
                <a:ext cx="161280" cy="300600"/>
              </a:xfrm>
              <a:custGeom>
                <a:avLst/>
                <a:gdLst/>
                <a:ahLst/>
                <a:rect l="l" t="t" r="r" b="b"/>
                <a:pathLst>
                  <a:path w="129" h="225">
                    <a:moveTo>
                      <a:pt x="0" y="0"/>
                    </a:moveTo>
                    <a:lnTo>
                      <a:pt x="129" y="21"/>
                    </a:lnTo>
                    <a:lnTo>
                      <a:pt x="129" y="210"/>
                    </a:lnTo>
                    <a:lnTo>
                      <a:pt x="0" y="2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1676520" y="1600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28600" y="2286000"/>
            <a:ext cx="2214360" cy="1519200"/>
            <a:chOff x="228600" y="2286000"/>
            <a:chExt cx="2214360" cy="1519200"/>
          </a:xfrm>
        </p:grpSpPr>
        <p:sp>
          <p:nvSpPr>
            <p:cNvPr id="74" name=""/>
            <p:cNvSpPr/>
            <p:nvPr/>
          </p:nvSpPr>
          <p:spPr>
            <a:xfrm>
              <a:off x="1681200" y="2286000"/>
              <a:ext cx="76176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über</a:t>
              </a:r>
              <a:r>
                <a:rPr b="0" lang="de-DE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1-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28600" y="2419200"/>
              <a:ext cx="1218960" cy="933480"/>
              <a:chOff x="228600" y="2419200"/>
              <a:chExt cx="1218960" cy="9334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33280" y="2895480"/>
                <a:ext cx="1143000" cy="457200"/>
                <a:chOff x="233280" y="2895480"/>
                <a:chExt cx="1143000" cy="4572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3280" y="2895480"/>
                  <a:ext cx="114300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456">
                      <a:moveTo>
                        <a:pt x="0" y="0"/>
                      </a:moveTo>
                      <a:lnTo>
                        <a:pt x="912" y="144"/>
                      </a:lnTo>
                      <a:lnTo>
                        <a:pt x="912" y="336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3760" y="3039840"/>
                  <a:ext cx="240480" cy="192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28600" y="2419200"/>
                <a:ext cx="1218960" cy="457200"/>
                <a:chOff x="228600" y="2419200"/>
                <a:chExt cx="1218960" cy="4572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28600" y="2419200"/>
                  <a:ext cx="121896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456">
                      <a:moveTo>
                        <a:pt x="0" y="0"/>
                      </a:moveTo>
                      <a:lnTo>
                        <a:pt x="912" y="144"/>
                      </a:lnTo>
                      <a:lnTo>
                        <a:pt x="912" y="336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28600" y="2419200"/>
                  <a:ext cx="172440" cy="457200"/>
                </a:xfrm>
                <a:custGeom>
                  <a:avLst/>
                  <a:gdLst/>
                  <a:ahLst/>
                  <a:rect l="l" t="t" r="r" b="b"/>
                  <a:pathLst>
                    <a:path w="129" h="456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438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22320" y="2500560"/>
                  <a:ext cx="176040" cy="303480"/>
                </a:xfrm>
                <a:custGeom>
                  <a:avLst/>
                  <a:gdLst/>
                  <a:ahLst/>
                  <a:rect l="l" t="t" r="r" b="b"/>
                  <a:pathLst>
                    <a:path w="132" h="303">
                      <a:moveTo>
                        <a:pt x="0" y="0"/>
                      </a:moveTo>
                      <a:lnTo>
                        <a:pt x="132" y="21"/>
                      </a:lnTo>
                      <a:lnTo>
                        <a:pt x="132" y="291"/>
                      </a:lnTo>
                      <a:lnTo>
                        <a:pt x="0" y="3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69160" y="2458080"/>
                  <a:ext cx="180360" cy="381960"/>
                </a:xfrm>
                <a:custGeom>
                  <a:avLst/>
                  <a:gdLst/>
                  <a:ahLst/>
                  <a:rect l="l" t="t" r="r" b="b"/>
                  <a:pathLst>
                    <a:path w="135" h="381">
                      <a:moveTo>
                        <a:pt x="0" y="0"/>
                      </a:moveTo>
                      <a:lnTo>
                        <a:pt x="135" y="21"/>
                      </a:lnTo>
                      <a:lnTo>
                        <a:pt x="135" y="363"/>
                      </a:lnTo>
                      <a:lnTo>
                        <a:pt x="0" y="3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271160" y="2545560"/>
                  <a:ext cx="172080" cy="225360"/>
                </a:xfrm>
                <a:custGeom>
                  <a:avLst/>
                  <a:gdLst/>
                  <a:ahLst/>
                  <a:rect l="l" t="t" r="r" b="b"/>
                  <a:pathLst>
                    <a:path w="129" h="225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210"/>
                      </a:lnTo>
                      <a:lnTo>
                        <a:pt x="0" y="2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" name=""/>
          <p:cNvGrpSpPr/>
          <p:nvPr/>
        </p:nvGrpSpPr>
        <p:grpSpPr>
          <a:xfrm>
            <a:off x="228600" y="3581280"/>
            <a:ext cx="2133720" cy="1519200"/>
            <a:chOff x="228600" y="3581280"/>
            <a:chExt cx="2133720" cy="1519200"/>
          </a:xfrm>
        </p:grpSpPr>
        <p:grpSp>
          <p:nvGrpSpPr>
            <p:cNvPr id="86" name=""/>
            <p:cNvGrpSpPr/>
            <p:nvPr/>
          </p:nvGrpSpPr>
          <p:grpSpPr>
            <a:xfrm>
              <a:off x="228600" y="3581280"/>
              <a:ext cx="1219320" cy="1019160"/>
              <a:chOff x="228600" y="3581280"/>
              <a:chExt cx="1219320" cy="10191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228600" y="3581280"/>
                <a:ext cx="1219320" cy="457200"/>
                <a:chOff x="228600" y="3581280"/>
                <a:chExt cx="1219320" cy="4572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28600" y="3581280"/>
                  <a:ext cx="121932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456">
                      <a:moveTo>
                        <a:pt x="0" y="0"/>
                      </a:moveTo>
                      <a:lnTo>
                        <a:pt x="912" y="144"/>
                      </a:lnTo>
                      <a:lnTo>
                        <a:pt x="912" y="336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8600" y="3581280"/>
                  <a:ext cx="172440" cy="457200"/>
                </a:xfrm>
                <a:custGeom>
                  <a:avLst/>
                  <a:gdLst/>
                  <a:ahLst/>
                  <a:rect l="l" t="t" r="r" b="b"/>
                  <a:pathLst>
                    <a:path w="129" h="456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438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922320" y="3662640"/>
                  <a:ext cx="176400" cy="303480"/>
                </a:xfrm>
                <a:custGeom>
                  <a:avLst/>
                  <a:gdLst/>
                  <a:ahLst/>
                  <a:rect l="l" t="t" r="r" b="b"/>
                  <a:pathLst>
                    <a:path w="132" h="303">
                      <a:moveTo>
                        <a:pt x="0" y="0"/>
                      </a:moveTo>
                      <a:lnTo>
                        <a:pt x="132" y="21"/>
                      </a:lnTo>
                      <a:lnTo>
                        <a:pt x="132" y="291"/>
                      </a:lnTo>
                      <a:lnTo>
                        <a:pt x="0" y="3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69160" y="3620160"/>
                  <a:ext cx="180360" cy="381960"/>
                </a:xfrm>
                <a:custGeom>
                  <a:avLst/>
                  <a:gdLst/>
                  <a:ahLst/>
                  <a:rect l="l" t="t" r="r" b="b"/>
                  <a:pathLst>
                    <a:path w="135" h="381">
                      <a:moveTo>
                        <a:pt x="0" y="0"/>
                      </a:moveTo>
                      <a:lnTo>
                        <a:pt x="135" y="21"/>
                      </a:lnTo>
                      <a:lnTo>
                        <a:pt x="135" y="363"/>
                      </a:lnTo>
                      <a:lnTo>
                        <a:pt x="0" y="3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271520" y="3707640"/>
                  <a:ext cx="172080" cy="225360"/>
                </a:xfrm>
                <a:custGeom>
                  <a:avLst/>
                  <a:gdLst/>
                  <a:ahLst/>
                  <a:rect l="l" t="t" r="r" b="b"/>
                  <a:pathLst>
                    <a:path w="129" h="225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210"/>
                      </a:lnTo>
                      <a:lnTo>
                        <a:pt x="0" y="2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28600" y="4067280"/>
                <a:ext cx="838080" cy="533160"/>
                <a:chOff x="228600" y="4067280"/>
                <a:chExt cx="838080" cy="533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28600" y="4067280"/>
                  <a:ext cx="838080" cy="53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47640" y="4067280"/>
                  <a:ext cx="419040" cy="5331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1600200" y="3581280"/>
              <a:ext cx="76212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über</a:t>
              </a:r>
              <a:r>
                <a:rPr b="0" lang="de-DE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809880" y="4572000"/>
            <a:ext cx="5257800" cy="86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t gestartete Wettfahrten sind  versc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te keine Wettfahrt me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90920" y="3504960"/>
            <a:ext cx="914400" cy="609480"/>
            <a:chOff x="2590920" y="3504960"/>
            <a:chExt cx="914400" cy="609480"/>
          </a:xfrm>
        </p:grpSpPr>
        <p:sp>
          <p:nvSpPr>
            <p:cNvPr id="99" name=""/>
            <p:cNvSpPr/>
            <p:nvPr/>
          </p:nvSpPr>
          <p:spPr>
            <a:xfrm flipV="1">
              <a:off x="2590920" y="3504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339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0400" y="37339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90920" y="4800240"/>
            <a:ext cx="914400" cy="609480"/>
            <a:chOff x="2590920" y="4800240"/>
            <a:chExt cx="914400" cy="609480"/>
          </a:xfrm>
        </p:grpSpPr>
        <p:sp>
          <p:nvSpPr>
            <p:cNvPr id="103" name=""/>
            <p:cNvSpPr/>
            <p:nvPr/>
          </p:nvSpPr>
          <p:spPr>
            <a:xfrm flipV="1">
              <a:off x="2590920" y="480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02920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502920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8600" y="4800600"/>
            <a:ext cx="2133720" cy="1519200"/>
            <a:chOff x="228600" y="4800600"/>
            <a:chExt cx="2133720" cy="1519200"/>
          </a:xfrm>
        </p:grpSpPr>
        <p:sp>
          <p:nvSpPr>
            <p:cNvPr id="107" name=""/>
            <p:cNvSpPr/>
            <p:nvPr/>
          </p:nvSpPr>
          <p:spPr>
            <a:xfrm>
              <a:off x="1600200" y="4800600"/>
              <a:ext cx="76212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über</a:t>
              </a:r>
              <a:r>
                <a:rPr b="0" lang="de-DE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28600" y="4800600"/>
              <a:ext cx="1219320" cy="1005120"/>
              <a:chOff x="228600" y="4800600"/>
              <a:chExt cx="1219320" cy="10051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28600" y="4800600"/>
                <a:ext cx="1219320" cy="457200"/>
                <a:chOff x="228600" y="4800600"/>
                <a:chExt cx="1219320" cy="45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28600" y="4800600"/>
                  <a:ext cx="121932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456">
                      <a:moveTo>
                        <a:pt x="0" y="0"/>
                      </a:moveTo>
                      <a:lnTo>
                        <a:pt x="912" y="144"/>
                      </a:lnTo>
                      <a:lnTo>
                        <a:pt x="912" y="336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8600" y="4800600"/>
                  <a:ext cx="172440" cy="457200"/>
                </a:xfrm>
                <a:custGeom>
                  <a:avLst/>
                  <a:gdLst/>
                  <a:ahLst/>
                  <a:rect l="l" t="t" r="r" b="b"/>
                  <a:pathLst>
                    <a:path w="129" h="456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438"/>
                      </a:lnTo>
                      <a:lnTo>
                        <a:pt x="0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22320" y="4881960"/>
                  <a:ext cx="176400" cy="303480"/>
                </a:xfrm>
                <a:custGeom>
                  <a:avLst/>
                  <a:gdLst/>
                  <a:ahLst/>
                  <a:rect l="l" t="t" r="r" b="b"/>
                  <a:pathLst>
                    <a:path w="132" h="303">
                      <a:moveTo>
                        <a:pt x="0" y="0"/>
                      </a:moveTo>
                      <a:lnTo>
                        <a:pt x="132" y="21"/>
                      </a:lnTo>
                      <a:lnTo>
                        <a:pt x="132" y="291"/>
                      </a:lnTo>
                      <a:lnTo>
                        <a:pt x="0" y="3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69160" y="4839480"/>
                  <a:ext cx="180360" cy="381960"/>
                </a:xfrm>
                <a:custGeom>
                  <a:avLst/>
                  <a:gdLst/>
                  <a:ahLst/>
                  <a:rect l="l" t="t" r="r" b="b"/>
                  <a:pathLst>
                    <a:path w="135" h="381">
                      <a:moveTo>
                        <a:pt x="0" y="0"/>
                      </a:moveTo>
                      <a:lnTo>
                        <a:pt x="135" y="21"/>
                      </a:lnTo>
                      <a:lnTo>
                        <a:pt x="135" y="363"/>
                      </a:lnTo>
                      <a:lnTo>
                        <a:pt x="0" y="3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271520" y="4926960"/>
                  <a:ext cx="172080" cy="225360"/>
                </a:xfrm>
                <a:custGeom>
                  <a:avLst/>
                  <a:gdLst/>
                  <a:ahLst/>
                  <a:rect l="l" t="t" r="r" b="b"/>
                  <a:pathLst>
                    <a:path w="129" h="225">
                      <a:moveTo>
                        <a:pt x="0" y="0"/>
                      </a:moveTo>
                      <a:lnTo>
                        <a:pt x="129" y="21"/>
                      </a:lnTo>
                      <a:lnTo>
                        <a:pt x="129" y="210"/>
                      </a:lnTo>
                      <a:lnTo>
                        <a:pt x="0" y="2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28600" y="5272200"/>
                <a:ext cx="838080" cy="533520"/>
                <a:chOff x="228600" y="5272200"/>
                <a:chExt cx="838080" cy="533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28600" y="5272200"/>
                  <a:ext cx="838080" cy="533520"/>
                </a:xfrm>
                <a:custGeom>
                  <a:avLst/>
                  <a:gdLst/>
                  <a:ahLst/>
                  <a:rect l="l" t="t" r="r" b="b"/>
                  <a:pathLst>
                    <a:path w="528" h="336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384" y="192"/>
                      </a:lnTo>
                      <a:lnTo>
                        <a:pt x="528" y="336"/>
                      </a:lnTo>
                      <a:lnTo>
                        <a:pt x="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6640" y="5272200"/>
                  <a:ext cx="500040" cy="533520"/>
                </a:xfrm>
                <a:custGeom>
                  <a:avLst/>
                  <a:gdLst/>
                  <a:ahLst/>
                  <a:rect l="l" t="t" r="r" b="b"/>
                  <a:pathLst>
                    <a:path w="315" h="336">
                      <a:moveTo>
                        <a:pt x="0" y="0"/>
                      </a:moveTo>
                      <a:lnTo>
                        <a:pt x="315" y="0"/>
                      </a:lnTo>
                      <a:lnTo>
                        <a:pt x="171" y="192"/>
                      </a:lnTo>
                      <a:lnTo>
                        <a:pt x="315" y="336"/>
                      </a:lnTo>
                      <a:lnTo>
                        <a:pt x="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" name=""/>
          <p:cNvSpPr/>
          <p:nvPr/>
        </p:nvSpPr>
        <p:spPr>
          <a:xfrm>
            <a:off x="2362320" y="5257800"/>
            <a:ext cx="5195880" cy="158796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ollte in der Startphase immer bereit sein um bei Fehlern sofort reag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EA9-41EC-446F-A9CD-3A15A7281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ggensignale kurz vor Beginn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" y="838080"/>
            <a:ext cx="2133720" cy="914040"/>
            <a:chOff x="228600" y="838080"/>
            <a:chExt cx="2133720" cy="914040"/>
          </a:xfrm>
        </p:grpSpPr>
        <p:grpSp>
          <p:nvGrpSpPr>
            <p:cNvPr id="121" name=""/>
            <p:cNvGrpSpPr/>
            <p:nvPr/>
          </p:nvGrpSpPr>
          <p:grpSpPr>
            <a:xfrm>
              <a:off x="228600" y="838080"/>
              <a:ext cx="1142640" cy="914040"/>
              <a:chOff x="228600" y="838080"/>
              <a:chExt cx="1142640" cy="91404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00" y="838080"/>
                <a:ext cx="1142640" cy="91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0280" y="838080"/>
                <a:ext cx="570960" cy="45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8600" y="1295280"/>
                <a:ext cx="571320" cy="456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905120" y="8380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86200" y="914400"/>
            <a:ext cx="5257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iner Minute erfolgt Ankündigungs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057400"/>
            <a:ext cx="5257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iner Minute erfolgt Ankündigungs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276720"/>
            <a:ext cx="5257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wimmwesten sind zu t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90920" y="3047760"/>
            <a:ext cx="457200" cy="609480"/>
            <a:chOff x="2590920" y="3047760"/>
            <a:chExt cx="457200" cy="609480"/>
          </a:xfrm>
        </p:grpSpPr>
        <p:sp>
          <p:nvSpPr>
            <p:cNvPr id="130" name=""/>
            <p:cNvSpPr/>
            <p:nvPr/>
          </p:nvSpPr>
          <p:spPr>
            <a:xfrm flipV="1">
              <a:off x="2590920" y="3047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32767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8600" y="1905120"/>
            <a:ext cx="2437920" cy="914040"/>
            <a:chOff x="228600" y="1905120"/>
            <a:chExt cx="2437920" cy="914040"/>
          </a:xfrm>
        </p:grpSpPr>
        <p:grpSp>
          <p:nvGrpSpPr>
            <p:cNvPr id="133" name=""/>
            <p:cNvGrpSpPr/>
            <p:nvPr/>
          </p:nvGrpSpPr>
          <p:grpSpPr>
            <a:xfrm>
              <a:off x="228600" y="1905120"/>
              <a:ext cx="1599480" cy="914040"/>
              <a:chOff x="228600" y="1905120"/>
              <a:chExt cx="1599480" cy="914040"/>
            </a:xfrm>
          </p:grpSpPr>
          <p:sp>
            <p:nvSpPr>
              <p:cNvPr id="134" name=""/>
              <p:cNvSpPr/>
              <p:nvPr/>
            </p:nvSpPr>
            <p:spPr>
              <a:xfrm>
                <a:off x="228600" y="1905120"/>
                <a:ext cx="1599480" cy="914040"/>
              </a:xfrm>
              <a:custGeom>
                <a:avLst/>
                <a:gdLst/>
                <a:ahLst/>
                <a:rect l="l" t="t" r="r" b="b"/>
                <a:pathLst>
                  <a:path w="912" h="456">
                    <a:moveTo>
                      <a:pt x="0" y="0"/>
                    </a:moveTo>
                    <a:lnTo>
                      <a:pt x="912" y="144"/>
                    </a:lnTo>
                    <a:lnTo>
                      <a:pt x="912" y="336"/>
                    </a:lnTo>
                    <a:lnTo>
                      <a:pt x="0" y="4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8600" y="1905120"/>
                <a:ext cx="226080" cy="914040"/>
              </a:xfrm>
              <a:custGeom>
                <a:avLst/>
                <a:gdLst/>
                <a:ahLst/>
                <a:rect l="l" t="t" r="r" b="b"/>
                <a:pathLst>
                  <a:path w="129" h="456">
                    <a:moveTo>
                      <a:pt x="0" y="0"/>
                    </a:moveTo>
                    <a:lnTo>
                      <a:pt x="129" y="21"/>
                    </a:lnTo>
                    <a:lnTo>
                      <a:pt x="129" y="438"/>
                    </a:lnTo>
                    <a:lnTo>
                      <a:pt x="0" y="4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39040" y="2067840"/>
                <a:ext cx="231480" cy="607320"/>
              </a:xfrm>
              <a:custGeom>
                <a:avLst/>
                <a:gdLst/>
                <a:ahLst/>
                <a:rect l="l" t="t" r="r" b="b"/>
                <a:pathLst>
                  <a:path w="132" h="303">
                    <a:moveTo>
                      <a:pt x="0" y="0"/>
                    </a:moveTo>
                    <a:lnTo>
                      <a:pt x="132" y="21"/>
                    </a:lnTo>
                    <a:lnTo>
                      <a:pt x="132" y="291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5360" y="1983240"/>
                <a:ext cx="236880" cy="763560"/>
              </a:xfrm>
              <a:custGeom>
                <a:avLst/>
                <a:gdLst/>
                <a:ahLst/>
                <a:rect l="l" t="t" r="r" b="b"/>
                <a:pathLst>
                  <a:path w="135" h="381">
                    <a:moveTo>
                      <a:pt x="0" y="0"/>
                    </a:moveTo>
                    <a:lnTo>
                      <a:pt x="135" y="21"/>
                    </a:lnTo>
                    <a:lnTo>
                      <a:pt x="135" y="363"/>
                    </a:lnTo>
                    <a:lnTo>
                      <a:pt x="0" y="3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96600" y="2157840"/>
                <a:ext cx="225720" cy="450720"/>
              </a:xfrm>
              <a:custGeom>
                <a:avLst/>
                <a:gdLst/>
                <a:ahLst/>
                <a:rect l="l" t="t" r="r" b="b"/>
                <a:pathLst>
                  <a:path w="129" h="225">
                    <a:moveTo>
                      <a:pt x="0" y="0"/>
                    </a:moveTo>
                    <a:lnTo>
                      <a:pt x="129" y="21"/>
                    </a:lnTo>
                    <a:lnTo>
                      <a:pt x="129" y="210"/>
                    </a:lnTo>
                    <a:lnTo>
                      <a:pt x="0" y="2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828440" y="20574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" y="837720"/>
            <a:ext cx="2819520" cy="914760"/>
            <a:chOff x="228600" y="837720"/>
            <a:chExt cx="2819520" cy="914760"/>
          </a:xfrm>
        </p:grpSpPr>
        <p:grpSp>
          <p:nvGrpSpPr>
            <p:cNvPr id="141" name=""/>
            <p:cNvGrpSpPr/>
            <p:nvPr/>
          </p:nvGrpSpPr>
          <p:grpSpPr>
            <a:xfrm>
              <a:off x="2590920" y="837720"/>
              <a:ext cx="457200" cy="609480"/>
              <a:chOff x="2590920" y="837720"/>
              <a:chExt cx="457200" cy="60948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2590920" y="8377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43200" y="106668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28600" y="83808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8600" y="1752480"/>
            <a:ext cx="2895480" cy="1066680"/>
            <a:chOff x="228600" y="1752480"/>
            <a:chExt cx="2895480" cy="1066680"/>
          </a:xfrm>
        </p:grpSpPr>
        <p:grpSp>
          <p:nvGrpSpPr>
            <p:cNvPr id="146" name=""/>
            <p:cNvGrpSpPr/>
            <p:nvPr/>
          </p:nvGrpSpPr>
          <p:grpSpPr>
            <a:xfrm>
              <a:off x="2666880" y="1980720"/>
              <a:ext cx="457200" cy="609480"/>
              <a:chOff x="2666880" y="1980720"/>
              <a:chExt cx="457200" cy="6094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666880" y="19807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19160" y="220968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28600" y="1752480"/>
              <a:ext cx="16002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600" y="3048120"/>
            <a:ext cx="2133720" cy="914040"/>
            <a:chOff x="228600" y="3048120"/>
            <a:chExt cx="2133720" cy="914040"/>
          </a:xfrm>
        </p:grpSpPr>
        <p:sp>
          <p:nvSpPr>
            <p:cNvPr id="151" name=""/>
            <p:cNvSpPr/>
            <p:nvPr/>
          </p:nvSpPr>
          <p:spPr>
            <a:xfrm>
              <a:off x="1828800" y="31240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8600" y="3048120"/>
              <a:ext cx="1144080" cy="914040"/>
              <a:chOff x="228600" y="3048120"/>
              <a:chExt cx="1144080" cy="914040"/>
            </a:xfrm>
          </p:grpSpPr>
          <p:sp>
            <p:nvSpPr>
              <p:cNvPr id="153" name=""/>
              <p:cNvSpPr/>
              <p:nvPr/>
            </p:nvSpPr>
            <p:spPr>
              <a:xfrm>
                <a:off x="230400" y="3048120"/>
                <a:ext cx="1142280" cy="91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4720" y="3048120"/>
                <a:ext cx="371880" cy="366120"/>
              </a:xfrm>
              <a:custGeom>
                <a:avLst/>
                <a:gdLst/>
                <a:ahLst/>
                <a:rect l="l" t="t" r="r" b="b"/>
                <a:pathLst>
                  <a:path w="172" h="173">
                    <a:moveTo>
                      <a:pt x="0" y="95"/>
                    </a:moveTo>
                    <a:lnTo>
                      <a:pt x="94" y="0"/>
                    </a:lnTo>
                    <a:lnTo>
                      <a:pt x="172" y="0"/>
                    </a:lnTo>
                    <a:lnTo>
                      <a:pt x="0" y="17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4720" y="3048120"/>
                <a:ext cx="715680" cy="702360"/>
              </a:xfrm>
              <a:custGeom>
                <a:avLst/>
                <a:gdLst/>
                <a:ahLst/>
                <a:rect l="l" t="t" r="r" b="b"/>
                <a:pathLst>
                  <a:path w="331" h="332">
                    <a:moveTo>
                      <a:pt x="0" y="254"/>
                    </a:moveTo>
                    <a:lnTo>
                      <a:pt x="253" y="0"/>
                    </a:lnTo>
                    <a:lnTo>
                      <a:pt x="331" y="0"/>
                    </a:lnTo>
                    <a:lnTo>
                      <a:pt x="0" y="332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3051720"/>
                <a:ext cx="1072800" cy="907920"/>
              </a:xfrm>
              <a:custGeom>
                <a:avLst/>
                <a:gdLst/>
                <a:ahLst/>
                <a:rect l="l" t="t" r="r" b="b"/>
                <a:pathLst>
                  <a:path w="496" h="429">
                    <a:moveTo>
                      <a:pt x="0" y="418"/>
                    </a:moveTo>
                    <a:lnTo>
                      <a:pt x="418" y="0"/>
                    </a:lnTo>
                    <a:lnTo>
                      <a:pt x="496" y="0"/>
                    </a:lnTo>
                    <a:lnTo>
                      <a:pt x="67" y="429"/>
                    </a:lnTo>
                    <a:lnTo>
                      <a:pt x="1" y="429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8880" y="3185280"/>
                <a:ext cx="791640" cy="774360"/>
              </a:xfrm>
              <a:custGeom>
                <a:avLst/>
                <a:gdLst/>
                <a:ahLst/>
                <a:rect l="l" t="t" r="r" b="b"/>
                <a:pathLst>
                  <a:path w="366" h="366">
                    <a:moveTo>
                      <a:pt x="0" y="366"/>
                    </a:moveTo>
                    <a:lnTo>
                      <a:pt x="366" y="0"/>
                    </a:lnTo>
                    <a:lnTo>
                      <a:pt x="366" y="76"/>
                    </a:lnTo>
                    <a:lnTo>
                      <a:pt x="76" y="36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7800" y="3536640"/>
                <a:ext cx="428040" cy="42300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0" y="198"/>
                    </a:moveTo>
                    <a:lnTo>
                      <a:pt x="198" y="0"/>
                    </a:lnTo>
                    <a:lnTo>
                      <a:pt x="198" y="78"/>
                    </a:lnTo>
                    <a:lnTo>
                      <a:pt x="77" y="20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228600" y="4308480"/>
            <a:ext cx="2528640" cy="949320"/>
            <a:chOff x="228600" y="4308480"/>
            <a:chExt cx="2528640" cy="949320"/>
          </a:xfrm>
        </p:grpSpPr>
        <p:grpSp>
          <p:nvGrpSpPr>
            <p:cNvPr id="160" name=""/>
            <p:cNvGrpSpPr/>
            <p:nvPr/>
          </p:nvGrpSpPr>
          <p:grpSpPr>
            <a:xfrm>
              <a:off x="228600" y="4343400"/>
              <a:ext cx="1143000" cy="914400"/>
              <a:chOff x="228600" y="4343400"/>
              <a:chExt cx="1143000" cy="914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8600" y="4343400"/>
                <a:ext cx="1143000" cy="9144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280" y="4387680"/>
                <a:ext cx="415800" cy="828720"/>
              </a:xfrm>
              <a:custGeom>
                <a:avLst/>
                <a:gdLst/>
                <a:ahLst/>
                <a:rect l="l" t="t" r="r" b="b"/>
                <a:pathLst>
                  <a:path w="262" h="522">
                    <a:moveTo>
                      <a:pt x="262" y="522"/>
                    </a:moveTo>
                    <a:lnTo>
                      <a:pt x="262" y="0"/>
                    </a:lnTo>
                    <a:lnTo>
                      <a:pt x="0" y="262"/>
                    </a:lnTo>
                    <a:lnTo>
                      <a:pt x="222" y="48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812960" y="430848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ur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ag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886200" y="4495680"/>
            <a:ext cx="52578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 durch die in den Segelanweisungen angegebene Kursflagge definierte Kurs g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95480" y="4419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3886200"/>
            <a:ext cx="1622160" cy="496440"/>
          </a:xfrm>
          <a:prstGeom prst="wedgeRoundRectCallout">
            <a:avLst>
              <a:gd name="adj1" fmla="val 2050"/>
              <a:gd name="adj2" fmla="val -120578"/>
              <a:gd name="adj3" fmla="val 16667"/>
            </a:avLst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l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14880" y="3753000"/>
            <a:ext cx="3282840" cy="685800"/>
            <a:chOff x="3314880" y="3753000"/>
            <a:chExt cx="3282840" cy="685800"/>
          </a:xfrm>
        </p:grpSpPr>
        <p:sp>
          <p:nvSpPr>
            <p:cNvPr id="168" name=""/>
            <p:cNvSpPr/>
            <p:nvPr/>
          </p:nvSpPr>
          <p:spPr>
            <a:xfrm>
              <a:off x="3314880" y="3753000"/>
              <a:ext cx="3282840" cy="685800"/>
            </a:xfrm>
            <a:prstGeom prst="wedgeRoundRectCallout">
              <a:avLst>
                <a:gd name="adj1" fmla="val -70453"/>
                <a:gd name="adj2" fmla="val 100925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z.B.             oder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019400" y="3809880"/>
              <a:ext cx="761760" cy="533160"/>
              <a:chOff x="4019400" y="3809880"/>
              <a:chExt cx="761760" cy="533160"/>
            </a:xfrm>
          </p:grpSpPr>
          <p:sp>
            <p:nvSpPr>
              <p:cNvPr id="170" name=""/>
              <p:cNvSpPr/>
              <p:nvPr/>
            </p:nvSpPr>
            <p:spPr>
              <a:xfrm>
                <a:off x="4019400" y="3809880"/>
                <a:ext cx="76176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19400" y="3809880"/>
                <a:ext cx="761760" cy="533160"/>
              </a:xfrm>
              <a:custGeom>
                <a:avLst/>
                <a:gdLst/>
                <a:ahLst/>
                <a:rect l="l" t="t" r="r" b="b"/>
                <a:pathLst>
                  <a:path w="432" h="336">
                    <a:moveTo>
                      <a:pt x="0" y="0"/>
                    </a:moveTo>
                    <a:lnTo>
                      <a:pt x="432" y="0"/>
                    </a:lnTo>
                    <a:lnTo>
                      <a:pt x="432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562720" y="3809880"/>
              <a:ext cx="761760" cy="533160"/>
              <a:chOff x="5562720" y="3809880"/>
              <a:chExt cx="761760" cy="533160"/>
            </a:xfrm>
          </p:grpSpPr>
          <p:sp>
            <p:nvSpPr>
              <p:cNvPr id="173" name=""/>
              <p:cNvSpPr/>
              <p:nvPr/>
            </p:nvSpPr>
            <p:spPr>
              <a:xfrm>
                <a:off x="5562720" y="3809880"/>
                <a:ext cx="76176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3600" y="3809880"/>
                <a:ext cx="380520" cy="5331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2133720" y="5162400"/>
            <a:ext cx="6718320" cy="158796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l 27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wimmwestenflagge und Kursflagge müssen spätestens beim Ankündigungssignal gesetzt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0D3-6819-4989-A720-054148E6841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e Startsignale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685800"/>
            <a:ext cx="26668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kündigungssig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905120"/>
            <a:ext cx="26668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rbereitungs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743200" y="685440"/>
            <a:ext cx="457200" cy="609480"/>
            <a:chOff x="2743200" y="685440"/>
            <a:chExt cx="457200" cy="609480"/>
          </a:xfrm>
        </p:grpSpPr>
        <p:sp>
          <p:nvSpPr>
            <p:cNvPr id="180" name=""/>
            <p:cNvSpPr/>
            <p:nvPr/>
          </p:nvSpPr>
          <p:spPr>
            <a:xfrm flipV="1">
              <a:off x="2743200" y="685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91404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66880" y="1828440"/>
            <a:ext cx="457200" cy="609480"/>
            <a:chOff x="2666880" y="1828440"/>
            <a:chExt cx="457200" cy="609480"/>
          </a:xfrm>
        </p:grpSpPr>
        <p:sp>
          <p:nvSpPr>
            <p:cNvPr id="183" name=""/>
            <p:cNvSpPr/>
            <p:nvPr/>
          </p:nvSpPr>
          <p:spPr>
            <a:xfrm flipV="1">
              <a:off x="2666880" y="1828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9520" y="205704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62120" y="5257800"/>
            <a:ext cx="6918120" cy="1320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gensignal und akustisches Signal müssen zeitgleich erfolgen. Das akustische Signal kann ausbleiben, darf aber nicht zeitverschoben erfol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1143000"/>
            <a:ext cx="3352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 26: 5 min vor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685800"/>
            <a:ext cx="2469240" cy="914400"/>
            <a:chOff x="228600" y="685800"/>
            <a:chExt cx="2469240" cy="914400"/>
          </a:xfrm>
        </p:grpSpPr>
        <p:sp>
          <p:nvSpPr>
            <p:cNvPr id="188" name=""/>
            <p:cNvSpPr/>
            <p:nvPr/>
          </p:nvSpPr>
          <p:spPr>
            <a:xfrm>
              <a:off x="228600" y="68580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8640" y="68580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assen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ag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8600" y="1828800"/>
            <a:ext cx="2057400" cy="914400"/>
            <a:chOff x="228600" y="1828800"/>
            <a:chExt cx="2057400" cy="914400"/>
          </a:xfrm>
        </p:grpSpPr>
        <p:grpSp>
          <p:nvGrpSpPr>
            <p:cNvPr id="191" name=""/>
            <p:cNvGrpSpPr/>
            <p:nvPr/>
          </p:nvGrpSpPr>
          <p:grpSpPr>
            <a:xfrm>
              <a:off x="228600" y="1828800"/>
              <a:ext cx="1143000" cy="914400"/>
              <a:chOff x="228600" y="1828800"/>
              <a:chExt cx="1143000" cy="91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" y="1828800"/>
                <a:ext cx="11430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520" y="213372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752480" y="1905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429000" y="2286000"/>
            <a:ext cx="327672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 26: 4 min vor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2680" y="43434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191120"/>
            <a:ext cx="11430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3048120"/>
            <a:ext cx="1143000" cy="914400"/>
            <a:chOff x="228600" y="3048120"/>
            <a:chExt cx="1143000" cy="914400"/>
          </a:xfrm>
        </p:grpSpPr>
        <p:sp>
          <p:nvSpPr>
            <p:cNvPr id="199" name=""/>
            <p:cNvSpPr/>
            <p:nvPr/>
          </p:nvSpPr>
          <p:spPr>
            <a:xfrm>
              <a:off x="228600" y="3048120"/>
              <a:ext cx="1143000" cy="914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" y="335304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09880" y="3962520"/>
            <a:ext cx="26672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343400"/>
            <a:ext cx="327672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 26: beim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" y="4191120"/>
            <a:ext cx="2895480" cy="1029960"/>
            <a:chOff x="228600" y="4191120"/>
            <a:chExt cx="2895480" cy="1029960"/>
          </a:xfrm>
        </p:grpSpPr>
        <p:grpSp>
          <p:nvGrpSpPr>
            <p:cNvPr id="204" name=""/>
            <p:cNvGrpSpPr/>
            <p:nvPr/>
          </p:nvGrpSpPr>
          <p:grpSpPr>
            <a:xfrm>
              <a:off x="2590920" y="4428720"/>
              <a:ext cx="533160" cy="792360"/>
              <a:chOff x="2590920" y="4428720"/>
              <a:chExt cx="533160" cy="79236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2590920" y="4428720"/>
                <a:ext cx="14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19520" y="4648320"/>
                <a:ext cx="30456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28600" y="419112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1828800"/>
            <a:ext cx="287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8600" y="1828800"/>
            <a:ext cx="2895480" cy="914400"/>
            <a:chOff x="228600" y="1828800"/>
            <a:chExt cx="2895480" cy="914400"/>
          </a:xfrm>
        </p:grpSpPr>
        <p:grpSp>
          <p:nvGrpSpPr>
            <p:cNvPr id="210" name=""/>
            <p:cNvGrpSpPr/>
            <p:nvPr/>
          </p:nvGrpSpPr>
          <p:grpSpPr>
            <a:xfrm>
              <a:off x="2666880" y="1828800"/>
              <a:ext cx="457200" cy="609840"/>
              <a:chOff x="2666880" y="1828800"/>
              <a:chExt cx="457200" cy="60984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2666880" y="18288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19520" y="205740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752480" y="1905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28600" y="1828800"/>
              <a:ext cx="1143000" cy="914400"/>
              <a:chOff x="228600" y="1828800"/>
              <a:chExt cx="1143000" cy="914400"/>
            </a:xfrm>
          </p:grpSpPr>
          <p:sp>
            <p:nvSpPr>
              <p:cNvPr id="215" name=""/>
              <p:cNvSpPr/>
              <p:nvPr/>
            </p:nvSpPr>
            <p:spPr>
              <a:xfrm>
                <a:off x="228600" y="1828800"/>
                <a:ext cx="114300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400" y="211464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228600" y="1828800"/>
            <a:ext cx="287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1828800"/>
            <a:ext cx="2895480" cy="914400"/>
            <a:chOff x="228600" y="1828800"/>
            <a:chExt cx="2895480" cy="914400"/>
          </a:xfrm>
        </p:grpSpPr>
        <p:grpSp>
          <p:nvGrpSpPr>
            <p:cNvPr id="219" name=""/>
            <p:cNvGrpSpPr/>
            <p:nvPr/>
          </p:nvGrpSpPr>
          <p:grpSpPr>
            <a:xfrm>
              <a:off x="228600" y="1828800"/>
              <a:ext cx="1143000" cy="914400"/>
              <a:chOff x="228600" y="1828800"/>
              <a:chExt cx="1143000" cy="914400"/>
            </a:xfrm>
          </p:grpSpPr>
          <p:sp>
            <p:nvSpPr>
              <p:cNvPr id="220" name=""/>
              <p:cNvSpPr/>
              <p:nvPr/>
            </p:nvSpPr>
            <p:spPr>
              <a:xfrm>
                <a:off x="228600" y="1828800"/>
                <a:ext cx="114300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" y="1828800"/>
                <a:ext cx="565200" cy="91440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0" y="0"/>
                    </a:moveTo>
                    <a:lnTo>
                      <a:pt x="336" y="288"/>
                    </a:lnTo>
                    <a:lnTo>
                      <a:pt x="0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786600" y="1828800"/>
                <a:ext cx="584280" cy="91440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0" y="0"/>
                    </a:moveTo>
                    <a:lnTo>
                      <a:pt x="336" y="288"/>
                    </a:lnTo>
                    <a:lnTo>
                      <a:pt x="0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8600" y="2286000"/>
                <a:ext cx="1143000" cy="457200"/>
              </a:xfrm>
              <a:custGeom>
                <a:avLst/>
                <a:gdLst/>
                <a:ahLst/>
                <a:rect l="l" t="t" r="r" b="b"/>
                <a:pathLst>
                  <a:path w="720" h="288">
                    <a:moveTo>
                      <a:pt x="0" y="288"/>
                    </a:moveTo>
                    <a:lnTo>
                      <a:pt x="350" y="0"/>
                    </a:lnTo>
                    <a:lnTo>
                      <a:pt x="720" y="288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666880" y="1828800"/>
              <a:ext cx="457200" cy="609840"/>
              <a:chOff x="2666880" y="1828800"/>
              <a:chExt cx="457200" cy="60984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2666880" y="18288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19520" y="205740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52480" y="1905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28600" y="1752480"/>
            <a:ext cx="28796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1828800"/>
            <a:ext cx="2819160" cy="914400"/>
            <a:chOff x="304920" y="1828800"/>
            <a:chExt cx="2819160" cy="914400"/>
          </a:xfrm>
        </p:grpSpPr>
        <p:sp>
          <p:nvSpPr>
            <p:cNvPr id="230" name=""/>
            <p:cNvSpPr/>
            <p:nvPr/>
          </p:nvSpPr>
          <p:spPr>
            <a:xfrm>
              <a:off x="304920" y="1828800"/>
              <a:ext cx="114300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666880" y="1828800"/>
              <a:ext cx="457200" cy="609840"/>
              <a:chOff x="2666880" y="1828800"/>
              <a:chExt cx="457200" cy="60984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2666880" y="18288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19520" y="205740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523880" y="2057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hwar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809880" y="3032280"/>
            <a:ext cx="26672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Minuten-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8600" y="3048120"/>
            <a:ext cx="2895480" cy="1029960"/>
            <a:chOff x="228600" y="3048120"/>
            <a:chExt cx="2895480" cy="1029960"/>
          </a:xfrm>
        </p:grpSpPr>
        <p:grpSp>
          <p:nvGrpSpPr>
            <p:cNvPr id="237" name=""/>
            <p:cNvGrpSpPr/>
            <p:nvPr/>
          </p:nvGrpSpPr>
          <p:grpSpPr>
            <a:xfrm>
              <a:off x="2590920" y="3285720"/>
              <a:ext cx="533160" cy="792360"/>
              <a:chOff x="2590920" y="3285720"/>
              <a:chExt cx="533160" cy="79236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2590920" y="3285720"/>
                <a:ext cx="14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19520" y="3505320"/>
                <a:ext cx="30456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28600" y="3048120"/>
              <a:ext cx="1143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429000" y="3429000"/>
            <a:ext cx="327672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 26: 1 min vor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9000" y="3124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I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04B-E755-4531-8AD4-60E0035ED4B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e Startverschärfungssignale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85800"/>
            <a:ext cx="91440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 Startverschärfungssignale werden als Vorbereitungssignal gesetzt. Die Verbotszeit beginnt eine Minute vor dem Startsignal mit Niederholen der Flag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1981080"/>
            <a:ext cx="4038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ne Verschär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" y="1752480"/>
            <a:ext cx="2361960" cy="914400"/>
            <a:chOff x="76320" y="1752480"/>
            <a:chExt cx="2361960" cy="914400"/>
          </a:xfrm>
        </p:grpSpPr>
        <p:grpSp>
          <p:nvGrpSpPr>
            <p:cNvPr id="247" name=""/>
            <p:cNvGrpSpPr/>
            <p:nvPr/>
          </p:nvGrpSpPr>
          <p:grpSpPr>
            <a:xfrm>
              <a:off x="1371600" y="1828440"/>
              <a:ext cx="457200" cy="609480"/>
              <a:chOff x="1371600" y="1828440"/>
              <a:chExt cx="457200" cy="60948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1371600" y="18284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4240" y="205704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6320" y="1752480"/>
              <a:ext cx="1143000" cy="914400"/>
              <a:chOff x="76320" y="1752480"/>
              <a:chExt cx="1143000" cy="914400"/>
            </a:xfrm>
          </p:grpSpPr>
          <p:sp>
            <p:nvSpPr>
              <p:cNvPr id="251" name=""/>
              <p:cNvSpPr/>
              <p:nvPr/>
            </p:nvSpPr>
            <p:spPr>
              <a:xfrm>
                <a:off x="76320" y="1752480"/>
                <a:ext cx="11430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1240" y="205740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90512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934320" y="198108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2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2971800"/>
            <a:ext cx="4038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ückkehr nur um die 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297180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320" y="2743200"/>
            <a:ext cx="2361960" cy="914400"/>
            <a:chOff x="76320" y="2743200"/>
            <a:chExt cx="2361960" cy="914400"/>
          </a:xfrm>
        </p:grpSpPr>
        <p:grpSp>
          <p:nvGrpSpPr>
            <p:cNvPr id="258" name=""/>
            <p:cNvGrpSpPr/>
            <p:nvPr/>
          </p:nvGrpSpPr>
          <p:grpSpPr>
            <a:xfrm>
              <a:off x="1371600" y="2819160"/>
              <a:ext cx="457200" cy="609480"/>
              <a:chOff x="1371600" y="2819160"/>
              <a:chExt cx="457200" cy="60948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1371600" y="28191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4240" y="304776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05120" y="2819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6320" y="2743200"/>
              <a:ext cx="1143000" cy="914400"/>
              <a:chOff x="76320" y="2743200"/>
              <a:chExt cx="1143000" cy="914400"/>
            </a:xfrm>
          </p:grpSpPr>
          <p:sp>
            <p:nvSpPr>
              <p:cNvPr id="263" name=""/>
              <p:cNvSpPr/>
              <p:nvPr/>
            </p:nvSpPr>
            <p:spPr>
              <a:xfrm>
                <a:off x="76320" y="2743200"/>
                <a:ext cx="114300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8120" y="302904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2895480" y="4038480"/>
            <a:ext cx="4114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nktstrafe bei jeder Linienverletz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6320" y="3809880"/>
            <a:ext cx="2286000" cy="914400"/>
            <a:chOff x="76320" y="3809880"/>
            <a:chExt cx="2286000" cy="914400"/>
          </a:xfrm>
        </p:grpSpPr>
        <p:grpSp>
          <p:nvGrpSpPr>
            <p:cNvPr id="267" name=""/>
            <p:cNvGrpSpPr/>
            <p:nvPr/>
          </p:nvGrpSpPr>
          <p:grpSpPr>
            <a:xfrm>
              <a:off x="76320" y="3809880"/>
              <a:ext cx="1143000" cy="914400"/>
              <a:chOff x="76320" y="3809880"/>
              <a:chExt cx="1143000" cy="914400"/>
            </a:xfrm>
          </p:grpSpPr>
          <p:sp>
            <p:nvSpPr>
              <p:cNvPr id="268" name=""/>
              <p:cNvSpPr/>
              <p:nvPr/>
            </p:nvSpPr>
            <p:spPr>
              <a:xfrm>
                <a:off x="76320" y="3809880"/>
                <a:ext cx="114300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320" y="3809880"/>
                <a:ext cx="565200" cy="91440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0" y="0"/>
                    </a:moveTo>
                    <a:lnTo>
                      <a:pt x="336" y="288"/>
                    </a:lnTo>
                    <a:lnTo>
                      <a:pt x="0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34320" y="3809880"/>
                <a:ext cx="584280" cy="91440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0" y="0"/>
                    </a:moveTo>
                    <a:lnTo>
                      <a:pt x="336" y="288"/>
                    </a:lnTo>
                    <a:lnTo>
                      <a:pt x="0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320" y="4267080"/>
                <a:ext cx="1143000" cy="457200"/>
              </a:xfrm>
              <a:custGeom>
                <a:avLst/>
                <a:gdLst/>
                <a:ahLst/>
                <a:rect l="l" t="t" r="r" b="b"/>
                <a:pathLst>
                  <a:path w="720" h="288">
                    <a:moveTo>
                      <a:pt x="0" y="288"/>
                    </a:moveTo>
                    <a:lnTo>
                      <a:pt x="350" y="0"/>
                    </a:lnTo>
                    <a:lnTo>
                      <a:pt x="720" y="288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371600" y="3885840"/>
              <a:ext cx="457200" cy="609480"/>
              <a:chOff x="1371600" y="3885840"/>
              <a:chExt cx="457200" cy="60948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371600" y="3885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4240" y="411444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828800" y="38862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934320" y="403848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5105520"/>
            <a:ext cx="4114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schluss bei jeder Linienverletz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4800600"/>
            <a:ext cx="2819160" cy="990720"/>
            <a:chOff x="76320" y="4800600"/>
            <a:chExt cx="2819160" cy="990720"/>
          </a:xfrm>
        </p:grpSpPr>
        <p:sp>
          <p:nvSpPr>
            <p:cNvPr id="279" name=""/>
            <p:cNvSpPr/>
            <p:nvPr/>
          </p:nvSpPr>
          <p:spPr>
            <a:xfrm>
              <a:off x="76320" y="4876920"/>
              <a:ext cx="114300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71600" y="4952880"/>
              <a:ext cx="457200" cy="609840"/>
              <a:chOff x="1371600" y="4952880"/>
              <a:chExt cx="457200" cy="60984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37160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4240" y="518148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05120" y="4800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hwar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34320" y="510552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320" y="4876920"/>
            <a:ext cx="2743200" cy="914400"/>
            <a:chOff x="76320" y="4876920"/>
            <a:chExt cx="2743200" cy="914400"/>
          </a:xfrm>
        </p:grpSpPr>
        <p:grpSp>
          <p:nvGrpSpPr>
            <p:cNvPr id="286" name=""/>
            <p:cNvGrpSpPr/>
            <p:nvPr/>
          </p:nvGrpSpPr>
          <p:grpSpPr>
            <a:xfrm>
              <a:off x="2362320" y="5181480"/>
              <a:ext cx="457200" cy="609840"/>
              <a:chOff x="2362320" y="5181480"/>
              <a:chExt cx="457200" cy="60984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236232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14600" y="541008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76320" y="4876920"/>
              <a:ext cx="17715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0" y="3809880"/>
            <a:ext cx="2819520" cy="914400"/>
            <a:chOff x="0" y="3809880"/>
            <a:chExt cx="2819520" cy="914400"/>
          </a:xfrm>
        </p:grpSpPr>
        <p:grpSp>
          <p:nvGrpSpPr>
            <p:cNvPr id="291" name=""/>
            <p:cNvGrpSpPr/>
            <p:nvPr/>
          </p:nvGrpSpPr>
          <p:grpSpPr>
            <a:xfrm>
              <a:off x="2362320" y="3885840"/>
              <a:ext cx="457200" cy="609480"/>
              <a:chOff x="2362320" y="3885840"/>
              <a:chExt cx="457200" cy="60948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2362320" y="3885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14600" y="411444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0" y="380988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0" y="2743200"/>
            <a:ext cx="2819520" cy="914400"/>
            <a:chOff x="0" y="2743200"/>
            <a:chExt cx="2819520" cy="914400"/>
          </a:xfrm>
        </p:grpSpPr>
        <p:grpSp>
          <p:nvGrpSpPr>
            <p:cNvPr id="296" name=""/>
            <p:cNvGrpSpPr/>
            <p:nvPr/>
          </p:nvGrpSpPr>
          <p:grpSpPr>
            <a:xfrm>
              <a:off x="2362320" y="2819160"/>
              <a:ext cx="457200" cy="609480"/>
              <a:chOff x="2362320" y="2819160"/>
              <a:chExt cx="457200" cy="60948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2362320" y="28191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304776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0" y="2743200"/>
              <a:ext cx="19051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766-9CC1-415A-A14F-138BB086C17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e bei Startverfehlungen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1219320"/>
            <a:ext cx="5715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Startverfehlungssignale werden müss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verzügli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ach dem Startsignal erfolgen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2971800"/>
            <a:ext cx="274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zelrückr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429000"/>
            <a:ext cx="5105520" cy="3877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akustische Signal ist unverzicht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2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5410080"/>
            <a:ext cx="274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gemeiner Rückr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5410080"/>
            <a:ext cx="220968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320" y="685800"/>
            <a:ext cx="1143000" cy="1905120"/>
            <a:chOff x="76320" y="685800"/>
            <a:chExt cx="1143000" cy="1905120"/>
          </a:xfrm>
        </p:grpSpPr>
        <p:sp>
          <p:nvSpPr>
            <p:cNvPr id="308" name=""/>
            <p:cNvSpPr/>
            <p:nvPr/>
          </p:nvSpPr>
          <p:spPr>
            <a:xfrm>
              <a:off x="76320" y="68580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6320" y="1676520"/>
              <a:ext cx="1143000" cy="914400"/>
              <a:chOff x="76320" y="1676520"/>
              <a:chExt cx="1143000" cy="914400"/>
            </a:xfrm>
          </p:grpSpPr>
          <p:sp>
            <p:nvSpPr>
              <p:cNvPr id="310" name=""/>
              <p:cNvSpPr/>
              <p:nvPr/>
            </p:nvSpPr>
            <p:spPr>
              <a:xfrm>
                <a:off x="76320" y="1676520"/>
                <a:ext cx="11430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1240" y="198144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76320" y="685800"/>
            <a:ext cx="2057400" cy="1905120"/>
            <a:chOff x="76320" y="685800"/>
            <a:chExt cx="2057400" cy="1905120"/>
          </a:xfrm>
        </p:grpSpPr>
        <p:sp>
          <p:nvSpPr>
            <p:cNvPr id="313" name=""/>
            <p:cNvSpPr/>
            <p:nvPr/>
          </p:nvSpPr>
          <p:spPr>
            <a:xfrm flipV="1">
              <a:off x="1523880" y="762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152388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523880" y="17521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320" y="685800"/>
              <a:ext cx="114300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6320" y="5105520"/>
            <a:ext cx="3200400" cy="965160"/>
            <a:chOff x="76320" y="5105520"/>
            <a:chExt cx="3200400" cy="965160"/>
          </a:xfrm>
        </p:grpSpPr>
        <p:sp>
          <p:nvSpPr>
            <p:cNvPr id="318" name=""/>
            <p:cNvSpPr/>
            <p:nvPr/>
          </p:nvSpPr>
          <p:spPr>
            <a:xfrm>
              <a:off x="2209680" y="54100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6320" y="5105520"/>
              <a:ext cx="1238040" cy="965160"/>
              <a:chOff x="76320" y="5105520"/>
              <a:chExt cx="1238040" cy="965160"/>
            </a:xfrm>
          </p:grpSpPr>
          <p:sp>
            <p:nvSpPr>
              <p:cNvPr id="320" name=""/>
              <p:cNvSpPr/>
              <p:nvPr/>
            </p:nvSpPr>
            <p:spPr>
              <a:xfrm>
                <a:off x="76320" y="5105520"/>
                <a:ext cx="1238040" cy="965160"/>
              </a:xfrm>
              <a:custGeom>
                <a:avLst/>
                <a:gdLst/>
                <a:ahLst/>
                <a:rect l="l" t="t" r="r" b="b"/>
                <a:pathLst>
                  <a:path w="780" h="608">
                    <a:moveTo>
                      <a:pt x="0" y="0"/>
                    </a:moveTo>
                    <a:lnTo>
                      <a:pt x="780" y="354"/>
                    </a:lnTo>
                    <a:lnTo>
                      <a:pt x="0" y="6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6320" y="5239080"/>
                <a:ext cx="914400" cy="685800"/>
              </a:xfrm>
              <a:custGeom>
                <a:avLst/>
                <a:gdLst/>
                <a:ahLst/>
                <a:rect l="l" t="t" r="r" b="b"/>
                <a:pathLst>
                  <a:path w="756" h="576">
                    <a:moveTo>
                      <a:pt x="0" y="0"/>
                    </a:moveTo>
                    <a:lnTo>
                      <a:pt x="756" y="336"/>
                    </a:lnTo>
                    <a:lnTo>
                      <a:pt x="0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1371600" y="5257440"/>
            <a:ext cx="838080" cy="609480"/>
            <a:chOff x="1371600" y="5257440"/>
            <a:chExt cx="838080" cy="609480"/>
          </a:xfrm>
        </p:grpSpPr>
        <p:sp>
          <p:nvSpPr>
            <p:cNvPr id="323" name=""/>
            <p:cNvSpPr/>
            <p:nvPr/>
          </p:nvSpPr>
          <p:spPr>
            <a:xfrm flipV="1">
              <a:off x="137160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23880" y="54864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5486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038480" y="2209680"/>
            <a:ext cx="3733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urden alle „Frühstarter“ und 30.1-Verletzer erkan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952880"/>
            <a:ext cx="4267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rden nicht alle „Frühstarter“ erkan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6320" y="5105520"/>
            <a:ext cx="3581280" cy="990360"/>
            <a:chOff x="76320" y="5105520"/>
            <a:chExt cx="3581280" cy="990360"/>
          </a:xfrm>
        </p:grpSpPr>
        <p:grpSp>
          <p:nvGrpSpPr>
            <p:cNvPr id="329" name=""/>
            <p:cNvGrpSpPr/>
            <p:nvPr/>
          </p:nvGrpSpPr>
          <p:grpSpPr>
            <a:xfrm>
              <a:off x="3200400" y="5257440"/>
              <a:ext cx="457200" cy="609480"/>
              <a:chOff x="3200400" y="5257440"/>
              <a:chExt cx="457200" cy="60948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3200400" y="52574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548604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6320" y="5105520"/>
              <a:ext cx="213336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38480" y="3886200"/>
            <a:ext cx="510552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derholen ohne Ton, wenn alle „Frühstarter“ hinter der Linie, spätestens nach 4 Minu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e Minute nach dem Niederholen erfolgt das Vorbereitungssignal für den Neustart der zurückgerufenen Klasse. Starts folgender Klassen werden mit verscho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6320" y="2743200"/>
            <a:ext cx="2361960" cy="914400"/>
            <a:chOff x="76320" y="2743200"/>
            <a:chExt cx="2361960" cy="914400"/>
          </a:xfrm>
        </p:grpSpPr>
        <p:grpSp>
          <p:nvGrpSpPr>
            <p:cNvPr id="336" name=""/>
            <p:cNvGrpSpPr/>
            <p:nvPr/>
          </p:nvGrpSpPr>
          <p:grpSpPr>
            <a:xfrm>
              <a:off x="1371600" y="2819160"/>
              <a:ext cx="457200" cy="609480"/>
              <a:chOff x="1371600" y="2819160"/>
              <a:chExt cx="457200" cy="60948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1371600" y="28191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4240" y="304776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905120" y="2819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6320" y="2743200"/>
              <a:ext cx="1143000" cy="914400"/>
              <a:chOff x="76320" y="2743200"/>
              <a:chExt cx="1143000" cy="914400"/>
            </a:xfrm>
          </p:grpSpPr>
          <p:sp>
            <p:nvSpPr>
              <p:cNvPr id="341" name=""/>
              <p:cNvSpPr/>
              <p:nvPr/>
            </p:nvSpPr>
            <p:spPr>
              <a:xfrm>
                <a:off x="533520" y="2743200"/>
                <a:ext cx="2286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2743200"/>
                <a:ext cx="11430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320" y="3070080"/>
                <a:ext cx="1143000" cy="2286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3520" y="2743200"/>
                <a:ext cx="2286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6320" y="2743200"/>
            <a:ext cx="3124080" cy="914400"/>
            <a:chOff x="76320" y="2743200"/>
            <a:chExt cx="3124080" cy="914400"/>
          </a:xfrm>
        </p:grpSpPr>
        <p:sp>
          <p:nvSpPr>
            <p:cNvPr id="346" name=""/>
            <p:cNvSpPr/>
            <p:nvPr/>
          </p:nvSpPr>
          <p:spPr>
            <a:xfrm flipV="1">
              <a:off x="3200400" y="2819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320" y="2743200"/>
              <a:ext cx="17524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860-2E84-4FFF-BF02-197A034A161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e während der Wettfahrt 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1066680"/>
            <a:ext cx="51055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Gegenstand, der dieses Signal zeig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setz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hnmar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133720" y="4800600"/>
            <a:ext cx="685800" cy="304920"/>
            <a:chOff x="2133720" y="4800600"/>
            <a:chExt cx="685800" cy="304920"/>
          </a:xfrm>
        </p:grpSpPr>
        <p:sp>
          <p:nvSpPr>
            <p:cNvPr id="351" name=""/>
            <p:cNvSpPr/>
            <p:nvPr/>
          </p:nvSpPr>
          <p:spPr>
            <a:xfrm>
              <a:off x="2133720" y="48006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8006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038480" y="2209680"/>
            <a:ext cx="51055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Position der nächsten Bahnmarke hat si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änd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419720"/>
            <a:ext cx="5029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iner zu rundenden Bahnmar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371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8240" y="914400"/>
            <a:ext cx="1981440" cy="914400"/>
            <a:chOff x="228240" y="914400"/>
            <a:chExt cx="1981440" cy="914400"/>
          </a:xfrm>
        </p:grpSpPr>
        <p:sp>
          <p:nvSpPr>
            <p:cNvPr id="357" name=""/>
            <p:cNvSpPr/>
            <p:nvPr/>
          </p:nvSpPr>
          <p:spPr>
            <a:xfrm>
              <a:off x="1447920" y="1066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28240" y="914400"/>
              <a:ext cx="1143360" cy="914400"/>
              <a:chOff x="228240" y="914400"/>
              <a:chExt cx="1143360" cy="91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228600" y="914400"/>
                <a:ext cx="11430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914400"/>
                <a:ext cx="1143000" cy="914400"/>
              </a:xfrm>
              <a:custGeom>
                <a:avLst/>
                <a:gdLst/>
                <a:ahLst/>
                <a:rect l="l" t="t" r="r" b="b"/>
                <a:pathLst>
                  <a:path w="720" h="576">
                    <a:moveTo>
                      <a:pt x="0" y="96"/>
                    </a:moveTo>
                    <a:lnTo>
                      <a:pt x="624" y="576"/>
                    </a:lnTo>
                    <a:lnTo>
                      <a:pt x="720" y="576"/>
                    </a:lnTo>
                    <a:lnTo>
                      <a:pt x="720" y="48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27880" y="914400"/>
                <a:ext cx="1143000" cy="914400"/>
              </a:xfrm>
              <a:custGeom>
                <a:avLst/>
                <a:gdLst/>
                <a:ahLst/>
                <a:rect l="l" t="t" r="r" b="b"/>
                <a:pathLst>
                  <a:path w="720" h="576">
                    <a:moveTo>
                      <a:pt x="0" y="96"/>
                    </a:moveTo>
                    <a:lnTo>
                      <a:pt x="624" y="576"/>
                    </a:lnTo>
                    <a:lnTo>
                      <a:pt x="720" y="576"/>
                    </a:lnTo>
                    <a:lnTo>
                      <a:pt x="720" y="48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8600" y="914400"/>
                <a:ext cx="1143000" cy="914400"/>
              </a:xfrm>
              <a:prstGeom prst="rect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2362320" y="1371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1371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8600" y="2133720"/>
            <a:ext cx="1981080" cy="914400"/>
            <a:chOff x="228600" y="2133720"/>
            <a:chExt cx="1981080" cy="9144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2133720"/>
              <a:ext cx="1143000" cy="914400"/>
              <a:chOff x="228600" y="2133720"/>
              <a:chExt cx="1143000" cy="914400"/>
            </a:xfrm>
          </p:grpSpPr>
          <p:sp>
            <p:nvSpPr>
              <p:cNvPr id="367" name=""/>
              <p:cNvSpPr/>
              <p:nvPr/>
            </p:nvSpPr>
            <p:spPr>
              <a:xfrm>
                <a:off x="228600" y="2133720"/>
                <a:ext cx="1143000" cy="914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8600" y="228600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8600" y="2514600"/>
                <a:ext cx="11430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447920" y="228600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232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819520"/>
            <a:ext cx="182880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15200" y="1676520"/>
            <a:ext cx="182880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3124080"/>
            <a:ext cx="31240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1960" y="3228840"/>
            <a:ext cx="945000" cy="733680"/>
            <a:chOff x="291960" y="3228840"/>
            <a:chExt cx="945000" cy="733680"/>
          </a:xfrm>
        </p:grpSpPr>
        <p:sp>
          <p:nvSpPr>
            <p:cNvPr id="378" name=""/>
            <p:cNvSpPr/>
            <p:nvPr/>
          </p:nvSpPr>
          <p:spPr>
            <a:xfrm>
              <a:off x="291960" y="327672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680" y="3228840"/>
              <a:ext cx="94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7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29000" y="3276720"/>
            <a:ext cx="5715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ätze Kompasskurs, Distanzverlängerung,  Distanzverkürzung präzisieren die Änder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4495680"/>
            <a:ext cx="1752480" cy="914400"/>
            <a:chOff x="228600" y="4495680"/>
            <a:chExt cx="1752480" cy="914400"/>
          </a:xfrm>
        </p:grpSpPr>
        <p:sp>
          <p:nvSpPr>
            <p:cNvPr id="382" name=""/>
            <p:cNvSpPr/>
            <p:nvPr/>
          </p:nvSpPr>
          <p:spPr>
            <a:xfrm flipV="1">
              <a:off x="1981080" y="4571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4648320"/>
              <a:ext cx="3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28600" y="4495680"/>
              <a:ext cx="1143000" cy="914400"/>
              <a:chOff x="228600" y="4495680"/>
              <a:chExt cx="1143000" cy="914400"/>
            </a:xfrm>
          </p:grpSpPr>
          <p:sp>
            <p:nvSpPr>
              <p:cNvPr id="385" name=""/>
              <p:cNvSpPr/>
              <p:nvPr/>
            </p:nvSpPr>
            <p:spPr>
              <a:xfrm>
                <a:off x="228600" y="4495680"/>
                <a:ext cx="11430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3160" y="4724280"/>
                <a:ext cx="533520" cy="4572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4114800" y="4800600"/>
            <a:ext cx="5029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durchgang zwischen der nahen Bahnmarke und diesem B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5562720"/>
            <a:ext cx="11430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65240" y="6035760"/>
            <a:ext cx="717876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bisher oft geübte Praxis, erst nach Runden dieser Bahnmarke das Ziel zu legen, widerspricht den W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0" y="55278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ätzlich „Bla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15200" y="5562720"/>
            <a:ext cx="182880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285920" y="3276720"/>
            <a:ext cx="914400" cy="685800"/>
            <a:chOff x="1285920" y="3276720"/>
            <a:chExt cx="914400" cy="685800"/>
          </a:xfrm>
        </p:grpSpPr>
        <p:sp>
          <p:nvSpPr>
            <p:cNvPr id="393" name=""/>
            <p:cNvSpPr/>
            <p:nvPr/>
          </p:nvSpPr>
          <p:spPr>
            <a:xfrm>
              <a:off x="1285920" y="327672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080" y="3581280"/>
              <a:ext cx="5331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8840" y="3349800"/>
              <a:ext cx="7596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286000" y="3276720"/>
            <a:ext cx="914400" cy="685800"/>
            <a:chOff x="2286000" y="3276720"/>
            <a:chExt cx="914400" cy="685800"/>
          </a:xfrm>
        </p:grpSpPr>
        <p:sp>
          <p:nvSpPr>
            <p:cNvPr id="397" name=""/>
            <p:cNvSpPr/>
            <p:nvPr/>
          </p:nvSpPr>
          <p:spPr>
            <a:xfrm>
              <a:off x="2286000" y="327672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73200" y="3578400"/>
              <a:ext cx="5335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971800" y="1371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544-F8D3-4F9F-8F33-278992F77FB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ttfahrt beenden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2362320"/>
            <a:ext cx="52578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Wettfahrten sind abgebrochen. Rückkehr zum Startgeb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762120"/>
            <a:ext cx="5257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der Ziel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1143000"/>
            <a:ext cx="52578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s Wettfahrtleitungsboot ist an der Ziellinie auf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28600" y="838080"/>
            <a:ext cx="2129400" cy="914400"/>
            <a:chOff x="228600" y="838080"/>
            <a:chExt cx="2129400" cy="914400"/>
          </a:xfrm>
        </p:grpSpPr>
        <p:sp>
          <p:nvSpPr>
            <p:cNvPr id="406" name=""/>
            <p:cNvSpPr/>
            <p:nvPr/>
          </p:nvSpPr>
          <p:spPr>
            <a:xfrm>
              <a:off x="228600" y="838080"/>
              <a:ext cx="1143000" cy="914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01280" y="10666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048120" y="1905120"/>
            <a:ext cx="609588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n Schallsignal, weder beim Setzen noch beim Ber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457200"/>
            <a:ext cx="2514600" cy="753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hte Definition Zieldurch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600200" y="2590920"/>
            <a:ext cx="1066680" cy="304560"/>
            <a:chOff x="1600200" y="2590920"/>
            <a:chExt cx="1066680" cy="304560"/>
          </a:xfrm>
        </p:grpSpPr>
        <p:sp>
          <p:nvSpPr>
            <p:cNvPr id="411" name=""/>
            <p:cNvSpPr/>
            <p:nvPr/>
          </p:nvSpPr>
          <p:spPr>
            <a:xfrm>
              <a:off x="2362320" y="259092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600200" y="2590920"/>
              <a:ext cx="685800" cy="304560"/>
              <a:chOff x="1600200" y="2590920"/>
              <a:chExt cx="685800" cy="304560"/>
            </a:xfrm>
          </p:grpSpPr>
          <p:sp>
            <p:nvSpPr>
              <p:cNvPr id="413" name=""/>
              <p:cNvSpPr/>
              <p:nvPr/>
            </p:nvSpPr>
            <p:spPr>
              <a:xfrm>
                <a:off x="1600200" y="259092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81080" y="259092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228600" y="2361960"/>
            <a:ext cx="1219320" cy="686160"/>
            <a:chOff x="228600" y="2361960"/>
            <a:chExt cx="1219320" cy="686160"/>
          </a:xfrm>
        </p:grpSpPr>
        <p:grpSp>
          <p:nvGrpSpPr>
            <p:cNvPr id="416" name=""/>
            <p:cNvGrpSpPr/>
            <p:nvPr/>
          </p:nvGrpSpPr>
          <p:grpSpPr>
            <a:xfrm>
              <a:off x="228600" y="2362320"/>
              <a:ext cx="990720" cy="685800"/>
              <a:chOff x="228600" y="2362320"/>
              <a:chExt cx="990720" cy="685800"/>
            </a:xfrm>
          </p:grpSpPr>
          <p:sp>
            <p:nvSpPr>
              <p:cNvPr id="417" name=""/>
              <p:cNvSpPr/>
              <p:nvPr/>
            </p:nvSpPr>
            <p:spPr>
              <a:xfrm>
                <a:off x="228600" y="2362320"/>
                <a:ext cx="990720" cy="6858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8600" y="253368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6280" y="2362320"/>
                <a:ext cx="24732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6280" y="2705040"/>
                <a:ext cx="24732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3600" y="253368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71280" y="236232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971280" y="270504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3600" y="287640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8600" y="287640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 flipV="1">
              <a:off x="1447920" y="2361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276720" y="3200400"/>
            <a:ext cx="58672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in nach Niederholen neue Ankündig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2800440"/>
            <a:ext cx="1828800" cy="387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R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3733920"/>
            <a:ext cx="52578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Wettfahrten sind abgebrochen. Weitere Signale a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3962520"/>
            <a:ext cx="1066680" cy="304560"/>
            <a:chOff x="1600200" y="3962520"/>
            <a:chExt cx="1066680" cy="304560"/>
          </a:xfrm>
        </p:grpSpPr>
        <p:sp>
          <p:nvSpPr>
            <p:cNvPr id="431" name=""/>
            <p:cNvSpPr/>
            <p:nvPr/>
          </p:nvSpPr>
          <p:spPr>
            <a:xfrm>
              <a:off x="2362320" y="396252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600200" y="3962520"/>
              <a:ext cx="685800" cy="304560"/>
              <a:chOff x="1600200" y="3962520"/>
              <a:chExt cx="685800" cy="304560"/>
            </a:xfrm>
          </p:grpSpPr>
          <p:sp>
            <p:nvSpPr>
              <p:cNvPr id="433" name=""/>
              <p:cNvSpPr/>
              <p:nvPr/>
            </p:nvSpPr>
            <p:spPr>
              <a:xfrm>
                <a:off x="1600200" y="396252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81080" y="396252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228600" y="3352680"/>
            <a:ext cx="1219320" cy="1371240"/>
            <a:chOff x="228600" y="3352680"/>
            <a:chExt cx="1219320" cy="1371240"/>
          </a:xfrm>
        </p:grpSpPr>
        <p:sp>
          <p:nvSpPr>
            <p:cNvPr id="436" name=""/>
            <p:cNvSpPr/>
            <p:nvPr/>
          </p:nvSpPr>
          <p:spPr>
            <a:xfrm flipV="1">
              <a:off x="1447920" y="3733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28600" y="3352680"/>
              <a:ext cx="990720" cy="1371240"/>
              <a:chOff x="228600" y="3352680"/>
              <a:chExt cx="990720" cy="13712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28600" y="3352680"/>
                <a:ext cx="990720" cy="685800"/>
                <a:chOff x="228600" y="3352680"/>
                <a:chExt cx="990720" cy="6858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28600" y="3352680"/>
                  <a:ext cx="990720" cy="6858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28600" y="352404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76280" y="3352680"/>
                  <a:ext cx="24732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76280" y="3695400"/>
                  <a:ext cx="24732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3600" y="352404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971280" y="335268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971280" y="369540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23600" y="386676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28600" y="3866760"/>
                  <a:ext cx="247680" cy="17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28600" y="4114440"/>
                <a:ext cx="990360" cy="609480"/>
                <a:chOff x="228600" y="4114440"/>
                <a:chExt cx="990360" cy="609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8600" y="4114440"/>
                  <a:ext cx="99036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3600" y="4114440"/>
                  <a:ext cx="495000" cy="609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1" name=""/>
          <p:cNvSpPr/>
          <p:nvPr/>
        </p:nvSpPr>
        <p:spPr>
          <a:xfrm>
            <a:off x="2743200" y="3505320"/>
            <a:ext cx="7621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5257800"/>
            <a:ext cx="52578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Wettfahrten sind abgebrochen. Heute keine Wettfahrt me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00200" y="5486400"/>
            <a:ext cx="1066680" cy="304920"/>
            <a:chOff x="1600200" y="5486400"/>
            <a:chExt cx="1066680" cy="304920"/>
          </a:xfrm>
        </p:grpSpPr>
        <p:sp>
          <p:nvSpPr>
            <p:cNvPr id="454" name=""/>
            <p:cNvSpPr/>
            <p:nvPr/>
          </p:nvSpPr>
          <p:spPr>
            <a:xfrm>
              <a:off x="2362320" y="5486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600200" y="5486400"/>
              <a:ext cx="685800" cy="304920"/>
              <a:chOff x="1600200" y="5486400"/>
              <a:chExt cx="685800" cy="304920"/>
            </a:xfrm>
          </p:grpSpPr>
          <p:sp>
            <p:nvSpPr>
              <p:cNvPr id="456" name=""/>
              <p:cNvSpPr/>
              <p:nvPr/>
            </p:nvSpPr>
            <p:spPr>
              <a:xfrm>
                <a:off x="1600200" y="548640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81080" y="54864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28600" y="4952880"/>
            <a:ext cx="1219320" cy="1523880"/>
            <a:chOff x="228600" y="4952880"/>
            <a:chExt cx="1219320" cy="1523880"/>
          </a:xfrm>
        </p:grpSpPr>
        <p:grpSp>
          <p:nvGrpSpPr>
            <p:cNvPr id="459" name=""/>
            <p:cNvGrpSpPr/>
            <p:nvPr/>
          </p:nvGrpSpPr>
          <p:grpSpPr>
            <a:xfrm>
              <a:off x="228600" y="5715000"/>
              <a:ext cx="990360" cy="761760"/>
              <a:chOff x="228600" y="5715000"/>
              <a:chExt cx="990360" cy="761760"/>
            </a:xfrm>
          </p:grpSpPr>
          <p:sp>
            <p:nvSpPr>
              <p:cNvPr id="460" name=""/>
              <p:cNvSpPr/>
              <p:nvPr/>
            </p:nvSpPr>
            <p:spPr>
              <a:xfrm>
                <a:off x="228600" y="5715000"/>
                <a:ext cx="990360" cy="76176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0" y="0"/>
                    </a:moveTo>
                    <a:lnTo>
                      <a:pt x="528" y="0"/>
                    </a:lnTo>
                    <a:lnTo>
                      <a:pt x="384" y="192"/>
                    </a:lnTo>
                    <a:lnTo>
                      <a:pt x="528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7840" y="5715000"/>
                <a:ext cx="590760" cy="761760"/>
              </a:xfrm>
              <a:custGeom>
                <a:avLst/>
                <a:gdLst/>
                <a:ahLst/>
                <a:rect l="l" t="t" r="r" b="b"/>
                <a:pathLst>
                  <a:path w="315" h="336">
                    <a:moveTo>
                      <a:pt x="0" y="0"/>
                    </a:moveTo>
                    <a:lnTo>
                      <a:pt x="315" y="0"/>
                    </a:lnTo>
                    <a:lnTo>
                      <a:pt x="171" y="192"/>
                    </a:lnTo>
                    <a:lnTo>
                      <a:pt x="315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28600" y="4952880"/>
              <a:ext cx="990720" cy="685800"/>
              <a:chOff x="228600" y="4952880"/>
              <a:chExt cx="990720" cy="685800"/>
            </a:xfrm>
          </p:grpSpPr>
          <p:sp>
            <p:nvSpPr>
              <p:cNvPr id="463" name=""/>
              <p:cNvSpPr/>
              <p:nvPr/>
            </p:nvSpPr>
            <p:spPr>
              <a:xfrm>
                <a:off x="228600" y="4952880"/>
                <a:ext cx="990720" cy="6858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8600" y="512424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6280" y="4952880"/>
                <a:ext cx="24732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6280" y="5295600"/>
                <a:ext cx="24732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3600" y="512424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71280" y="495288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71280" y="529560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600" y="546696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8600" y="5466960"/>
                <a:ext cx="24768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144792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743200" y="5029200"/>
            <a:ext cx="7621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28600" y="2361960"/>
            <a:ext cx="3581280" cy="686160"/>
            <a:chOff x="228600" y="2361960"/>
            <a:chExt cx="3581280" cy="686160"/>
          </a:xfrm>
        </p:grpSpPr>
        <p:grpSp>
          <p:nvGrpSpPr>
            <p:cNvPr id="475" name=""/>
            <p:cNvGrpSpPr/>
            <p:nvPr/>
          </p:nvGrpSpPr>
          <p:grpSpPr>
            <a:xfrm>
              <a:off x="3352680" y="2361960"/>
              <a:ext cx="457200" cy="609480"/>
              <a:chOff x="3352680" y="2361960"/>
              <a:chExt cx="457200" cy="609480"/>
            </a:xfrm>
          </p:grpSpPr>
          <p:sp>
            <p:nvSpPr>
              <p:cNvPr id="476" name=""/>
              <p:cNvSpPr/>
              <p:nvPr/>
            </p:nvSpPr>
            <p:spPr>
              <a:xfrm flipV="1">
                <a:off x="3352680" y="23619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05320" y="259092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228600" y="2362320"/>
              <a:ext cx="24382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590920" y="2362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550-54A7-4B28-ACCC-D8C639E8C5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••••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lassenflagge••••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8120" y="1600200"/>
            <a:ext cx="28954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 einer anderen Flag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81080"/>
            <a:ext cx="2469240" cy="914400"/>
            <a:chOff x="380880" y="1981080"/>
            <a:chExt cx="2469240" cy="914400"/>
          </a:xfrm>
        </p:grpSpPr>
        <p:sp>
          <p:nvSpPr>
            <p:cNvPr id="483" name=""/>
            <p:cNvSpPr/>
            <p:nvPr/>
          </p:nvSpPr>
          <p:spPr>
            <a:xfrm>
              <a:off x="380880" y="198108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920" y="198108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assen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ag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124080" y="2666880"/>
            <a:ext cx="5257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s Signal gilt nur für diese K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80880" y="990720"/>
            <a:ext cx="1143000" cy="838080"/>
            <a:chOff x="380880" y="990720"/>
            <a:chExt cx="1143000" cy="838080"/>
          </a:xfrm>
        </p:grpSpPr>
        <p:sp>
          <p:nvSpPr>
            <p:cNvPr id="487" name=""/>
            <p:cNvSpPr/>
            <p:nvPr/>
          </p:nvSpPr>
          <p:spPr>
            <a:xfrm>
              <a:off x="380880" y="990720"/>
              <a:ext cx="1143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" y="1219320"/>
              <a:ext cx="533520" cy="3808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3581280" y="3886200"/>
            <a:ext cx="3441960" cy="891000"/>
          </a:xfrm>
          <a:prstGeom prst="wedgeRoundRectCallout">
            <a:avLst>
              <a:gd name="adj1" fmla="val -22143"/>
              <a:gd name="adj2" fmla="val -144907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ttfahrtsignale Vorsp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inckh-Gilch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2CC-3255-4E96-9D56-92371D3BD7C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02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3:44:08Z</dcterms:created>
  <dc:creator>H. Finckh</dc:creator>
  <dc:description/>
  <dc:language>en-US</dc:language>
  <cp:lastModifiedBy>Ulrich Finckh</cp:lastModifiedBy>
  <dcterms:modified xsi:type="dcterms:W3CDTF">2000-11-05T21:05:19Z</dcterms:modified>
  <cp:revision>27</cp:revision>
  <dc:subject/>
  <dc:title>Kein Folientitel</dc:title>
</cp:coreProperties>
</file>